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2EA-4D41-4066-80CB-CF7EBF63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9CC-02AD-4062-AF3C-FB51BB87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EAE-4989-4F83-B237-7C6DB228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5990-F242-4569-9ADC-8BBC6583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183-79B7-4468-AF25-63E134AD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FF3-7C15-46C2-8441-1C57DFA3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B21C-F8BB-47F2-938A-D9243711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5B7-FB5D-4297-843B-20332F85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024-66F8-4CB9-B359-0D839EF6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79F-F25F-484B-8BFD-9BA2B981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BF6-BB4B-49E2-AB63-0B071FE8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19A-36DF-42B4-BDBE-143B1FE7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017C-E734-4CF8-BD0E-3790A87B0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143000"/>
            <a:ext cx="76723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активн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2571840"/>
            <a:ext cx="6589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ервобытный м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6281640" y="46735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http://www.petrichenko.info/files/Kirilovskaya_Stoyanka%201.jpg"/>
          <p:cNvPicPr/>
          <p:nvPr/>
        </p:nvPicPr>
        <p:blipFill>
          <a:blip r:embed="rId1"/>
          <a:stretch/>
        </p:blipFill>
        <p:spPr>
          <a:xfrm>
            <a:off x="1357200" y="3643200"/>
            <a:ext cx="4762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571400"/>
            <a:ext cx="7904160" cy="19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Что использовали первобытные люди при охоте на мамонт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http://world-geographic.com/wp-content/uploads/2010/12/lyudy-i-mamonty.jpg"/>
          <p:cNvPicPr/>
          <p:nvPr/>
        </p:nvPicPr>
        <p:blipFill>
          <a:blip r:embed="rId1"/>
          <a:stretch/>
        </p:blipFill>
        <p:spPr>
          <a:xfrm>
            <a:off x="357120" y="3409920"/>
            <a:ext cx="25718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7200" y="1771200"/>
            <a:ext cx="7929720" cy="27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Для чего строили первобытные люди жилища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http://mindhobby.com/images/6/ancient/7.jpg"/>
          <p:cNvPicPr/>
          <p:nvPr/>
        </p:nvPicPr>
        <p:blipFill>
          <a:blip r:embed="rId1"/>
          <a:stretch/>
        </p:blipFill>
        <p:spPr>
          <a:xfrm>
            <a:off x="2500200" y="4214880"/>
            <a:ext cx="38102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7160" y="1703160"/>
            <a:ext cx="5624640" cy="30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 называется период в истории, когда произошло глобальное похолод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2040" y="1703160"/>
            <a:ext cx="6605640" cy="33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ми красками пользовались древние люди при изображении наскальных рисунк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http://900igr.net/datai/biologija/Pervobytnoe-obschestvo/0049-044-Pozdnee-primerno-s-XVIII-i-po-XV-tysjacheletie-do-n.-e.-pervobytnye.jpg"/>
          <p:cNvPicPr/>
          <p:nvPr/>
        </p:nvPicPr>
        <p:blipFill>
          <a:blip r:embed="rId1"/>
          <a:stretch/>
        </p:blipFill>
        <p:spPr>
          <a:xfrm>
            <a:off x="1643040" y="4214880"/>
            <a:ext cx="37339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47560" y="2071440"/>
            <a:ext cx="7453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Охота и собирательство стали основой для других занятий. Назовите и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http://900igr.net/datas/anglijskij-jazyk/Stonehenge/0011-011-Stonehenge.jpg"/>
          <p:cNvPicPr/>
          <p:nvPr/>
        </p:nvPicPr>
        <p:blipFill>
          <a:blip r:embed="rId1"/>
          <a:stretch/>
        </p:blipFill>
        <p:spPr>
          <a:xfrm>
            <a:off x="500040" y="3857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http://fuza.ru/uploads/posts/2011-08/1314813277_1-photo.jpg"/>
          <p:cNvPicPr/>
          <p:nvPr/>
        </p:nvPicPr>
        <p:blipFill>
          <a:blip r:embed="rId2"/>
          <a:stretch/>
        </p:blipFill>
        <p:spPr>
          <a:xfrm>
            <a:off x="4786200" y="3786120"/>
            <a:ext cx="34290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42960" y="1846440"/>
            <a:ext cx="6146640" cy="25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лагодаря кому мы узнали о первобытных люд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http://ddatu.ru/images/news/15%20avgusta%20Den'%20arheologa.jpg"/>
          <p:cNvPicPr/>
          <p:nvPr/>
        </p:nvPicPr>
        <p:blipFill>
          <a:blip r:embed="rId1"/>
          <a:stretch/>
        </p:blipFill>
        <p:spPr>
          <a:xfrm>
            <a:off x="1000080" y="3071880"/>
            <a:ext cx="47624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99680"/>
            <a:ext cx="68184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3880" y="1856880"/>
            <a:ext cx="565956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ак получилось каменное руби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0" y="573408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rufact.org/media/static/i/slovary/wordsimgs/bres/rubilo.jpg"/>
          <p:cNvPicPr/>
          <p:nvPr/>
        </p:nvPicPr>
        <p:blipFill>
          <a:blip r:embed="rId1"/>
          <a:stretch/>
        </p:blipFill>
        <p:spPr>
          <a:xfrm>
            <a:off x="5143680" y="2643120"/>
            <a:ext cx="37670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Спасибо за игру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85520" y="1357200"/>
            <a:ext cx="77612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Где и когда появились древние люд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://xn----8sbebhgbsfcbaca4bza2c4gh.xn--p1ai/Ancient-civilizations/2-002-12-3.jpg"/>
          <p:cNvPicPr/>
          <p:nvPr/>
        </p:nvPicPr>
        <p:blipFill>
          <a:blip r:embed="rId1"/>
          <a:stretch/>
        </p:blipFill>
        <p:spPr>
          <a:xfrm>
            <a:off x="714240" y="2714760"/>
            <a:ext cx="68677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703520"/>
            <a:ext cx="783576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чем древние люди рисовали на стенах пещер пораженных копьем животны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http://espanolsinfronteras.com/im%E1genes/El%20arte%20y%20la%20historia%2006%20-%20Rupestre%20-%20Mamut.JPG"/>
          <p:cNvPicPr/>
          <p:nvPr/>
        </p:nvPicPr>
        <p:blipFill>
          <a:blip r:embed="rId1"/>
          <a:stretch/>
        </p:blipFill>
        <p:spPr>
          <a:xfrm>
            <a:off x="4357800" y="371484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7200" y="1635120"/>
            <a:ext cx="779652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Назовите первые орудия труда первобытного челове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http://sbiblio.com/BIBLIO/archive/shuhardin_tehnika/images/01_clip_image001.jpg"/>
          <p:cNvPicPr/>
          <p:nvPr/>
        </p:nvPicPr>
        <p:blipFill>
          <a:blip r:embed="rId1"/>
          <a:stretch/>
        </p:blipFill>
        <p:spPr>
          <a:xfrm>
            <a:off x="2214720" y="3643200"/>
            <a:ext cx="4113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70722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 называется период в истории, когда появился древний челов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http://www.grekomania.ru/images/pageinfo/greek-history/10_pewera-petralona.jpg"/>
          <p:cNvPicPr/>
          <p:nvPr/>
        </p:nvPicPr>
        <p:blipFill>
          <a:blip r:embed="rId1"/>
          <a:stretch/>
        </p:blipFill>
        <p:spPr>
          <a:xfrm>
            <a:off x="2286000" y="3500280"/>
            <a:ext cx="3929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0280" y="364680"/>
            <a:ext cx="795492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гроте во время археологических раскопок было найдено 339 каменных орудий и свыше 10000 обломков костей животных. Из общего количества костей удалось установить принадлежность 948. Из них лошади -2, медведя-2, горного козла- 767, леопарда -1. Определите главное занятие обитателей грот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99680"/>
            <a:ext cx="68184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771552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вобытные люди  обладали  определенными знаниями об окружающем мире, но многое было для них таинственным и пугающим, назовите чего они бояли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573408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99680"/>
            <a:ext cx="68184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схватке с крупными животными копьё было могучим оружием. Однако, в конце ледникового времени мамонты вымерли. Люди стали чаще охотиться на мелких и быстро бегающих животных. Необходимо было новое оруж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5880" y="1785600"/>
            <a:ext cx="71438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азовите каких животных чаще рисовали первобытные люд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Наскальные рисунки"/>
          <p:cNvPicPr/>
          <p:nvPr/>
        </p:nvPicPr>
        <p:blipFill>
          <a:blip r:embed="rId1"/>
          <a:stretch/>
        </p:blipFill>
        <p:spPr>
          <a:xfrm>
            <a:off x="1214280" y="3411360"/>
            <a:ext cx="4357800" cy="31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0:07:39Z</dcterms:created>
  <dc:creator>ИГОРЕВИЧ</dc:creator>
  <dc:description/>
  <dc:language>en-US</dc:language>
  <cp:lastModifiedBy>СВЕТА</cp:lastModifiedBy>
  <dcterms:modified xsi:type="dcterms:W3CDTF">2015-02-17T14:58:24Z</dcterms:modified>
  <cp:revision>203</cp:revision>
  <dc:subject/>
  <dc:title>«ТВОЯ ИГР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