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55C-A736-4A95-B375-D0A5DF9C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6F0-4DD9-456F-8C48-1AC47D05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BCD-0369-45A1-B2EF-9CC0C8DC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459-A370-4230-9E05-22E51AE0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6270-C26C-4AC9-9330-5640B200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8C9-5DFA-4E99-853E-FFC290C9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ECC6-94BB-44BF-BEE7-84BF0B98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5EB3-AC03-4CD5-BDDC-E931F31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F121-88E7-4BB3-9A67-E2EF337E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71FC-104B-4BF0-BF19-6AE9266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101F-2436-4A94-B459-8A0FB1D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CA5-40F1-4A6F-94ED-EC9A97F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5E58-C5E3-43BA-8883-013EA74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1F0A-1A98-411B-A5EB-EFEC57A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A82-D86C-49A5-830C-4249F4B8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44C6-C370-4A1B-BA68-BA8D2009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FC01-EC6F-42AF-8690-301AC22C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FB70-D3BA-4A27-A091-AD8A128A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06BC-6CBD-4FB2-BDE2-223ED36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5C7F-555C-45FC-9F1C-C94934A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0784-8A6D-481C-A3DD-81F9E89F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1369-F24D-48B2-8246-ED2C1A0D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EDE-8C6D-47E1-ADCF-D6E5AE5D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73E6-D911-47B3-B4C8-F6D97D03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F709-3EBE-406D-87CF-4D4B3C9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96E8-214C-40FF-ACEB-3CEA5D7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464D-E217-4648-91BC-E151322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84E5-299F-4357-8D3B-8C6B0F9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8711-8DCC-47DF-8C6B-CC6348B4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0BB4-1349-451E-8187-F0A4B60E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606A-BDEC-43CD-B903-1A45D71A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6FC3-9932-4817-B64F-5C35BC9F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0CF2-7773-4BE2-A87C-242D6CC7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34C-7DB0-4282-AC4A-67F11912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D181-6351-44C2-A187-17F1EAE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592B-4189-4619-B39A-DBE504F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DE94-0CE3-4B3A-881D-50CA5EE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43EF-27D2-4FE3-9481-D211C561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27ADB-0E7C-44EF-9B25-BBEFE69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ED19-6020-430F-8B7F-66F8E577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4AFC7-602E-4F25-B5A4-6B11640B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DE96-44EE-4F5A-ABF5-DB283F20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58FB-B903-4A69-9CAB-7F1038AA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E23-A0F9-44E1-9CC2-13496540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F4C-7B60-4827-B47F-D76B23B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F32-6D0B-4187-8C49-3D43D6E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13B-20B3-4DF6-B700-BF70247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917-46FD-4F79-B36E-B8196BA5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6AF-F9BF-49D9-A80B-8EB1D332A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2119-D217-447D-B3E5-776818485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CEF4-7042-422D-9FC3-8B1A4094F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2CD1-F17C-41C2-A55D-9AA3B00E7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7772400" cy="147024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Корни – омоним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-304920" y="139680"/>
            <a:ext cx="91202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1547640" y="334800"/>
            <a:ext cx="378000" cy="9208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611280" y="476280"/>
            <a:ext cx="7208640" cy="5579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Arial"/>
              </a:rPr>
              <a:t>Кто быстре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Arial"/>
              </a:rPr>
              <a:t>Пар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Arial"/>
              </a:rPr>
              <a:t>Пара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Arial"/>
              </a:rPr>
              <a:t>Пороть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~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одберите однокор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0:14:36Z</dcterms:created>
  <dc:creator>Admin</dc:creator>
  <dc:description/>
  <dc:language>en-US</dc:language>
  <cp:lastModifiedBy>Ратмир</cp:lastModifiedBy>
  <dcterms:modified xsi:type="dcterms:W3CDTF">2012-11-08T20:01:48Z</dcterms:modified>
  <cp:revision>19</cp:revision>
  <dc:subject/>
  <dc:title>Слайд 1</dc:title>
</cp:coreProperties>
</file>