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3A0-3D7E-4DDA-B6AF-129CD499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CF5-4CEE-4A0F-8525-6410F4EB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D8869-9CAF-469F-B360-751C05F2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ACF3C-7A80-485C-8842-1A357945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7145C-F947-4D5B-9961-59A1466E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04EA4-CEE1-47FE-B089-721AC3ED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637B0-7467-4A76-BB23-1969870D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DFC09-FA43-497E-8A05-511AAC8C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02B53-9F51-4F48-9F13-5070FCF5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9D16E-B108-4853-82B9-F3ED0F52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446B4-AE92-48CB-B027-FB509204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613B4-1540-490C-8DB1-4976503B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A05-679B-4F07-BBD2-DC4921BC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882AF-9F40-484C-8743-C3315779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DBA79-D613-41DE-9E23-D7040791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5329E-F6B6-4044-A24B-DEFB3E27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C9FA0-600F-411F-BF2C-732645E6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AC537-3880-48B3-9EAD-CEA48151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18636-956F-4234-9913-23E4B37A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9865B-F870-4518-A9DE-E14C6726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C6377-79B9-4BE0-82F7-5C3B93D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C31D3-140B-41B4-ABFB-1C454F40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53D14-803E-4FEB-8FEA-F80B6FBF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1D2-F1F7-46DA-8471-E4E7156C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0C7FE-A3BE-4597-A7D9-D3A9C072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CF322-01D8-45BA-A230-1E2EBE3D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B5A9F-A368-436B-8A40-CD12AFF6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DC947-A43A-459E-9FD9-5353A6B5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DF3A1-6EBD-4E36-98FC-80071145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2D4AB-07C6-4B5F-A8EF-658FE1FE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05CD3-3695-45D9-94DF-35A04A38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2FBD0-6822-4895-9190-83B1A501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C8435-E25D-46C2-A06E-F6251003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8771F-D027-4EE4-8705-527E9653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57B5-A61D-45ED-928A-21797C8B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163CD-F940-4BDC-8FF1-62E933AA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A98BA-2C3C-43E4-89F9-E2741765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D1ABB-D0CB-469E-B4D9-2B1EAD0D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1445A-4850-4B6B-828E-B63338EA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50AC0-668F-4418-9293-639A3527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5B7E7-26EE-467F-80BA-E788DC14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FBED2-8EB7-43FB-B222-7E45AE36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49C50-EF04-481D-A256-A5C881EB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5DED4-5665-4962-81FC-00721A37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5C43B-B930-4D2C-9444-4677380F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40AC-826A-4321-A300-B4E0F11E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84AA4-E395-4912-BDF6-AF8AFCFC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88C94-25F3-4AC4-B740-AFF83E17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F2450-0E8D-4DB7-950B-789ECBFA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4A73F-0403-4049-9C1D-14B10E54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45A19-F586-41D7-BA02-D30A79F0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1981-1E88-4A66-847A-8FC17FCB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40CC-E29F-449F-87F4-7CA5C656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693B-72B6-4CCD-9052-2CE28A84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C38D-5529-44FF-8EE4-EB8868E2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6CE1-B985-4178-9411-3EA486C1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487-E955-4517-9D58-4DB08384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EA64-3D5F-48FE-9E04-01400D0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B6B0-9251-4D73-92DB-B8E2C92B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1652-2695-43B2-A8FF-D4C5F0CC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3D42-E093-43E7-AE7B-35962A97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A736-86C0-410E-BC1A-A7BEC4F3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0EE7-B03E-4424-8038-3BA658B1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AC15-8BE3-4A2A-8191-AEECF877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37A8-DBEA-40DA-AF8F-4D3C6B83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33EE-8B7D-452D-AF15-E0A928B0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4368-23B2-4B01-92D3-397DB0AB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640-AF46-4462-B7AA-32FAFCFC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DE4A-E3CE-40FA-B406-8D4B20D1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D34D-3D2E-4C76-B804-70FF40C9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C99F-0ECB-439C-B63A-BCFC6981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EF79-36D7-4712-B8E0-AD8A8F6B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9DFA3-9E0B-462F-9C01-B3F04429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A38B-62F2-40B3-A605-69CDE2A7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C265-A925-487D-B20C-FF2F276C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E65E1-9799-4250-9E73-24C49746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B56AC-0313-425E-8FD0-D0D2A359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1FA3-D62B-43E0-906A-52AA2CA4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2E8-93B0-4895-97D7-824A2189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D5822-295B-4BE3-B55F-07BA48D8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D4C7-CB08-499E-A34B-3581AA54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ED990-7784-41D9-8149-3A341662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AAD1F-1D81-4CEB-910B-C829B0DB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C74F0-C45A-4AA2-B2D1-8605A2B4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DD59B-EF9B-4574-94AF-77A11872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D25F1-A7BC-4C73-A250-1AE5F298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B351-26C9-4A6B-89D0-19D227A4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1234B-E8F1-4ECC-96E2-9631C403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E3119-2262-4508-8B21-32431C2F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15B-FF11-46AF-B654-BA5C2FA1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B7D8F-6E02-4246-A3D5-D922F501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08FDD-23DE-4F32-9B80-1B06EB0B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FAAF7-7D66-4DB8-94AD-A44754CD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DA0CD-722E-4ADF-B248-1BD234D8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CF057-ECA4-41F3-B4A2-F197E6A3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C3B35-A42E-4347-89B4-1DC3AF0E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3797-53B3-458D-9BE9-E343B2AF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C17B4-2F9B-4187-8762-47322384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AA9D6-6737-4D91-91F4-B1098923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9B4BE-F762-4C1C-8905-3330967C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8EA-4C1B-4681-9DB8-39FBA090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44323-69B0-49AE-A610-7508AEFF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AEAC7-3A4A-40BC-B000-0F86C88F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97F0D-A9E7-42B2-A174-53A7884D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864ED-4BAD-4654-A1AF-7488DC43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0E7AA-CA58-420B-A2A3-CF42A804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96F70-8A07-44EF-B629-AE0CA4C3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82EAA-FC20-4F8E-B852-F73B9A47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51E02-93B9-4A41-8641-663177DE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61D79-4CC3-4609-A1DC-DBCF8C3A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CE3FA-BB36-41CE-8FB0-4293B30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833-606F-41BC-B9A6-AD1D3B3F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515F1-AEA7-4E05-B18D-57407800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87037-346B-422B-AFD9-F4A374A7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02B90-69F0-4BB8-84E4-679D55E5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20565-14FA-42E7-B57D-167FEEAE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F6A80-C0C7-4926-9B99-069A7643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D8E90-C9EF-4B5A-AF8A-47E16907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E66DF-AAB8-41EA-A6CC-165A9211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A8D98-BE5C-4D36-900D-D2294E0A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1BF93-A0E5-4B99-92B3-5008CBAE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E5D26-F770-48E5-BFEC-4C484A2A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5A9-BE31-48C8-9F84-6E4DAE7D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DD6DA-947E-44F8-95C5-F1E7E22E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643A2-FD2C-4D27-B620-A47E7293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A9B2F-B483-42E4-A6BE-5694D0A0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E8AB0-ED83-4649-97AA-ACD1834D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74741-69E0-4419-9995-23B26D64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5AFBB-B709-410A-879F-B95785A1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1D7CE-66D2-4132-BB2F-8C77D41D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BED26-69B8-4461-A571-49B09B3A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0C074-C910-4EE5-A56B-EE4FD66C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07768-F802-4E38-BFA8-97EA36F2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C0E-9305-497E-BCD0-C3A2C4C2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B2F08-E336-45CF-9DED-ED79AB69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98484-97DE-4B23-A647-0D7797B0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75CA4-D58D-4ADB-9910-501735D7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07AFE-B466-48A4-B8C4-5128190C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2D344-F36B-4718-811C-07DFEDEE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267FC-F24A-4E66-8145-50421A04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5C534-9A9A-40E9-BE8E-B3FBF628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83AAC-3483-435E-A6D9-44AE340A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7911C-1096-4309-96A6-38162A0D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C9C32-29E5-41F6-A46F-233F4068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22CE-A5DF-4AE0-B447-3BD7D34967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ACD0-9419-4EED-8E95-7CCDD87F06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4E46-3D9A-448E-AADD-74A15D105F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C52E-FF0B-4B5F-A63F-176F706B9F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2788-D0D8-43BC-B108-0014CCE159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F23D-AB61-43BB-80C1-CF69190D9B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B447-DFCA-47D5-B980-739609F020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957A-33DE-47D9-842A-E9555B86C6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E86F-DF42-4AB9-BEB8-CE947D6527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1FDD-4C2B-4398-B069-CF7FCDF162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4680-4E99-4F75-8B32-F0FA81A98F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2F13-5F8A-427B-AA6C-E4A49E7B35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Родительское собрание на тему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990360" y="2514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Возрастные особенности девятиклассник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Picture 6" descr="http://pereslavskaya.ucoz.ru/1191269140_c4121.jpg"/>
          <p:cNvPicPr/>
          <p:nvPr/>
        </p:nvPicPr>
        <p:blipFill>
          <a:blip r:embed="rId1"/>
          <a:srcRect l="0" t="0" r="0" b="14004"/>
          <a:stretch/>
        </p:blipFill>
        <p:spPr>
          <a:xfrm>
            <a:off x="533520" y="3505320"/>
            <a:ext cx="1523880" cy="2340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http://dtc-academy.ru/wp-content/uploads/2012/01/schollboy_big.jpg"/>
          <p:cNvPicPr/>
          <p:nvPr/>
        </p:nvPicPr>
        <p:blipFill>
          <a:blip r:embed="rId2"/>
          <a:stretch/>
        </p:blipFill>
        <p:spPr>
          <a:xfrm>
            <a:off x="6705720" y="4038480"/>
            <a:ext cx="19810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План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Вступление.                                                 Тест для родителей «Знаете ли вы подростковую психологию?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Возрастные особенности девятиклассни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роблемные ситуации для родите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Результаты исследования «Знаете ли вы подростковую психологию?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Анкета «Обратная связь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Заключ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«Не думайте, что вы воспитываете ребёнка только тогда, когда с ним разговариваете, или поучаете его, или приказываете ему.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Вы воспитываете его в каждый момент вашей жизни, даже тогда, когда вас нет дома».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                           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А.С.Макаренко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457200" y="4686480"/>
            <a:ext cx="8458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12"/>
          <p:cNvSpPr/>
          <p:nvPr/>
        </p:nvSpPr>
        <p:spPr>
          <a:xfrm rot="21178800">
            <a:off x="1447920" y="4876920"/>
            <a:ext cx="629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озраст от 15 до 18 лет –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период ранней юност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13" descr="DSC00111"/>
          <p:cNvPicPr/>
          <p:nvPr/>
        </p:nvPicPr>
        <p:blipFill>
          <a:blip r:embed="rId1"/>
          <a:stretch/>
        </p:blipFill>
        <p:spPr>
          <a:xfrm>
            <a:off x="1828800" y="304920"/>
            <a:ext cx="56386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"/>
          <p:cNvSpPr/>
          <p:nvPr/>
        </p:nvSpPr>
        <p:spPr>
          <a:xfrm>
            <a:off x="616320" y="152280"/>
            <a:ext cx="79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сихологические особенности в ранней юност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- Гармонизируется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физическое и психическое развитие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0" y="1295280"/>
            <a:ext cx="852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- Формируется личностная идентичность, открытие  </a:t>
            </a:r>
            <a:br>
              <a:rPr sz="2800"/>
            </a:b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     собственного «Я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304920" y="2057400"/>
            <a:ext cx="631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- Развивается рефлексия, самосознани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309600" y="2514600"/>
            <a:ext cx="7732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- Укрепляются и совершенствуются процесс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умственного развития. Мышление приобрета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личностный, эмоциональный характе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191880" y="4267080"/>
            <a:ext cx="896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«Интеллектуальная деятельность здесь приобретает особую     </a:t>
            </a: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 аффективную окраску, связанную с самоопределением старшего </a:t>
            </a: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 школьника и его стремлением к выработке своего мировоззрения. </a:t>
            </a: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 Именно это аффективное стремление создает своеобразие </a:t>
            </a: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 мышления в старшем школьном возрасте».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                        Л.И. Божов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5"/>
          <p:cNvSpPr/>
          <p:nvPr/>
        </p:nvSpPr>
        <p:spPr>
          <a:xfrm>
            <a:off x="616320" y="152280"/>
            <a:ext cx="79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сихологические особенности в ранней юност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232560" y="1066680"/>
            <a:ext cx="61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- Самосознание устремлено в будуще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234000" y="1676520"/>
            <a:ext cx="8288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- Становление мировоззрения, возникает устойчив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система ценнос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0" y="2666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- Развивается эмоциональная сфе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152280" y="32004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- Улучшается коммуникативность, появляет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самостоятельность, уравновешенность, самоконтро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228600" y="4267080"/>
            <a:ext cx="849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eec9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Общение со сверстниками. Поиск своего «Я», друга,      объекта любв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234000" y="5181480"/>
            <a:ext cx="70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- Меняются взаимоотношения со взрослы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4680" y="5715000"/>
            <a:ext cx="63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- Профессиональное самоопредел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Помните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           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что каждый подросток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несёт в себе огромную мудрость,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постарайтесь познать эту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мудрость и использовать её дл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взаимного духовного роста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50"/>
                            </p:stCondLst>
                            <p:childTnLst>
                              <p:par>
                                <p:cTn id="1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200"/>
                            </p:stCondLst>
                            <p:childTnLst>
                              <p:par>
                                <p:cTn id="1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5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3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</a:rPr>
              <a:t>Спасибо за работу!</a:t>
            </a:r>
            <a:br>
              <a:rPr sz="7200"/>
            </a:br>
            <a:br>
              <a:rPr sz="7200"/>
            </a:br>
            <a:r>
              <a:rPr b="1" i="1" lang="ru-RU" sz="7200" spc="-1" strike="noStrike">
                <a:solidFill>
                  <a:srgbClr val="002060"/>
                </a:solidFill>
                <a:latin typeface="Times New Roman"/>
              </a:rPr>
              <a:t>До новой встречи!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ня</cp:lastModifiedBy>
  <dcterms:modified xsi:type="dcterms:W3CDTF">2012-10-28T17:10:1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