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6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4.png" ContentType="image/png"/>
  <Override PartName="/ppt/media/image36.jpeg" ContentType="image/jpeg"/>
  <Override PartName="/ppt/media/image11.jpeg" ContentType="image/jpeg"/>
  <Override PartName="/ppt/media/image37.gif" ContentType="image/gif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46C-7F2A-4F82-B634-56ECFA33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50A-6F20-4CF4-B31D-335D42D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AC2-5B5E-435A-9EEE-6658695B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427-2DCA-40EF-9FFE-C51BC282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CBE-B7FA-4DB1-AFCF-7CE931B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470-5AA6-4F6B-AE50-99CABD79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D93-2302-469D-A93A-F689191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8DD-3098-4A2D-B2D9-AB91728C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1D7-4506-4411-B982-90E176E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E31-43C6-412A-B248-57F0D8A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6DD-E125-4186-83FC-8A4B4C35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3FE-B3A8-4281-9C4C-EB8F075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065-2B13-4523-8402-68C48C948D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go.mail.ru/search_images?q" TargetMode="External"/><Relationship Id="rId3" Type="http://schemas.openxmlformats.org/officeDocument/2006/relationships/hyperlink" Target="http://go.mail.ru/search_images?q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Конкурс презентаци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775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Шекспир «Ромео и Джульетт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зур Зинаид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СОШ №31» п. Вос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квалификационная катег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anik-Na-pianino-melodi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w_juliet"/>
          <p:cNvPicPr/>
          <p:nvPr/>
        </p:nvPicPr>
        <p:blipFill>
          <a:blip r:embed="rId1"/>
          <a:stretch/>
        </p:blipFill>
        <p:spPr>
          <a:xfrm>
            <a:off x="1908000" y="0"/>
            <a:ext cx="4562640" cy="6667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1" name="Picture 12" descr="calderon"/>
          <p:cNvPicPr/>
          <p:nvPr/>
        </p:nvPicPr>
        <p:blipFill>
          <a:blip r:embed="rId2"/>
          <a:stretch/>
        </p:blipFill>
        <p:spPr>
          <a:xfrm>
            <a:off x="179280" y="476280"/>
            <a:ext cx="2143080" cy="2857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2" name="Picture 13" descr="shmarinov"/>
          <p:cNvPicPr/>
          <p:nvPr/>
        </p:nvPicPr>
        <p:blipFill>
          <a:blip r:embed="rId3"/>
          <a:stretch/>
        </p:blipFill>
        <p:spPr>
          <a:xfrm>
            <a:off x="5796000" y="2565360"/>
            <a:ext cx="3213000" cy="381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14"/>
          <p:cNvSpPr/>
          <p:nvPr/>
        </p:nvSpPr>
        <p:spPr>
          <a:xfrm>
            <a:off x="5867280" y="496800"/>
            <a:ext cx="295272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жульет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8" descr="3725"/>
          <p:cNvPicPr/>
          <p:nvPr/>
        </p:nvPicPr>
        <p:blipFill>
          <a:blip r:embed="rId4"/>
          <a:stretch/>
        </p:blipFill>
        <p:spPr>
          <a:xfrm rot="13468800">
            <a:off x="-599760" y="3898440"/>
            <a:ext cx="54007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Шмаринов3"/>
          <p:cNvPicPr/>
          <p:nvPr/>
        </p:nvPicPr>
        <p:blipFill>
          <a:blip r:embed="rId1"/>
          <a:stretch/>
        </p:blipFill>
        <p:spPr>
          <a:xfrm>
            <a:off x="179280" y="189000"/>
            <a:ext cx="3513240" cy="394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Picture 5" descr="Шмаринов"/>
          <p:cNvPicPr/>
          <p:nvPr/>
        </p:nvPicPr>
        <p:blipFill>
          <a:blip r:embed="rId2"/>
          <a:stretch/>
        </p:blipFill>
        <p:spPr>
          <a:xfrm>
            <a:off x="5292720" y="260280"/>
            <a:ext cx="33926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6" descr="dicksee"/>
          <p:cNvPicPr/>
          <p:nvPr/>
        </p:nvPicPr>
        <p:blipFill>
          <a:blip r:embed="rId3"/>
          <a:stretch/>
        </p:blipFill>
        <p:spPr>
          <a:xfrm>
            <a:off x="2987640" y="1773360"/>
            <a:ext cx="3352680" cy="495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8" name="Picture 9" descr="3763"/>
          <p:cNvPicPr/>
          <p:nvPr/>
        </p:nvPicPr>
        <p:blipFill>
          <a:blip r:embed="rId4"/>
          <a:stretch/>
        </p:blipFill>
        <p:spPr>
          <a:xfrm>
            <a:off x="307800" y="3716280"/>
            <a:ext cx="282924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2987640" y="352440"/>
            <a:ext cx="295272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ме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3736"/>
          <p:cNvPicPr/>
          <p:nvPr/>
        </p:nvPicPr>
        <p:blipFill>
          <a:blip r:embed="rId5"/>
          <a:stretch/>
        </p:blipFill>
        <p:spPr>
          <a:xfrm>
            <a:off x="6581880" y="3933720"/>
            <a:ext cx="213336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rjoka"/>
          <p:cNvPicPr/>
          <p:nvPr/>
        </p:nvPicPr>
        <p:blipFill>
          <a:blip r:embed="rId1"/>
          <a:stretch/>
        </p:blipFill>
        <p:spPr>
          <a:xfrm>
            <a:off x="324000" y="3573360"/>
            <a:ext cx="3966840" cy="3108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2" name="Picture 8" descr="vannutelli"/>
          <p:cNvPicPr/>
          <p:nvPr/>
        </p:nvPicPr>
        <p:blipFill>
          <a:blip r:embed="rId2"/>
          <a:stretch/>
        </p:blipFill>
        <p:spPr>
          <a:xfrm>
            <a:off x="0" y="0"/>
            <a:ext cx="6192720" cy="3502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3" name="Picture 10" descr="northcote"/>
          <p:cNvPicPr/>
          <p:nvPr/>
        </p:nvPicPr>
        <p:blipFill>
          <a:blip r:embed="rId3"/>
          <a:stretch/>
        </p:blipFill>
        <p:spPr>
          <a:xfrm>
            <a:off x="4643280" y="3284640"/>
            <a:ext cx="4138920" cy="3378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4" name="Text Box 11"/>
          <p:cNvSpPr/>
          <p:nvPr/>
        </p:nvSpPr>
        <p:spPr>
          <a:xfrm>
            <a:off x="3780000" y="208080"/>
            <a:ext cx="518472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И гибель их у гробовых две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адет конец непримиримой розни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2" descr="3803"/>
          <p:cNvPicPr/>
          <p:nvPr/>
        </p:nvPicPr>
        <p:blipFill>
          <a:blip r:embed="rId4"/>
          <a:stretch/>
        </p:blipFill>
        <p:spPr>
          <a:xfrm>
            <a:off x="6372360" y="1413000"/>
            <a:ext cx="255240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188640"/>
            <a:ext cx="854064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«Ромео и Джульетта» знаменует собой начало нового, шекспировского этапа в развитии английской и мировой литерату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Трагедия обретает масштабность, глуб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Шекспир, подобно многим гуманистам Возрождения, видел главный источник зла, мешающего победе новых отношений между людьми, в силах, ассоциирующихся со старыми норм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267920"/>
            <a:ext cx="8540640" cy="48308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BZ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go.mail.ru/search_images?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Е. Соловьева «Уроки литературы» 8 класс (методическое пособ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литературы Г.С. Мерк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 u="sng">
                <a:solidFill>
                  <a:srgbClr val="ffc000"/>
                </a:solidFill>
                <a:uFillTx/>
                <a:latin typeface="Arial"/>
              </a:rPr>
              <a:t>http://go.mail.ru/search_images?q=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Arial"/>
              </a:rPr>
              <a:t>анимашки р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333000"/>
            <a:ext cx="8540640" cy="583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Titanik-Na-pianino-melodi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1556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stella"/>
          <p:cNvPicPr/>
          <p:nvPr/>
        </p:nvPicPr>
        <p:blipFill>
          <a:blip r:embed="rId1"/>
          <a:stretch/>
        </p:blipFill>
        <p:spPr>
          <a:xfrm>
            <a:off x="179280" y="404640"/>
            <a:ext cx="4678560" cy="469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381"/>
          <p:cNvPicPr/>
          <p:nvPr/>
        </p:nvPicPr>
        <p:blipFill>
          <a:blip r:embed="rId2"/>
          <a:stretch/>
        </p:blipFill>
        <p:spPr>
          <a:xfrm>
            <a:off x="3276720" y="5445000"/>
            <a:ext cx="2950920" cy="141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381"/>
          <p:cNvPicPr/>
          <p:nvPr/>
        </p:nvPicPr>
        <p:blipFill>
          <a:blip r:embed="rId3"/>
          <a:stretch/>
        </p:blipFill>
        <p:spPr>
          <a:xfrm>
            <a:off x="5867280" y="5445000"/>
            <a:ext cx="3276720" cy="141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381"/>
          <p:cNvPicPr/>
          <p:nvPr/>
        </p:nvPicPr>
        <p:blipFill>
          <a:blip r:embed="rId4"/>
          <a:stretch/>
        </p:blipFill>
        <p:spPr>
          <a:xfrm>
            <a:off x="0" y="5445000"/>
            <a:ext cx="334800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Text Box 10" descr=""/>
          <p:cNvPicPr/>
          <p:nvPr/>
        </p:nvPicPr>
        <p:blipFill>
          <a:blip r:embed="rId5"/>
          <a:stretch/>
        </p:blipFill>
        <p:spPr>
          <a:xfrm>
            <a:off x="4913280" y="189000"/>
            <a:ext cx="4249800" cy="426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400"/>
          <p:cNvPicPr/>
          <p:nvPr/>
        </p:nvPicPr>
        <p:blipFill>
          <a:blip r:embed="rId6"/>
          <a:stretch/>
        </p:blipFill>
        <p:spPr>
          <a:xfrm>
            <a:off x="5076720" y="126828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Titanik-Na-pianino-melodi.mp3" descr=""/>
          <p:cNvPicPr/>
          <p:nvPr/>
        </p:nvPicPr>
        <p:blipFill>
          <a:blip r:embed="rId7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Titanik-Na-pianino-melodi.mp3" descr=""/>
          <p:cNvPicPr/>
          <p:nvPr/>
        </p:nvPicPr>
        <p:blipFill>
          <a:blip r:embed="rId8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556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267920"/>
            <a:ext cx="8540640" cy="5040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ыявление проблематики трагедии У. Шекспира, художественной идеи трагедии, проявляющейся в утверждении идеалов эпохи Возрож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Формирование нравственно-эстетических представ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бразе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340000" y="2152800"/>
            <a:ext cx="50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Нет повести печальнее на свет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чем повесть о Роме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и Джульетте!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. Шексп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594 – 1595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3701"/>
          <p:cNvPicPr/>
          <p:nvPr/>
        </p:nvPicPr>
        <p:blipFill>
          <a:blip r:embed="rId2"/>
          <a:stretch/>
        </p:blipFill>
        <p:spPr>
          <a:xfrm>
            <a:off x="7524720" y="5530680"/>
            <a:ext cx="161928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3026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обенности драматического произвед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63040" cy="48243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раматическое произведение предназначено для постановки на сце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ьеса делится на части, действия, акты. Внутри действия могут быть сцены, картины, я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е драматического произведения лежит конфли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пьесе в диалогической и монологической формах воссоздается речь героев, воспроизво-  дятся их поступки, поведение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аждый период речи героев называется репли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пьесах есть ремарки (авторские пояснения), помогающие представить героев и понять их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уп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400"/>
          <p:cNvPicPr/>
          <p:nvPr/>
        </p:nvPicPr>
        <p:blipFill>
          <a:blip r:embed="rId2"/>
          <a:stretch/>
        </p:blipFill>
        <p:spPr>
          <a:xfrm>
            <a:off x="2700360" y="6093000"/>
            <a:ext cx="3809880" cy="47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портрет2"/>
          <p:cNvPicPr/>
          <p:nvPr/>
        </p:nvPicPr>
        <p:blipFill>
          <a:blip r:embed="rId1"/>
          <a:stretch/>
        </p:blipFill>
        <p:spPr>
          <a:xfrm>
            <a:off x="324000" y="260280"/>
            <a:ext cx="244764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916360" y="189000"/>
            <a:ext cx="5976720" cy="106884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Ромео и Джульетта» - это ТРАГ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5292720" y="1413000"/>
            <a:ext cx="1366920" cy="576000"/>
          </a:xfrm>
          <a:prstGeom prst="downArrow">
            <a:avLst>
              <a:gd name="adj1" fmla="val 59287"/>
              <a:gd name="adj2" fmla="val 631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11280" y="2060640"/>
            <a:ext cx="6553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рагедия – это драматическое произведение, в котором изображаются исключительно острые, непримиримые жизненные конфликты, таящие в себе катастрофические последствия и чаще всего завершающиеся гибелью одного или нескольки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4000" y="4941720"/>
            <a:ext cx="8496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рагедия рождает в сердцах зрителей сильный душевный подъём ( катарсис – очищение ), чувство сопереживания, которое возвышает и облагоражива-ет ду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6" descr="3860"/>
          <p:cNvPicPr/>
          <p:nvPr/>
        </p:nvPicPr>
        <p:blipFill>
          <a:blip r:embed="rId2"/>
          <a:stretch/>
        </p:blipFill>
        <p:spPr>
          <a:xfrm rot="18682200">
            <a:off x="127440" y="3031560"/>
            <a:ext cx="199836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88640"/>
            <a:ext cx="8540640" cy="5910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роблему любви как важнейшую этическую проблему на первый план выдвинули идеология и искусство Возрождения. Сделав героем трагедии человека, Шекспир в первую очередь обратился к изображению самого великого человеческого чувства – чувства ЛЮБВ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В Вероне, где встречают нас события…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5" descr="ponte"/>
          <p:cNvPicPr/>
          <p:nvPr/>
        </p:nvPicPr>
        <p:blipFill>
          <a:blip r:embed="rId1"/>
          <a:stretch/>
        </p:blipFill>
        <p:spPr>
          <a:xfrm>
            <a:off x="179280" y="981000"/>
            <a:ext cx="4033800" cy="265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vidverona"/>
          <p:cNvPicPr/>
          <p:nvPr/>
        </p:nvPicPr>
        <p:blipFill>
          <a:blip r:embed="rId2"/>
          <a:stretch/>
        </p:blipFill>
        <p:spPr>
          <a:xfrm>
            <a:off x="179280" y="3789360"/>
            <a:ext cx="4608720" cy="286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julia"/>
          <p:cNvPicPr/>
          <p:nvPr/>
        </p:nvPicPr>
        <p:blipFill>
          <a:blip r:embed="rId3"/>
          <a:stretch/>
        </p:blipFill>
        <p:spPr>
          <a:xfrm>
            <a:off x="4370400" y="1773360"/>
            <a:ext cx="237636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romeo"/>
          <p:cNvPicPr/>
          <p:nvPr/>
        </p:nvPicPr>
        <p:blipFill>
          <a:blip r:embed="rId4"/>
          <a:stretch/>
        </p:blipFill>
        <p:spPr>
          <a:xfrm>
            <a:off x="6618240" y="981000"/>
            <a:ext cx="24195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12536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ве равно уважаемых семьи…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дут междоусобные бо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не хотят унять кровопролитья…»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5" descr="capuletti"/>
          <p:cNvPicPr/>
          <p:nvPr/>
        </p:nvPicPr>
        <p:blipFill>
          <a:blip r:embed="rId1"/>
          <a:stretch/>
        </p:blipFill>
        <p:spPr>
          <a:xfrm>
            <a:off x="5651640" y="1628640"/>
            <a:ext cx="3276360" cy="282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Picture 6" descr="montecchi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2482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6" name="Picture 8" descr="julietta"/>
          <p:cNvPicPr/>
          <p:nvPr/>
        </p:nvPicPr>
        <p:blipFill>
          <a:blip r:embed="rId3"/>
          <a:stretch/>
        </p:blipFill>
        <p:spPr>
          <a:xfrm>
            <a:off x="4932360" y="3860640"/>
            <a:ext cx="2808360" cy="249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7" name="Picture 10" descr="romeus"/>
          <p:cNvPicPr/>
          <p:nvPr/>
        </p:nvPicPr>
        <p:blipFill>
          <a:blip r:embed="rId4"/>
          <a:stretch/>
        </p:blipFill>
        <p:spPr>
          <a:xfrm>
            <a:off x="1476360" y="3860640"/>
            <a:ext cx="3024360" cy="24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11"/>
          <p:cNvSpPr/>
          <p:nvPr/>
        </p:nvSpPr>
        <p:spPr>
          <a:xfrm>
            <a:off x="250920" y="5950080"/>
            <a:ext cx="2665440" cy="520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тек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588000" y="6021360"/>
            <a:ext cx="2305080" cy="520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улет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21:22:40Z</dcterms:created>
  <dc:creator>Алаева МАРИНА</dc:creator>
  <dc:description/>
  <dc:language>en-US</dc:language>
  <cp:lastModifiedBy>Учитель</cp:lastModifiedBy>
  <dcterms:modified xsi:type="dcterms:W3CDTF">2015-02-25T01:35:34Z</dcterms:modified>
  <cp:revision>44</cp:revision>
  <dc:subject/>
  <dc:title>Слайд 1</dc:title>
</cp:coreProperties>
</file>