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7E51-502A-41C0-A2AA-BCA7BAA6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29BB-9821-4190-8D4E-991E69C5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6587-3F5E-47D4-B7F5-182E0C92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BE39-093A-459B-ADFB-5E802490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C78C-76BA-4615-84B0-12FC462A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67D2-9DC6-42DB-86C6-F7193977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A10B-4769-46F4-953C-17C037AA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DEC7-4FEF-4A44-B730-4B729290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89E9-A39B-4896-A464-F9E02BF8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E40E-46C4-43E0-8C76-B5DA48BC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34D9-A77B-4E7E-9CB7-024D15D7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B1AC-ED9B-41D0-BBA6-3EA1DC81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0D7B-5D8B-4443-B783-A0275CEC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64A9-F7F5-40C5-B68A-9EF8F40F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1083-9833-44DD-A8B8-98CAE090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932A-B831-4098-956A-73549E34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9805-6241-4114-BF6A-534034F9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80F2-2C97-40F3-82A5-40E25C15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442E-87D2-4E8F-9E66-5802D9DC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FDC2-7020-4495-9239-5023347A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4111-F1EA-4B05-BBFD-51921AF6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AEE2-0CEE-4103-B383-1FEE7189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23EE-85D0-45ED-884F-D1AC4C1F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7602-8763-4119-9FA7-8614D7A0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4DF9-4C22-4FDD-945D-B804AA309F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100C-B397-4A3D-B89B-87BEE6AFBE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850920" y="5949720"/>
            <a:ext cx="4313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 «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42920" y="1484280"/>
            <a:ext cx="777708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ья в моей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зни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63640" y="1413000"/>
            <a:ext cx="648036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бро пожалова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  нам в гости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Вопросы для обсуждени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Что для тебя означает понятие </a:t>
            </a:r>
            <a:r>
              <a:rPr b="0" i="1" lang="en-US" sz="3200" spc="-1" strike="noStrike">
                <a:solidFill>
                  <a:srgbClr val="ff9900"/>
                </a:solidFill>
                <a:latin typeface="Tahoma"/>
              </a:rPr>
              <a:t>ДОМ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Как сохранить тепло </a:t>
            </a:r>
            <a:r>
              <a:rPr b="0" i="1" lang="en-US" sz="3200" spc="-1" strike="noStrike">
                <a:solidFill>
                  <a:srgbClr val="ff9900"/>
                </a:solidFill>
                <a:latin typeface="Tahoma"/>
              </a:rPr>
              <a:t>ДОМ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Какая семья считается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счастливо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Требует ли жизнь в семье большог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ворчеств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Как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понима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родных тебе людей 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ыть ими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поняты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Основные поняти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Конфликт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противоборство, столкновения, серьёзное разноглас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Эмоци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волнения, реакция на внутренние и внешние раздражители. Имеют ярко выраженную субъективную окраску и связаны с переживаниями, волнени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тихи Л. Суслово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, </a:t>
            </a:r>
            <a:r>
              <a:rPr b="0" lang="en-US" sz="3200" spc="-1" strike="noStrike">
                <a:solidFill>
                  <a:srgbClr val="d98f09"/>
                </a:solidFill>
                <a:latin typeface="Tahoma"/>
              </a:rPr>
              <a:t>до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заставленный добром, - ещё не </a:t>
            </a:r>
            <a:r>
              <a:rPr b="0" lang="en-US" sz="3200" spc="-1" strike="noStrike">
                <a:solidFill>
                  <a:srgbClr val="d98f09"/>
                </a:solidFill>
                <a:latin typeface="Tahoma"/>
              </a:rPr>
              <a:t>до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даже люстра над столом, - ещё не </a:t>
            </a:r>
            <a:r>
              <a:rPr b="0" lang="en-US" sz="3200" spc="-1" strike="noStrike">
                <a:solidFill>
                  <a:srgbClr val="d98f09"/>
                </a:solidFill>
                <a:latin typeface="Tahoma"/>
              </a:rPr>
              <a:t>до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на окне с живым цветком – ещё не </a:t>
            </a:r>
            <a:r>
              <a:rPr b="0" lang="en-US" sz="3200" spc="-1" strike="noStrike">
                <a:solidFill>
                  <a:srgbClr val="d98f09"/>
                </a:solidFill>
                <a:latin typeface="Tahoma"/>
              </a:rPr>
              <a:t>до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даже с чайника баском - ещё не </a:t>
            </a:r>
            <a:r>
              <a:rPr b="0" lang="en-US" sz="3200" spc="-1" strike="noStrike">
                <a:solidFill>
                  <a:srgbClr val="d98f09"/>
                </a:solidFill>
                <a:latin typeface="Tahoma"/>
              </a:rPr>
              <a:t>до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гда вечерняя сгустится темнот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ак эта истина понятна и проста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от ладоней до окна наполнен </a:t>
            </a:r>
            <a:r>
              <a:rPr b="0" lang="en-US" sz="3200" spc="-1" strike="noStrike">
                <a:solidFill>
                  <a:srgbClr val="d98f09"/>
                </a:solidFill>
                <a:latin typeface="Tahoma"/>
              </a:rPr>
              <a:t>до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воим тепл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 каком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Тепл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идёт реч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же это за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Истин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которая должна быть простой и понятно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ЛЮБОВЬ к своему дому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создать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Тепло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шего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Дом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Родительский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дом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– начало начал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Ты в жизни моей надёжный прича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Родительский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дом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! Пускай много лет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Горит в твоих окнах добрый свет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Что может быть важнее уютного 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Дома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, где тебя всегда поймут, посочувствуют, поддержат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ак построить такой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Дом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 чего начать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Игра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«Строитель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Задание 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на «кирпичиках» записать как можно больше слов, которые «приходят в голову» в связи с данным словом «Дом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ом – это … ( крепость, очаг…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Задание 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предложить несколько этических понятий, которые составляют «фундамент» До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 взаимопонимание…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Задание 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создайте «технику безопасности» в конфликтных ситуациях, которые неизбежны в семь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5T18:44:31Z</dcterms:created>
  <dc:creator>Unknown User</dc:creator>
  <dc:description/>
  <dc:language>en-US</dc:language>
  <cp:lastModifiedBy>Unknown User</cp:lastModifiedBy>
  <dcterms:modified xsi:type="dcterms:W3CDTF">2011-05-16T02:47:33Z</dcterms:modified>
  <cp:revision>9</cp:revision>
  <dc:subject/>
  <dc:title>Слайд 1</dc:title>
</cp:coreProperties>
</file>