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9.gif" ContentType="image/gif"/>
  <Override PartName="/ppt/media/image8.gif" ContentType="image/gi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314-63CF-49F5-AA8E-A5F7209E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F50-D7C0-4CB5-A5D8-A3488BD0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2AD-52C9-4BB6-986F-D00CBD02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167-2305-432E-A945-372F5B0B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83CC-2AD8-4DD7-9652-836E0C4A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951C-CB79-432B-85F8-0D20FC4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44BA-97C5-4B2D-9D00-61124ACB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34FE-DC5E-43A2-B3E9-E536100A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6E59-4BF9-4FC7-8838-84285023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7BF0-0D87-4D13-AABB-A79F626E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8753-A3D9-40FB-AAB6-33EE39EF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21C-CA9F-45A2-8F15-CDDB0A19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27D4-A810-49ED-AFC6-6E00F6A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E195-5299-4221-9DD2-C1D59A05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E852-14CF-44F5-AEF9-A2798E07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0A4D-04EB-4124-B6E7-C40B7CBE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6981-AE7A-41F6-AFEB-40CFF8E2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72F-CFF0-4885-84E3-4BFCB8F1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FA8-8464-4B36-884E-DFDBCB7D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F95-2ACA-4A94-A285-5A081B14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39C-3818-45B9-8894-8984CF5A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6E4-233D-4FE8-B1F1-2B95681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24A-C342-4F85-B26A-19682DB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20B-24B5-4064-A80B-AF433265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FD2A-0376-4F64-B4B2-9C39CEF476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1055-14EA-4FF6-8100-B877239962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hyperlink" Target="http://ru.wikipedia.org/wiki/&#1055;&#1088;&#1080;&#1073;&#1086;&#1088;" TargetMode="External"/><Relationship Id="rId4" Type="http://schemas.openxmlformats.org/officeDocument/2006/relationships/hyperlink" Target="http://ru.wikipedia.org/wiki/&#1057;&#1080;&#1083;&#1072;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86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ff99"/>
                </a:solidFill>
                <a:latin typeface="Arial"/>
              </a:rPr>
              <a:t>7 класс</a:t>
            </a:r>
            <a:endParaRPr b="0" lang="en-US" sz="48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: Шишкина Н.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533520"/>
            <a:ext cx="9144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52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илы в природ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752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Масса одного тела вдвое больше массы другого. Сравните силы тяжести, действующие на эти те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581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как сила тяжести зависит от массы, (чем больше масса, тем больше сила тяжести), то сила тяжести действующая на второе тела в два раза больше, чем сила тяжести действующая на первое те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силу тяжести , действующую на тело массой 500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Решение :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 :       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=50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    0,5 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=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8128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ила тяж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9,8 Н\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=9,8 Н\кг*0,5 кг=4,9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4,9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67652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2895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6765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 rot="20433000">
            <a:off x="685440" y="373356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ий оке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20343000">
            <a:off x="1066320" y="1143000"/>
            <a:ext cx="3429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ягот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105520" y="1828800"/>
            <a:ext cx="3276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р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76720" y="5562720"/>
            <a:ext cx="41148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Упруг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 rot="18054600">
            <a:off x="6983280" y="3760560"/>
            <a:ext cx="2438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Вес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1214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1713E-006 C 0.10365 0.07396 0.20781 0.14745 0.25035 0.17749 E">
                                      <p:cBhvr>
                                        <p:cTn id="8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124080" y="304920"/>
            <a:ext cx="3353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 упруг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3881520" cy="4114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48320" y="3886200"/>
            <a:ext cx="4114800" cy="2971800"/>
          </a:xfrm>
          <a:prstGeom prst="ellipse">
            <a:avLst/>
          </a:prstGeom>
          <a:solidFill>
            <a:srgbClr val="2eb62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5400" spc="-1" strike="noStrike" baseline="-25000">
                <a:solidFill>
                  <a:srgbClr val="ffffff"/>
                </a:solidFill>
                <a:latin typeface="Tahoma"/>
              </a:rPr>
              <a:t>упр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k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Задача 1: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зовите силы, действующие на шарик, подвешенный к концу стальной пружины. Сделайте рисунок и изобразите а нем , куда направлены сил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1379520" cy="2971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800600" y="4191120"/>
            <a:ext cx="0" cy="23619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800600" y="1600200"/>
            <a:ext cx="0" cy="2362320"/>
          </a:xfrm>
          <a:prstGeom prst="line">
            <a:avLst/>
          </a:prstGeom>
          <a:ln w="76320">
            <a:solidFill>
              <a:srgbClr val="000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2133720"/>
            <a:ext cx="2362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4400" spc="-1" strike="noStrike" baseline="-25000">
                <a:solidFill>
                  <a:srgbClr val="ffffff"/>
                </a:solidFill>
                <a:latin typeface="Tahoma"/>
              </a:rPr>
              <a:t>уп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2057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54100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тя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5257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6765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ла тяжести, сила упруг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Задача 2: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йдите жесткость пружины, которая под действием силы 1 Н удлинилась на 10 с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Решение :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о :       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 = 1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 =1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см   0,1 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81280" y="15998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р 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∆l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ила упруг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 = F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=1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    =10 Н\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1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 10 Н\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175248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1240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16765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2004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 rot="20433000">
            <a:off x="685440" y="373356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ий оке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 rot="20343000">
            <a:off x="1066320" y="1143000"/>
            <a:ext cx="3429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ягот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105520" y="1828800"/>
            <a:ext cx="3276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р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76720" y="5562720"/>
            <a:ext cx="41148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Упруг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 rot="18054600">
            <a:off x="6983280" y="3760560"/>
            <a:ext cx="2438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Вес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505320" y="3200400"/>
            <a:ext cx="1214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51 0.0624 C 0.19236 0.0899 0.30174 0.11833 0.29532 0.08643 C 0.28941 0.05431 0.08837 -0.09314 0.04723 -0.12826 E">
                                      <p:cBhvr>
                                        <p:cTn id="125" dur="3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торить и обобщить знания по тем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666880" y="30492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 тр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0360" cy="2324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029200" y="3886200"/>
            <a:ext cx="4114800" cy="2971800"/>
          </a:xfrm>
          <a:prstGeom prst="ellipse">
            <a:avLst/>
          </a:prstGeom>
          <a:solidFill>
            <a:srgbClr val="2eb62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5400" spc="-1" strike="noStrike" baseline="-25000">
                <a:solidFill>
                  <a:srgbClr val="ffffff"/>
                </a:solidFill>
                <a:latin typeface="Tahoma"/>
              </a:rPr>
              <a:t>тр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  <a:ea typeface="Tahoma"/>
              </a:rPr>
              <a:t>µm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 rot="20433000">
            <a:off x="685440" y="373356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ий оке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 rot="20343000">
            <a:off x="1066320" y="1143000"/>
            <a:ext cx="3429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ягот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105520" y="1828800"/>
            <a:ext cx="3276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р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76720" y="5562720"/>
            <a:ext cx="41148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Упруг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 rot="18054600">
            <a:off x="6983280" y="3760560"/>
            <a:ext cx="2438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Вес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62520" y="1981080"/>
            <a:ext cx="1214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58 0.09545 C -0.03854 0.0966 -0.14566 0.09776 -0.13142 -0.00508 C -0.11718 -0.10793 0.10643 -0.43541 0.154 -0.52138 E">
                                      <p:cBhvr>
                                        <p:cTn id="131" dur="3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0" y="0"/>
          <a:ext cx="9143640" cy="6881400"/>
        </p:xfrm>
        <a:graphic>
          <a:graphicData uri="http://schemas.openxmlformats.org/drawingml/2006/table">
            <a:tbl>
              <a:tblPr/>
              <a:tblGrid>
                <a:gridCol w="1623240"/>
                <a:gridCol w="2416680"/>
                <a:gridCol w="2663640"/>
                <a:gridCol w="24400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тяже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упруг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т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значение, единица изме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чка  приложения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бор для изме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хемой или рисунком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0"/>
          <a:ext cx="9144000" cy="6999120"/>
        </p:xfrm>
        <a:graphic>
          <a:graphicData uri="http://schemas.openxmlformats.org/drawingml/2006/table">
            <a:tbl>
              <a:tblPr/>
              <a:tblGrid>
                <a:gridCol w="1623960"/>
                <a:gridCol w="2416320"/>
                <a:gridCol w="2663640"/>
                <a:gridCol w="244008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тяже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упруг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т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а, с которой Земля притягивается все тела называется силой тяже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ой упругости называется сила возникающая при де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ой трения называется сила возникающая при движении одного тела по поверхности другого и направленная проивоположноя  движению тел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значение, единица изме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яж=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р=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=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µ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чка  приложения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бор для изме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о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о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о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хемой или рисунком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2362320" y="4114800"/>
            <a:ext cx="609480" cy="533520"/>
          </a:xfrm>
          <a:prstGeom prst="ellipse">
            <a:avLst/>
          </a:prstGeom>
          <a:solidFill>
            <a:srgbClr val="2eb62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4343400"/>
            <a:ext cx="0" cy="838080"/>
          </a:xfrm>
          <a:prstGeom prst="line">
            <a:avLst/>
          </a:prstGeom>
          <a:ln w="76320">
            <a:solidFill>
              <a:srgbClr val="000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4343400"/>
            <a:ext cx="1295640" cy="457200"/>
          </a:xfrm>
          <a:prstGeom prst="rect">
            <a:avLst/>
          </a:prstGeom>
          <a:solidFill>
            <a:srgbClr val="2eb62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05920" y="4114800"/>
            <a:ext cx="533160" cy="0"/>
          </a:xfrm>
          <a:prstGeom prst="line">
            <a:avLst/>
          </a:prstGeom>
          <a:ln w="9360">
            <a:solidFill>
              <a:srgbClr val="000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781320" y="4800600"/>
            <a:ext cx="1752840" cy="0"/>
          </a:xfrm>
          <a:prstGeom prst="line">
            <a:avLst/>
          </a:prstGeom>
          <a:ln w="76320">
            <a:solidFill>
              <a:srgbClr val="000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81120" y="4191120"/>
            <a:ext cx="3812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105520" y="4191120"/>
            <a:ext cx="457200" cy="380880"/>
            <a:chOff x="5105520" y="4191120"/>
            <a:chExt cx="457200" cy="380880"/>
          </a:xfrm>
        </p:grpSpPr>
        <p:sp>
          <p:nvSpPr>
            <p:cNvPr id="273" name=""/>
            <p:cNvSpPr/>
            <p:nvPr/>
          </p:nvSpPr>
          <p:spPr>
            <a:xfrm>
              <a:off x="5105520" y="41911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1480" y="4343400"/>
              <a:ext cx="38124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181120" y="4419720"/>
              <a:ext cx="3812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572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334120" y="4572000"/>
            <a:ext cx="228600" cy="304920"/>
          </a:xfrm>
          <a:prstGeom prst="ellipse">
            <a:avLst/>
          </a:prstGeom>
          <a:solidFill>
            <a:srgbClr val="2eb62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962160"/>
            <a:ext cx="0" cy="685800"/>
          </a:xfrm>
          <a:prstGeom prst="line">
            <a:avLst/>
          </a:prstGeom>
          <a:ln w="76320">
            <a:solidFill>
              <a:srgbClr val="000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838080"/>
            <a:ext cx="83818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"Как это удивительно – обнаружить, что все явления природы управляются небольшим числом сил!"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3500280"/>
            <a:ext cx="3957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.Фара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 rot="20433000">
            <a:off x="685440" y="373356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ий оке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 rot="20343000">
            <a:off x="1066320" y="1143000"/>
            <a:ext cx="3429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ягот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1828800"/>
            <a:ext cx="3276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р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76720" y="5562720"/>
            <a:ext cx="41148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Упруг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 rot="18054600">
            <a:off x="6983280" y="3760560"/>
            <a:ext cx="2438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Вес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214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1779 C 0.08003 -0.16247 0.16007 -0.34273 0.19218 -0.41484 E">
                                      <p:cBhvr>
                                        <p:cTn id="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219 -0.41483 C 0.3066 -0.35059 0.42118 -0.28634 0.46545 -0.26207 E">
                                      <p:cBhvr>
                                        <p:cTn id="1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545 -0.26207 C 0.54792 -0.24636 0.63038 -0.23064 0.63125 -0.26207 C 0.63212 -0.2935 0.55122 -0.37208 0.47032 -0.45042 E">
                                      <p:cBhvr>
                                        <p:cTn id="1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868 -0.46568 C 0.42726 -0.39681 0.34635 -0.32771 0.34583 -0.41114 C 0.34549 -0.49433 0.47882 -0.87289 0.50538 -0.9651 E">
                                      <p:cBhvr>
                                        <p:cTn id="18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Силой называется физическая величина, которая определяет действие одного тела на другое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514600"/>
            <a:ext cx="2681280" cy="22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5880" y="2514600"/>
            <a:ext cx="1752840" cy="24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62520" y="4114800"/>
            <a:ext cx="99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147480" y="324576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обозначается сил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257800"/>
            <a:ext cx="3962520" cy="990720"/>
          </a:xfrm>
          <a:prstGeom prst="rect">
            <a:avLst/>
          </a:prstGeom>
          <a:solidFill>
            <a:srgbClr val="2eb62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словное обо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5257800"/>
            <a:ext cx="3962160" cy="990720"/>
          </a:xfrm>
          <a:prstGeom prst="rect">
            <a:avLst/>
          </a:prstGeom>
          <a:solidFill>
            <a:srgbClr val="2eb62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диницы изме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457200"/>
            <a:ext cx="594360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намо́ме́тр (от </a:t>
            </a:r>
            <a:r>
              <a:rPr b="0" lang="ru-RU" sz="2800" spc="-1" strike="noStrike" u="sng">
                <a:solidFill>
                  <a:srgbClr val="ddd800"/>
                </a:solidFill>
                <a:uFillTx/>
                <a:latin typeface="Tahoma"/>
                <a:hlinkClick r:id="rId1"/>
              </a:rPr>
              <a:t>др.-греч</a:t>
            </a:r>
            <a:r>
              <a:rPr b="0" lang="ru-RU" sz="2800" spc="-1" strike="noStrike" u="sng">
                <a:solidFill>
                  <a:srgbClr val="ddd800"/>
                </a:solidFill>
                <a:uFillTx/>
                <a:latin typeface="Tahoma"/>
                <a:hlinkClick r:id="rId2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δύναμις — «сила» и μέτρεω — «измеряю») — </a:t>
            </a:r>
            <a:r>
              <a:rPr b="0" lang="ru-RU" sz="2800" spc="-1" strike="noStrike" u="sng">
                <a:solidFill>
                  <a:srgbClr val="ddd800"/>
                </a:solidFill>
                <a:uFillTx/>
                <a:latin typeface="Tahoma"/>
                <a:hlinkClick r:id="rId3"/>
              </a:rPr>
              <a:t>прибо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для измерения </a:t>
            </a:r>
            <a:r>
              <a:rPr b="0" lang="ru-RU" sz="2800" spc="-1" strike="noStrike" u="sng">
                <a:solidFill>
                  <a:srgbClr val="ddd800"/>
                </a:solidFill>
                <a:uFillTx/>
                <a:latin typeface="Tahoma"/>
                <a:hlinkClick r:id="rId4"/>
              </a:rPr>
              <a:t>сил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781680" y="0"/>
            <a:ext cx="193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666880" y="0"/>
            <a:ext cx="4191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сил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1600200"/>
            <a:ext cx="0" cy="236232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19320" y="1143000"/>
            <a:ext cx="1295280" cy="22096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1371600"/>
            <a:ext cx="761760" cy="19810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86200" y="3962520"/>
            <a:ext cx="1550880" cy="1752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57200" y="3505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29400" y="3276720"/>
            <a:ext cx="1981080" cy="1757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0" y="5029200"/>
            <a:ext cx="2495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 трения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324480" y="5029200"/>
            <a:ext cx="2495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 тяжести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352680" y="5867280"/>
            <a:ext cx="2495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 упругости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 rot="20433000">
            <a:off x="685440" y="373356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ий оке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 rot="20343000">
            <a:off x="1066320" y="1143000"/>
            <a:ext cx="3429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ягот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05520" y="1828800"/>
            <a:ext cx="3276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Тр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76720" y="5562720"/>
            <a:ext cx="41148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Упруг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 rot="18054600">
            <a:off x="6983280" y="3760560"/>
            <a:ext cx="2438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c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.Вес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c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214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2588E-006 C 0.08646 -0.17564 0.17309 -0.35082 0.20851 -0.42154 E">
                                      <p:cBhvr>
                                        <p:cTn id="73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b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971800" y="380880"/>
            <a:ext cx="3733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ла тяже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2638440" cy="4495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09880" y="3886200"/>
            <a:ext cx="4343400" cy="2971800"/>
          </a:xfrm>
          <a:prstGeom prst="ellipse">
            <a:avLst/>
          </a:prstGeom>
          <a:solidFill>
            <a:srgbClr val="2eb62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5400" spc="-1" strike="noStrike" baseline="-25000">
                <a:solidFill>
                  <a:srgbClr val="ffffff"/>
                </a:solidFill>
                <a:latin typeface="Tahoma"/>
              </a:rPr>
              <a:t>тяж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g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информатики и физики</cp:lastModifiedBy>
  <dcterms:modified xsi:type="dcterms:W3CDTF">2010-05-18T03:26:2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