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A72B0-43B9-4B86-9890-16238A533D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BAE7-AF80-4342-AE42-957521CA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4A367-6EE9-4D9C-84AE-BE972A58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BBC7-632D-4228-A3B1-B43C42AD54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592B-7756-4C84-804F-08111CF7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7360-CEF9-4746-AE9B-4738BEC4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C07E4-04B3-459C-9AC9-F41C6314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75BB-A59E-4D50-AD37-BFBF644D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93685-0D92-478C-BE56-D938E81E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046A1-5322-42B5-A853-F6D07E96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FD65-B885-4247-801D-40DDDEAA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5B88B-196F-47F8-BB60-7A44B938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840670F-C65F-4274-A4CE-74CD72272A4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386000" y="3357720"/>
            <a:ext cx="7486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вторы проекта: Маренкова 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щиеся 3 Б класс: Точилова Дар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ронова Алина, Жилова В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рячев Тимофей, Святова Ал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каров Даниил,Герасимова Екатери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хкян Арсений, Юрин Пё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3753000" y="5877000"/>
            <a:ext cx="218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г. Нижний Новгор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2015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39640" y="900000"/>
            <a:ext cx="8099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Необыкновенное путешествие в обыкновенном район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35080" y="3774960"/>
            <a:ext cx="3400200" cy="27831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1676880" y="31896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езентация социального 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1561680" y="-1440"/>
            <a:ext cx="60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ИНЦИПЫ РЕАЛИЗАЦИИ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79280" y="1404000"/>
            <a:ext cx="87123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 процессе работы необходимо руководствоваться следующими принципа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развит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отражает четкую ориентацию на развитие ли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дифференциации и индивидуализац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редполагает создание условия для полного проявления способностей каждого ребенка и его сем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диалогического общен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отражает открытость, искренность, взаимопонимание всех субъектов творческого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доступност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редусматривает организацию работы с учетом возрастных особенностей, подготовленности, а также индивидуальных особенностей семейных отнош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 Принцип системности 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жение цели обеспечивается решением комплекса задач образовательной и воспитательной направлен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952560" y="11556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Ы И МЕТОДЫ РЕАЛИЗАЦИИ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24000" y="986400"/>
            <a:ext cx="88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знавательные занятия, экскурс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одуктивная деятель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товыставки и выставки рисунков и подел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20084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еятельность участников проек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 различных этап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79280" y="549360"/>
          <a:ext cx="8712360" cy="3095640"/>
        </p:xfrm>
        <a:graphic>
          <a:graphicData uri="http://schemas.openxmlformats.org/drawingml/2006/table">
            <a:tbl>
              <a:tblPr/>
              <a:tblGrid>
                <a:gridCol w="500040"/>
                <a:gridCol w="1989360"/>
                <a:gridCol w="1866960"/>
                <a:gridCol w="2487600"/>
                <a:gridCol w="1868400"/>
              </a:tblGrid>
              <a:tr h="3095640">
                <a:tc>
                  <a:txBody>
                    <a:bodyPr lIns="64440" rIns="64440" tIns="64440" bIns="644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64440" bIns="644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64440" bIns="644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темы, уточнение цели, определение сроков проекта, формирование семейных групп для участия в проекте, определение источников информац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64440" bIns="644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ие информаци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 задания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1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и обоснование критериев успех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64440" bIns="644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 учащихся и родителей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 цели проекта на заседании круглого стола с родителями. Помощь по просьбам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8360" y="476280"/>
          <a:ext cx="8064360" cy="4518000"/>
        </p:xfrm>
        <a:graphic>
          <a:graphicData uri="http://schemas.openxmlformats.org/drawingml/2006/table">
            <a:tbl>
              <a:tblPr/>
              <a:tblGrid>
                <a:gridCol w="463680"/>
                <a:gridCol w="1841400"/>
                <a:gridCol w="1655640"/>
                <a:gridCol w="2374920"/>
                <a:gridCol w="1728720"/>
              </a:tblGrid>
              <a:tr h="4753080">
                <a:tc>
                  <a:txBody>
                    <a:bodyPr lIns="64440" rIns="64440" tIns="64440" bIns="644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64440" bIns="644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64440" bIns="644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работ, раскрывающих идеи проект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64440" bIns="6444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бор информации: посещение библиотек, изучение литературы по данной проблеме, просмотр в/ф, беседы со взрослыми, Интернет, экскурсионн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 и семейных поделок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модели «Наша район в 21 веке», фотоматериа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 Моя малая родина"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64440" bIns="64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тематических занятий, индивидуальных бесед: о малой родине – Автозаводском районе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экскурсий с родителями  по достопримечательным местам район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24000" y="404640"/>
          <a:ext cx="8424720" cy="2016360"/>
        </p:xfrm>
        <a:graphic>
          <a:graphicData uri="http://schemas.openxmlformats.org/drawingml/2006/table">
            <a:tbl>
              <a:tblPr/>
              <a:tblGrid>
                <a:gridCol w="484200"/>
                <a:gridCol w="1923840"/>
                <a:gridCol w="1803600"/>
                <a:gridCol w="2406600"/>
                <a:gridCol w="1806480"/>
              </a:tblGrid>
              <a:tr h="2016360">
                <a:tc>
                  <a:txBody>
                    <a:bodyPr lIns="64440" rIns="64440" tIns="64440" bIns="644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64440" bIns="644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64440" bIns="644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едение итогов работы над проекто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64440" bIns="644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 перспективы развития проекта (создание банка данных «Моя малая родина» с целью дальнейшего использования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64440" bIns="644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ность за работу в проект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Итог работы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000" y="1628280"/>
            <a:ext cx="82278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Итогом проделанной работы является проведен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классной краеведческой конференции «Мой Автозаводский район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Выступление с презентацией «Горжусь тобой мой край родной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по проекту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Любимый Автозавод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ние маршрутного листа по достопримечательным местам Автозаво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спространение информации по классам, школам района и горо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816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816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816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1187280" y="26028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АКТУАЛЬНОСТЬ РЕАЛИЗУЕМОГО 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50920" y="1268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же возникла идея создания такого проект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395280" y="2133720"/>
            <a:ext cx="849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м всегда кажется, что о своей малой родине мы знаем всё или почти всё. Наш район не может похвастаться многовековой историей. Но всегда, отправляясь в путь,  нам хочется поскорее вернуться домой, в тот дом, где мы родились, на ту улицу, где выросли, в тот край, что мы зовём «Малой родиной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краеведения в начальной школе является одним из основных источников обогащения учащихся знаниями о родном крае, воспитания любви к нему, формирования гражданских позиций и навык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 младшем  школьном  возрасте  происходит  формирование  характера,  мышления,  речи  человека,  начинается  длительный  процесс  формирования  нравственных  ценностей,  которые  лежат  в  основе  любви  к  Родине.   Материал  по  краеведению  является  богатым  источником,  дающим  возможность  восполнить    пробелы  в  нравственном  воспитании  учащихся,  которые  возникли  в  последнее  врем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816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2411280" y="333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ОБЛЕМА ПРОЕКТ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468360" y="120420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 своей практике учителя часто сталкиваются со следующими проблемам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е доступной информации по истории своего кра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е у учеников навыков самостоятельного поиска информации по интересующей тем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ое умение представить окружающим полученные зн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2484360" y="260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468360" y="1268280"/>
            <a:ext cx="82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ние  гражданина  России,  патриота  своей  малой  родины,  знающего,  любящего  свой  родной  край,  деревня,  почитающего  его  традиции,  испытывающего  гордость  за  вклад  своей  малой  родины  в  жизнь  огромного  государ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ние  деятельного  гражданина, с активной жизненной  позицией,  желающего  принять  непосредственное  участие  в  развитии  и  процветании  своего  гор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539640" y="83664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ознакомление  учащихся  с  историческим  прошлым  и  современной  жизнью  родного рай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развитие  гражданских  качеств  личности  младшего  школьника;  его  патриотического  отношения  к  России  и  своему  краю;  формирование  личностно-ценностного  отношения  и  побуждение  деятельной  любви  к  родному  месту  прожи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развитие  познавательных  интересов,  интеллектуальных  и  творческих  способностей  учащих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формирование  способности  и  готовности  к  использованию  краеведческих  знаний  в  повседневной 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профессиональная  ориентация  при  решении  вопросов  дальнейшего  образования,  выбора  профессии  и  места  раб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овладение  начальными  формами  исследовательской деятельности,  включая умения  поиска и работы с информаци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ознакомление   учащихся  с технологией  проектной деятельности, умению применять данную технологию в самостоятельной раб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3059280" y="260280"/>
            <a:ext cx="26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Задачи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539640" y="260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УЧАСТНИКИ ПРОЕКТА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1835280" y="1052640"/>
            <a:ext cx="73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щиеся начальной школы, родители учеников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684360" y="2421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ВРЕМЯ РЕАЛИЗАЦИИ ПРОЕКТ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2124000" y="3105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НТЯБРЬ 2014 ГОДА – МАЙ 2015 ГОД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3501000" y="404640"/>
            <a:ext cx="25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ВИД ПРОЕКТА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9280" y="1125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ОРЧЕСКИЙ, ДОЛГОСРОЧНЫЙ, СЕМЕЙНО-ГРУППОВ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2863800" y="2205000"/>
            <a:ext cx="46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ЕДУЩАЯ ДЕЯТЕЛЬНОСТЬ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79280" y="3105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ческая, поисковая, исследовательск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74760" y="94680"/>
            <a:ext cx="83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А ПРОДУКТОВ ПРОЕКТНОЙ ДЕЯТЕЛЬНОС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68360" y="15202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и, видеофиль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графии, рисунки, подел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ет района из конструктора-л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2192040" y="-1440"/>
            <a:ext cx="47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ЖИДАЕМЫЕ РЕЗУЛЬТА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79280" y="113760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ля уче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ответственное отношение к общественно-значимым задан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витие у детей инициативы, активности, самостоятель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амореализа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ля педагог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вышение профессионализм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недрение новых методов в работе с детьми и родителя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личностный и профессиональный рос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амореализа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ля род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уровня личностного созна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епление взаимоотношений между детьми и родителями, самореализа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9:11:45Z</dcterms:created>
  <dc:creator>XXX</dc:creator>
  <dc:description/>
  <dc:language>en-US</dc:language>
  <cp:lastModifiedBy>Общий</cp:lastModifiedBy>
  <dcterms:modified xsi:type="dcterms:W3CDTF">2015-02-11T07:56:18Z</dcterms:modified>
  <cp:revision>163</cp:revision>
  <dc:subject/>
  <dc:title>Грипп</dc:title>
</cp:coreProperties>
</file>