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722-30F5-49D8-8D1B-33258F5C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708-AB4E-4A9F-A1E4-3BFC07B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29F-C1C3-4E4E-A4D2-5021448D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D53-A655-4AF6-B709-194D49D0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F4E-A54B-4F16-97BF-EFB3D1FE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5E8F-6AE6-4B65-9812-F38FFA72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4317-F80B-4E27-8F9D-83ECCB1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411-EA7C-469D-8A55-487AB5E1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B77-E7A8-4536-9D86-E8521842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DC62-5ACA-4E12-91AD-68AFFE16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77F9-C2AF-4521-A781-41F3C81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710-6236-4E65-972A-924E0DF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EC4-8F65-4E98-8F61-830D7D4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C807-D8C0-4C29-8362-A49C474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A93B-FDD9-4980-B00E-2AFFD580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89ED-69BC-447F-819A-14C00184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607D-5468-4FDA-BCA9-7858ECF4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7A4-6265-4C2B-BEF6-ABE8B88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CB8-0684-4C87-8FC5-3107B7B6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94E-6040-4729-B6BC-AC2928C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6D1-C616-4750-9BBE-943D540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C45-7663-487A-B544-E0D16C1C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17E-EC8F-4D55-94E4-F218695B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330-168F-4930-9F88-2B4382F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8B17-F3D5-49F6-806A-3BF27FDC73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6BA0-04FA-4310-86C5-D3290D44B8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ru.wikipedia.org/wiki/&#1055;&#1088;&#1072;&#1074;&#1080;&#1083;&#1100;&#1085;&#1099;&#1081;_&#1084;&#1085;&#1086;&#1075;&#1086;&#1075;&#1088;&#1072;&#1085;&#1085;&#1080;&#1082;" TargetMode="External"/><Relationship Id="rId3" Type="http://schemas.openxmlformats.org/officeDocument/2006/relationships/hyperlink" Target="http://ru.wikipedia.org/wiki/&#1058;&#1088;&#1077;&#1091;&#1075;&#1086;&#1083;&#1100;&#1085;&#1080;&#1082;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888000" cy="3668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6120" y="765000"/>
            <a:ext cx="402732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Monotype Corsiva"/>
              </a:rPr>
              <a:t>Тетраэдр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1557360"/>
            <a:ext cx="3527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Monotype Corsiva"/>
              </a:rPr>
              <a:t>Работу выполнила</a:t>
            </a: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Богданова Кс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ученица 10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МОУ СОШ п. Усть-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Monotype Corsiva"/>
              </a:rPr>
              <a:t>Уч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Анциферова Ольг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633680" y="2276640"/>
            <a:ext cx="5876640" cy="14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ff3399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hape 9221"/>
          <p:cNvSpPr/>
          <p:nvPr/>
        </p:nvSpPr>
        <p:spPr>
          <a:xfrm>
            <a:off x="903240" y="3591000"/>
            <a:ext cx="7678800" cy="291924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9219"/>
          <p:cNvSpPr/>
          <p:nvPr/>
        </p:nvSpPr>
        <p:spPr>
          <a:xfrm>
            <a:off x="1908000" y="4508640"/>
            <a:ext cx="5616720" cy="1512720"/>
          </a:xfrm>
          <a:prstGeom prst="pie">
            <a:avLst/>
          </a:prstGeom>
          <a:solidFill>
            <a:srgbClr val="6666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222"/>
          <p:cNvSpPr/>
          <p:nvPr/>
        </p:nvSpPr>
        <p:spPr>
          <a:xfrm>
            <a:off x="3635280" y="765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223"/>
          <p:cNvSpPr/>
          <p:nvPr/>
        </p:nvSpPr>
        <p:spPr>
          <a:xfrm>
            <a:off x="1457640" y="452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224"/>
          <p:cNvSpPr/>
          <p:nvPr/>
        </p:nvSpPr>
        <p:spPr>
          <a:xfrm>
            <a:off x="7669440" y="452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225"/>
          <p:cNvSpPr/>
          <p:nvPr/>
        </p:nvSpPr>
        <p:spPr>
          <a:xfrm>
            <a:off x="4718160" y="602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226"/>
          <p:cNvSpPr/>
          <p:nvPr/>
        </p:nvSpPr>
        <p:spPr>
          <a:xfrm>
            <a:off x="3134160" y="47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9227"/>
          <p:cNvSpPr/>
          <p:nvPr/>
        </p:nvSpPr>
        <p:spPr>
          <a:xfrm flipH="1">
            <a:off x="1908000" y="808200"/>
            <a:ext cx="1758960" cy="3700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228"/>
          <p:cNvSpPr/>
          <p:nvPr/>
        </p:nvSpPr>
        <p:spPr>
          <a:xfrm>
            <a:off x="3668760" y="806400"/>
            <a:ext cx="1763640" cy="522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9229"/>
          <p:cNvSpPr/>
          <p:nvPr/>
        </p:nvSpPr>
        <p:spPr>
          <a:xfrm>
            <a:off x="3689280" y="795240"/>
            <a:ext cx="3819600" cy="371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125360"/>
            <a:ext cx="829620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Тетраэдр - простейший многогранник, </a:t>
            </a:r>
            <a:endParaRPr b="0" lang="en-US" sz="1800" spc="1" strike="noStrike">
              <a:ln w="12600">
                <a:solidFill>
                  <a:srgbClr val="ff3399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гранями которого являются </a:t>
            </a:r>
            <a:endParaRPr b="0" lang="en-US" sz="1800" spc="1" strike="noStrike">
              <a:ln w="12600">
                <a:solidFill>
                  <a:srgbClr val="ff3399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четыре треугольника.</a:t>
            </a:r>
            <a:endParaRPr b="0" lang="en-US" sz="1800" spc="1" strike="noStrike">
              <a:ln w="12600">
                <a:solidFill>
                  <a:srgbClr val="ff3399"/>
                </a:solidFill>
                <a:miter/>
              </a:ln>
              <a:solidFill>
                <a:srgbClr val="ff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6870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Monotype Corsiva"/>
              </a:rPr>
              <a:t>Тетраэдр - многогранник с четырьмя треугольными гранями, в каждой из вершин которого сходятся по 3 грани. У тетраэдра 4 грани, 4 вершины и 6 рёбер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6939000" y="4815000"/>
            <a:ext cx="12970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52800" cy="4321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400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907920"/>
            <a:ext cx="36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Monotype Corsiva"/>
              </a:rPr>
              <a:t>A,B,C,D – </a:t>
            </a:r>
            <a:r>
              <a:rPr b="0" lang="ru-RU" sz="2400" spc="-1" strike="noStrike">
                <a:solidFill>
                  <a:srgbClr val="ff3399"/>
                </a:solidFill>
                <a:latin typeface="Monotype Corsiva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Monotype Corsiva"/>
              </a:rPr>
              <a:t>AB,BC,BD,AD,AC,CD –</a:t>
            </a:r>
            <a:r>
              <a:rPr b="0" lang="ru-RU" sz="2400" spc="-1" strike="noStrike">
                <a:solidFill>
                  <a:srgbClr val="ff3399"/>
                </a:solidFill>
                <a:latin typeface="Monotype Corsiva"/>
              </a:rPr>
              <a:t> 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Monotype Corsiva"/>
              </a:rPr>
              <a:t>ABD,DBC,ABC,ADC </a:t>
            </a:r>
            <a:r>
              <a:rPr b="0" lang="ru-RU" sz="2400" spc="-1" strike="noStrike">
                <a:solidFill>
                  <a:srgbClr val="ff3399"/>
                </a:solidFill>
                <a:latin typeface="Monotype Corsiva"/>
              </a:rPr>
              <a:t>–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Monotype Corsiva"/>
              </a:rPr>
              <a:t>(ADC – </a:t>
            </a:r>
            <a:r>
              <a:rPr b="0" lang="ru-RU" sz="2400" spc="-1" strike="noStrike">
                <a:solidFill>
                  <a:srgbClr val="ff3399"/>
                </a:solidFill>
                <a:latin typeface="Monotype Corsiva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Monotype Corsiva"/>
              </a:rPr>
              <a:t>ABD,ABC,DBC -  </a:t>
            </a:r>
            <a:r>
              <a:rPr b="0" lang="ru-RU" sz="2400" spc="-1" strike="noStrike">
                <a:solidFill>
                  <a:srgbClr val="ff3399"/>
                </a:solidFill>
                <a:latin typeface="Monotype Corsiva"/>
              </a:rPr>
              <a:t>бок. гра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1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43280" y="333360"/>
          <a:ext cx="3504960" cy="6369120"/>
        </p:xfrm>
        <a:graphic>
          <a:graphicData uri="http://schemas.openxmlformats.org/drawingml/2006/table">
            <a:tbl>
              <a:tblPr/>
              <a:tblGrid>
                <a:gridCol w="1796760"/>
                <a:gridCol w="170820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b200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Правильный многогран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b200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Треуголь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ш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ёб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ней при верши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ина реб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ощадь полной поверх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ё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диус вписаной сф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диус описанной сф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гол наклона реб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гол наклона гр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645ad"/>
                          </a:solidFill>
                          <a:latin typeface="Arial"/>
                          <a:ea typeface="Arial"/>
                        </a:rPr>
                        <a:t>Точечная группа симмет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или 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i="1" lang="ru-RU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645ad"/>
                          </a:solidFill>
                          <a:latin typeface="Arial"/>
                          <a:ea typeface="Arial"/>
                        </a:rPr>
                        <a:t>Двойственный многогран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dc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траэд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5" name="" descr="4\,\!"/>
          <p:cNvPicPr/>
          <p:nvPr/>
        </p:nvPicPr>
        <p:blipFill>
          <a:blip r:embed="rId4"/>
          <a:stretch/>
        </p:blipFill>
        <p:spPr>
          <a:xfrm>
            <a:off x="5076720" y="83664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6\,\!"/>
          <p:cNvPicPr/>
          <p:nvPr/>
        </p:nvPicPr>
        <p:blipFill>
          <a:blip r:embed="rId5"/>
          <a:stretch/>
        </p:blipFill>
        <p:spPr>
          <a:xfrm>
            <a:off x="5076720" y="1052640"/>
            <a:ext cx="85680" cy="133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4\,\!"/>
          <p:cNvPicPr/>
          <p:nvPr/>
        </p:nvPicPr>
        <p:blipFill>
          <a:blip r:embed="rId6"/>
          <a:stretch/>
        </p:blipFill>
        <p:spPr>
          <a:xfrm>
            <a:off x="5076720" y="1268280"/>
            <a:ext cx="95400" cy="142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3\,\!"/>
          <p:cNvPicPr/>
          <p:nvPr/>
        </p:nvPicPr>
        <p:blipFill>
          <a:blip r:embed="rId7"/>
          <a:stretch/>
        </p:blipFill>
        <p:spPr>
          <a:xfrm>
            <a:off x="5076720" y="1484280"/>
            <a:ext cx="85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\,\!"/>
          <p:cNvPicPr/>
          <p:nvPr/>
        </p:nvPicPr>
        <p:blipFill>
          <a:blip r:embed="rId8"/>
          <a:stretch/>
        </p:blipFill>
        <p:spPr>
          <a:xfrm>
            <a:off x="5076720" y="1773360"/>
            <a:ext cx="95400" cy="85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\sqrt3a^2\,\!"/>
          <p:cNvPicPr/>
          <p:nvPr/>
        </p:nvPicPr>
        <p:blipFill>
          <a:blip r:embed="rId9"/>
          <a:stretch/>
        </p:blipFill>
        <p:spPr>
          <a:xfrm>
            <a:off x="5219640" y="2060640"/>
            <a:ext cx="409680" cy="199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\frac{\sqrt2}{12}a^3"/>
          <p:cNvPicPr/>
          <p:nvPr/>
        </p:nvPicPr>
        <p:blipFill>
          <a:blip r:embed="rId10"/>
          <a:stretch/>
        </p:blipFill>
        <p:spPr>
          <a:xfrm>
            <a:off x="5148360" y="2492280"/>
            <a:ext cx="438120" cy="428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\frac{\sqrt6}{3}a"/>
          <p:cNvPicPr/>
          <p:nvPr/>
        </p:nvPicPr>
        <p:blipFill>
          <a:blip r:embed="rId11"/>
          <a:stretch/>
        </p:blipFill>
        <p:spPr>
          <a:xfrm>
            <a:off x="5148360" y="3068640"/>
            <a:ext cx="371520" cy="419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\frac{\sqrt6}{12}a"/>
          <p:cNvPicPr/>
          <p:nvPr/>
        </p:nvPicPr>
        <p:blipFill>
          <a:blip r:embed="rId12"/>
          <a:stretch/>
        </p:blipFill>
        <p:spPr>
          <a:xfrm>
            <a:off x="5003640" y="3716280"/>
            <a:ext cx="371520" cy="428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\frac{\sqrt6}{4}a"/>
          <p:cNvPicPr/>
          <p:nvPr/>
        </p:nvPicPr>
        <p:blipFill>
          <a:blip r:embed="rId13"/>
          <a:stretch/>
        </p:blipFill>
        <p:spPr>
          <a:xfrm>
            <a:off x="5076720" y="4365720"/>
            <a:ext cx="371520" cy="428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\arctan\sqrt2\approx\frac{7}{23}\pi"/>
          <p:cNvPicPr/>
          <p:nvPr/>
        </p:nvPicPr>
        <p:blipFill>
          <a:blip r:embed="rId14"/>
          <a:stretch/>
        </p:blipFill>
        <p:spPr>
          <a:xfrm>
            <a:off x="4716360" y="5013360"/>
            <a:ext cx="1390680" cy="390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\arctan2\sqrt2\approx\frac{29}{74}\pi"/>
          <p:cNvPicPr/>
          <p:nvPr/>
        </p:nvPicPr>
        <p:blipFill>
          <a:blip r:embed="rId15"/>
          <a:stretch/>
        </p:blipFill>
        <p:spPr>
          <a:xfrm>
            <a:off x="4643280" y="5661000"/>
            <a:ext cx="148608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\bar{4}3m\,"/>
          <p:cNvPicPr/>
          <p:nvPr/>
        </p:nvPicPr>
        <p:blipFill>
          <a:blip r:embed="rId16"/>
          <a:stretch/>
        </p:blipFill>
        <p:spPr>
          <a:xfrm>
            <a:off x="4788000" y="6165720"/>
            <a:ext cx="3427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Monotype Corsiva"/>
              </a:rPr>
              <a:t>Вид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92280"/>
            <a:ext cx="7777080" cy="5976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равногранный тетраэдр</a:t>
            </a:r>
            <a:r>
              <a:rPr b="0" lang="ru-RU" sz="2800" spc="-1" strike="noStrike">
                <a:solidFill>
                  <a:srgbClr val="ff3399"/>
                </a:solidFill>
                <a:latin typeface="Monotype Corsiva"/>
              </a:rPr>
              <a:t>, у которого все грани - равные между собой треугольн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ортоцентрический тетраэдр</a:t>
            </a:r>
            <a:r>
              <a:rPr b="0" lang="ru-RU" sz="2800" spc="-1" strike="noStrike">
                <a:solidFill>
                  <a:srgbClr val="ff3399"/>
                </a:solidFill>
                <a:latin typeface="Monotype Corsiva"/>
              </a:rPr>
              <a:t>, у которого все высоты, опущенные из вершин на противоположные грани, пересекаются в одной точк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прямоугольный тетраэдр</a:t>
            </a:r>
            <a:r>
              <a:rPr b="0" lang="ru-RU" sz="2800" spc="-1" strike="noStrike">
                <a:solidFill>
                  <a:srgbClr val="ff3399"/>
                </a:solidFill>
                <a:latin typeface="Monotype Corsiva"/>
              </a:rPr>
              <a:t>, у которого все ребра, прилежащие к одной из вершин, перпендикулярны между собо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правильный тетраэдр</a:t>
            </a:r>
            <a:r>
              <a:rPr b="0" lang="ru-RU" sz="2800" spc="-1" strike="noStrike">
                <a:solidFill>
                  <a:srgbClr val="ff3399"/>
                </a:solidFill>
                <a:latin typeface="Monotype Corsiva"/>
              </a:rPr>
              <a:t>, у которого все грани - равносторонние треугольн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каркасный тетраэдр</a:t>
            </a:r>
            <a:r>
              <a:rPr b="0" lang="ru-RU" sz="2800" spc="-1" strike="noStrike">
                <a:solidFill>
                  <a:srgbClr val="ff3399"/>
                </a:solidFill>
                <a:latin typeface="Monotype Corsiva"/>
              </a:rPr>
              <a:t>, для которого существует сфера, касающаяся всех его ребер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Monotype Corsiva"/>
              </a:rPr>
              <a:t>инцентрический тетраэдр</a:t>
            </a:r>
            <a:r>
              <a:rPr b="0" lang="ru-RU" sz="2800" spc="-1" strike="noStrike">
                <a:solidFill>
                  <a:srgbClr val="ff3399"/>
                </a:solidFill>
                <a:latin typeface="Monotype Corsiva"/>
              </a:rPr>
              <a:t>, у которого отрезки, соединяющие вершины тетраэдра с центрами окружностей, вписанных в противоположные грани, пересекаются в одной точ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6769080" cy="4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Monotype Corsiva"/>
              </a:rPr>
              <a:t>Свойств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4360" y="404280"/>
            <a:ext cx="7704000" cy="6264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Все медианы тетраэдра пересекаются в одной точке. Эта точка делит медианы в отношении 3:1, считая от вершины</a:t>
            </a:r>
            <a:r>
              <a:rPr b="0" lang="en-US" sz="3100" spc="-1" strike="noStrike">
                <a:solidFill>
                  <a:srgbClr val="ff3399"/>
                </a:solidFill>
                <a:latin typeface="Monotype Corsiv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Отрезок, соединяющий вершину тетраэдра с точкой пересечения медиан противоположной грани, называется его медианой, опущенной из данной вершины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Отрезок, соединяющий середины скрещивающихся рёбер тетраэдра, называется его бимедианой, соединяющей данные рёбра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90000"/>
              </a:lnSpc>
              <a:spcBef>
                <a:spcPts val="77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Отрезок, соединяющий вершину с точкой противоположной грани и перпендикулярный этой грани, называется его высотой, опущенной из данной вершины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Monotype Corsiva"/>
              </a:rPr>
              <a:t>Тетраэдр в жизни</a:t>
            </a:r>
            <a:r>
              <a:rPr b="0" lang="en-US" sz="4000" spc="-1" strike="noStrike">
                <a:solidFill>
                  <a:srgbClr val="000000"/>
                </a:solidFill>
                <a:latin typeface="Beti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836640"/>
            <a:ext cx="8351640" cy="5616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99"/>
                </a:solidFill>
                <a:latin typeface="Monotype Corsiva"/>
              </a:rPr>
              <a:t>Тетраэдр в химии</a:t>
            </a:r>
            <a:r>
              <a:rPr b="1" lang="en-US" sz="3100" spc="-1" strike="noStrike">
                <a:solidFill>
                  <a:srgbClr val="ff3399"/>
                </a:solidFill>
                <a:latin typeface="Monotype Corsiv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3399"/>
                </a:solidFill>
                <a:latin typeface="Monotype Corsiva"/>
              </a:rPr>
              <a:t>  </a:t>
            </a: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Вода, Лёд, Н2О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  </a:t>
            </a: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Молекула метана СН4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  </a:t>
            </a: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Молекула аммиака NH3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  </a:t>
            </a: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Алмаз C - тетраэдр с ребром равным 2,5220  ангстрем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99"/>
                </a:solidFill>
                <a:latin typeface="Monotype Corsiva"/>
              </a:rPr>
              <a:t>Тетраэдры в технике</a:t>
            </a:r>
            <a:r>
              <a:rPr b="1" lang="en-US" sz="3100" spc="-1" strike="noStrike">
                <a:solidFill>
                  <a:srgbClr val="ff3399"/>
                </a:solidFill>
                <a:latin typeface="Monotype Corsiv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  </a:t>
            </a: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Граф четверичного триггера представляет собой тетраэдр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99"/>
                </a:solidFill>
                <a:latin typeface="Monotype Corsiva"/>
              </a:rPr>
              <a:t>Тетраэдр, выполненный из стержней, часто используется в качестве основы для пространственных несущих конструкций пролётов зданий, перекрытий, балок, ферм мостов и т.д. Стержни испытывают только продольные нагрузки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24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15367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985080" cy="597240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15362" descr="одиночный тетраэдр"/>
          <p:cNvPicPr/>
          <p:nvPr/>
        </p:nvPicPr>
        <p:blipFill>
          <a:blip r:embed="rId2"/>
          <a:stretch/>
        </p:blipFill>
        <p:spPr>
          <a:xfrm>
            <a:off x="1619280" y="2060640"/>
            <a:ext cx="6912000" cy="31446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4101" descr=""/>
          <p:cNvPicPr/>
          <p:nvPr/>
        </p:nvPicPr>
        <p:blipFill>
          <a:blip r:embed="rId3"/>
          <a:stretch/>
        </p:blipFill>
        <p:spPr>
          <a:xfrm>
            <a:off x="2811600" y="260280"/>
            <a:ext cx="4813200" cy="590544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4103" descr="Звёздчатый тетраэдр"/>
          <p:cNvPicPr/>
          <p:nvPr/>
        </p:nvPicPr>
        <p:blipFill>
          <a:blip r:embed="rId4"/>
          <a:stretch/>
        </p:blipFill>
        <p:spPr>
          <a:xfrm>
            <a:off x="1763640" y="476280"/>
            <a:ext cx="5864400" cy="5904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15369" descr=""/>
          <p:cNvPicPr/>
          <p:nvPr/>
        </p:nvPicPr>
        <p:blipFill>
          <a:blip r:embed="rId5"/>
          <a:stretch/>
        </p:blipFill>
        <p:spPr>
          <a:xfrm>
            <a:off x="3276720" y="141300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38:20Z</dcterms:created>
  <dc:creator>Богданова</dc:creator>
  <dc:description/>
  <dc:language>en-US</dc:language>
  <cp:lastModifiedBy>Богданова</cp:lastModifiedBy>
  <dcterms:modified xsi:type="dcterms:W3CDTF">2011-12-26T12:57:59Z</dcterms:modified>
  <cp:revision>2</cp:revision>
  <dc:subject/>
  <dc:title>Тетраэдр</dc:title>
</cp:coreProperties>
</file>