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157-ECEC-40FA-A736-6B307A50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063-3E15-4775-9234-5ADEF7E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062-BB82-4B13-8251-05CE917F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C05-C6F8-4F95-8B2C-885ABD47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D6E-D025-4F29-984F-3161FB03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E94-7AA6-4654-9433-13C79843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FBC2-880F-400C-881F-41F7F66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CB23-8978-4D00-AF64-3255BB20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AEAB-6C09-4C31-8A99-7BB03AD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9894-BE65-4848-82CC-5722BCC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0C6D-F223-41DA-8C00-EEBC32C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701-98F0-46B9-A41F-B5AAE65A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32B-504F-4E4E-A699-5E2E462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F44-6DDA-4F8B-8CB2-50BB3F1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BB4C-381C-4FF6-B2E8-A3F0887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2ADD-DC86-443D-A7BE-533FCB40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3C9-F10A-41E8-83E7-C701A964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28-7D37-4DFA-B8EE-D78DFFD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FE8-E4E4-4526-9D0F-D8F64106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27E-4216-45A7-9AE0-F46C918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ADC-7D9A-49F5-87FD-EB5D1FC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CF5-2421-459E-BB19-76D7787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D47-CA34-4F3C-BD64-4DAC7F56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A36-F5CE-4B18-B7B5-6F9BCF0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ccffcc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8E29-14A7-4B72-BB59-539110A9D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ccffcc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cee9f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cee9fa"/>
              </a:gs>
              <a:gs pos="50000">
                <a:srgbClr val="ffffff"/>
              </a:gs>
              <a:gs pos="100000">
                <a:srgbClr val="cee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539C-C89F-49BB-BFE9-E9DAFD30762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981000"/>
            <a:ext cx="70167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br>
              <a:rPr sz="8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Шишкина Надежда Павловна,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физики и информатики, высшая квалификационная категория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КОУ Медяковская СОШ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08000" y="2708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7 класс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6E3-4041-4A50-9AEE-0F9AD5EC0CE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8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1. Сила  является мерой…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A. … изменения скорости тела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Б. … взаимодействия тел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B. … инертности тела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Г. … движения тела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2. Сила на чертеже изображается …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A. … отрезком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Б. … направленным отрезком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B. … прямой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Г. … верны все ответы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3. Результат действия силы зависит…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A. … от точки приложения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Б. … от направления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B. … от численного значения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Г. … верны все ответы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4. Единица измерения силы…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А. … кг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Б. … Н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. … Н\кг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Г. … кг\м3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5. Сила  направлена …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A. … противоположно движению тела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Б. … влево или вправо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B. … вертикально вниз.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Г. …. Возможны все варианты ответов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66C-5FF1-4429-A8C2-84D11B4BAB37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омашнее задание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§23, вопросы после параграф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77A6-1AB2-44FD-945B-D64899EEE934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0" y="836640"/>
            <a:ext cx="9144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ccffcc"/>
                  </a:solidFill>
                  <a:miter/>
                </a:ln>
                <a:solidFill>
                  <a:srgbClr val="00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cap="sq" w="12600">
                <a:solidFill>
                  <a:srgbClr val="ccffcc"/>
                </a:solidFill>
                <a:miter/>
              </a:ln>
              <a:solidFill>
                <a:srgbClr val="00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ED5-347F-485B-979F-DD7821089D2C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"Как это удивительно – обнаружить, что все явления природы управляются небольшим числом сил!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3500280"/>
            <a:ext cx="39574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М.Фарадей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F67-008C-40F2-ABDC-5A0273A3E184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нтрольные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1.Что является причиной изменения скорости тела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2.Что называется силой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3.Что надо знать о силе, как физической величине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7" name="Picture 7" descr="А12"/>
          <p:cNvPicPr/>
          <p:nvPr/>
        </p:nvPicPr>
        <p:blipFill>
          <a:blip r:embed="rId1"/>
          <a:stretch/>
        </p:blipFill>
        <p:spPr>
          <a:xfrm>
            <a:off x="6012000" y="386064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02A1-77FB-4A86-93F5-D33795F44159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лой называется векторная величина, характеризующая меру взаимодействия тел между собой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7" descr="30"/>
          <p:cNvPicPr/>
          <p:nvPr/>
        </p:nvPicPr>
        <p:blipFill>
          <a:blip r:embed="rId1"/>
          <a:stretch/>
        </p:blipFill>
        <p:spPr>
          <a:xfrm>
            <a:off x="2987640" y="4005360"/>
            <a:ext cx="320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75A-365F-4B83-950C-CBDE3B5D58B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8469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ла, как любая векторная величина характеризуется числовым значением и направлением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ычно направление силы указывают стрелко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лу принято обозначать буквой F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А12"/>
          <p:cNvPicPr/>
          <p:nvPr/>
        </p:nvPicPr>
        <p:blipFill>
          <a:blip r:embed="rId1"/>
          <a:stretch/>
        </p:blipFill>
        <p:spPr>
          <a:xfrm>
            <a:off x="6012000" y="386064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8A40-E2FF-41E6-AE4B-A31A328A9D14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84692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кН= 1000Н= 0,001мН =1000000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8" descr="30"/>
          <p:cNvPicPr/>
          <p:nvPr/>
        </p:nvPicPr>
        <p:blipFill>
          <a:blip r:embed="rId1"/>
          <a:stretch/>
        </p:blipFill>
        <p:spPr>
          <a:xfrm>
            <a:off x="3276720" y="3429000"/>
            <a:ext cx="3203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EA5-4623-4F1B-8F3C-D882F9F1A07E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38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н-памятка изучения физических величи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1.   Какое свойство или явление характеризует данная величина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2.   Определение величины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3.   Определительная формула, выражающая связь данной величины с другими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4.   Физический смысл величины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5.   Единицы измерения величины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6.   Способы измерения величины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7.   Возможная графическая интерпретация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5146-656F-4DC5-BFDC-DCA085A6C1E8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судить ответы на вопрос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Что является причиной изменения скорости тела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Что не указывают, когда говорят, что на тело действует сила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иведите примеры изменения скорости отдельных частей тела под действием силы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Чем характеризуется сила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каком случае требуется большая сила для одинакового изменения скорости: для приведения в движение автомобиля «КАМаз» или автомобиля «Жигули»? Почему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 два  разных тела действовала одна и та же сила. Скорость первого тела изменилась меньше, чем второго, Сравните массы тел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650-296F-4DD3-8426-0E6362256BCA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шить 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Чему равна сила, действующая на тело?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Чему равны величины сил     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1 и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образите графически силу 20 Н ( масштаб : 1 см- 5 Н), направленную горизонтально вправо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образите графически силу 48 Н ( масштаб : 1 см- 10 Н), направленную вертикально вниз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536840" y="2341440"/>
            <a:ext cx="2286000" cy="457200"/>
            <a:chOff x="1536840" y="2341440"/>
            <a:chExt cx="2286000" cy="457200"/>
          </a:xfrm>
        </p:grpSpPr>
        <p:sp>
          <p:nvSpPr>
            <p:cNvPr id="127" name="Oval 5"/>
            <p:cNvSpPr/>
            <p:nvPr/>
          </p:nvSpPr>
          <p:spPr>
            <a:xfrm>
              <a:off x="1536840" y="2341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94040" y="2570040"/>
              <a:ext cx="1828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>
              <a:off x="2336760" y="2455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>
              <a:off x="2793960" y="2455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3251160" y="2455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132" name="Group 16"/>
          <p:cNvGrpSpPr/>
          <p:nvPr/>
        </p:nvGrpSpPr>
        <p:grpSpPr>
          <a:xfrm>
            <a:off x="1308240" y="3336840"/>
            <a:ext cx="3657600" cy="914040"/>
            <a:chOff x="1308240" y="3336840"/>
            <a:chExt cx="3657600" cy="914040"/>
          </a:xfrm>
        </p:grpSpPr>
        <p:grpSp>
          <p:nvGrpSpPr>
            <p:cNvPr id="133" name="Group 17"/>
            <p:cNvGrpSpPr/>
            <p:nvPr/>
          </p:nvGrpSpPr>
          <p:grpSpPr>
            <a:xfrm>
              <a:off x="1308240" y="3336840"/>
              <a:ext cx="3657600" cy="343080"/>
              <a:chOff x="1308240" y="3336840"/>
              <a:chExt cx="3657600" cy="343080"/>
            </a:xfrm>
          </p:grpSpPr>
          <p:sp>
            <p:nvSpPr>
              <p:cNvPr id="134" name="Rectangle 18"/>
              <p:cNvSpPr/>
              <p:nvPr/>
            </p:nvSpPr>
            <p:spPr>
              <a:xfrm>
                <a:off x="1308240" y="3336840"/>
                <a:ext cx="45720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19"/>
              <p:cNvSpPr/>
              <p:nvPr/>
            </p:nvSpPr>
            <p:spPr>
              <a:xfrm>
                <a:off x="1765440" y="3450960"/>
                <a:ext cx="3200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20"/>
              <p:cNvSpPr/>
              <p:nvPr/>
            </p:nvSpPr>
            <p:spPr>
              <a:xfrm>
                <a:off x="2336760" y="3336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21"/>
              <p:cNvSpPr/>
              <p:nvPr/>
            </p:nvSpPr>
            <p:spPr>
              <a:xfrm>
                <a:off x="2908440" y="3336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22"/>
              <p:cNvSpPr/>
              <p:nvPr/>
            </p:nvSpPr>
            <p:spPr>
              <a:xfrm>
                <a:off x="3594240" y="3336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23"/>
              <p:cNvSpPr/>
              <p:nvPr/>
            </p:nvSpPr>
            <p:spPr>
              <a:xfrm>
                <a:off x="4280040" y="3336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4"/>
            <p:cNvGrpSpPr/>
            <p:nvPr/>
          </p:nvGrpSpPr>
          <p:grpSpPr>
            <a:xfrm>
              <a:off x="1308240" y="3908160"/>
              <a:ext cx="2286000" cy="342720"/>
              <a:chOff x="1308240" y="3908160"/>
              <a:chExt cx="2286000" cy="342720"/>
            </a:xfrm>
          </p:grpSpPr>
          <p:sp>
            <p:nvSpPr>
              <p:cNvPr id="141" name="Rectangle 25"/>
              <p:cNvSpPr/>
              <p:nvPr/>
            </p:nvSpPr>
            <p:spPr>
              <a:xfrm>
                <a:off x="1308240" y="3908160"/>
                <a:ext cx="4572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26"/>
              <p:cNvSpPr/>
              <p:nvPr/>
            </p:nvSpPr>
            <p:spPr>
              <a:xfrm>
                <a:off x="1765440" y="4022280"/>
                <a:ext cx="1828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27"/>
              <p:cNvSpPr/>
              <p:nvPr/>
            </p:nvSpPr>
            <p:spPr>
              <a:xfrm>
                <a:off x="2336760" y="39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28"/>
              <p:cNvSpPr/>
              <p:nvPr/>
            </p:nvSpPr>
            <p:spPr>
              <a:xfrm>
                <a:off x="2908440" y="39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5:20:28Z</dcterms:created>
  <dc:creator>Vadim</dc:creator>
  <dc:description/>
  <dc:language>en-US</dc:language>
  <cp:lastModifiedBy>Андрей</cp:lastModifiedBy>
  <dcterms:modified xsi:type="dcterms:W3CDTF">2015-03-01T04:04:29Z</dcterms:modified>
  <cp:revision>30</cp:revision>
  <dc:subject/>
  <dc:title>Обычное в необычном</dc:title>
</cp:coreProperties>
</file>