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FE8-1107-4FDA-9EB4-F9841904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7B6-D1CF-4389-A2FF-B4F45848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966-FF86-4661-841B-73F5311A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C45-12A0-4BED-B9AA-D7A4169F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4C5C-EE35-4F60-9C33-4003A00A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2CE6-89E4-4272-98BD-48FD5E69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AC12-EC4B-4C38-816B-1A17A60D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5D90-F4BF-4DD4-B016-42A6A7E7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29D6-E53B-449A-A456-B8ECB35E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E260-8A5E-4B0C-A893-078BD635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4844-FB06-41A5-B74C-691ED6E9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225-A22C-4F99-BC3A-B099716C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60B3-2A00-460F-81A2-535F218A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E73C-A9CA-499F-BA8D-BC522116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3906-B9B0-4B13-B010-08CC00CB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A5C4-6953-4D2D-ABE4-734C69D4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75C8-B2EF-4727-B31D-6279C8CC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3F6-F8A8-467F-92B2-6D6104C8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D0A-4C75-47C5-B183-94C796AB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B21-B642-4459-B325-176A83BB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F37-A440-4557-9B00-6BF1829A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0DA-CE7E-42E4-9975-8CC1970E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712-4642-4C92-86C4-144B50A4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82B-BF9F-4DDF-BD44-52DA41D6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4646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46468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46468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33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33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80B1-59FF-4ECC-B9BD-2F4F627E5872}" type="slidenum">
              <a:rPr b="0" lang="en-US" sz="12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8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1D4F-6E2F-40E4-8EF5-5F3FF40C7693}" type="slidenum">
              <a:rPr b="0" lang="en-US" sz="12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33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46468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33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46468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33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33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33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33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260280"/>
            <a:ext cx="70167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8c"/>
                </a:solidFill>
                <a:latin typeface="Arial"/>
              </a:rPr>
              <a:t>Явление тяготения. </a:t>
            </a:r>
            <a:br>
              <a:rPr sz="4000"/>
            </a:br>
            <a:r>
              <a:rPr b="1" lang="en-US" sz="4000" spc="-1" strike="noStrike">
                <a:solidFill>
                  <a:srgbClr val="46468c"/>
                </a:solidFill>
                <a:latin typeface="Arial"/>
              </a:rPr>
              <a:t>Сила тяжести.</a:t>
            </a:r>
            <a:br>
              <a:rPr sz="4000"/>
            </a:br>
            <a:endParaRPr b="0" lang="en-US" sz="40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Verdana"/>
              </a:rPr>
              <a:t>Учитель:</a:t>
            </a:r>
            <a:endParaRPr b="0" lang="en-US" sz="2100" spc="-1" strike="noStrike">
              <a:solidFill>
                <a:srgbClr val="0033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Verdana"/>
              </a:rPr>
              <a:t>Шишкина Надежда Павловна, </a:t>
            </a:r>
            <a:endParaRPr b="0" lang="en-US" sz="2100" spc="-1" strike="noStrike">
              <a:solidFill>
                <a:srgbClr val="0033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Verdana"/>
              </a:rPr>
              <a:t>учитель физики и информатики, </a:t>
            </a:r>
            <a:endParaRPr b="0" lang="en-US" sz="2100" spc="-1" strike="noStrike">
              <a:solidFill>
                <a:srgbClr val="0033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Verdana"/>
              </a:rPr>
              <a:t>I</a:t>
            </a:r>
            <a:r>
              <a:rPr b="0" lang="ru-RU" sz="2100" spc="-1" strike="noStrike">
                <a:solidFill>
                  <a:srgbClr val="003300"/>
                </a:solidFill>
                <a:latin typeface="Verdana"/>
              </a:rPr>
              <a:t> квалификационная категория,</a:t>
            </a:r>
            <a:endParaRPr b="0" lang="en-US" sz="2100" spc="-1" strike="noStrike">
              <a:solidFill>
                <a:srgbClr val="0033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Verdana"/>
              </a:rPr>
              <a:t>МОУ Медяковская СОШ</a:t>
            </a:r>
            <a:endParaRPr b="0" lang="en-US" sz="21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270828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7 клас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785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8c"/>
                </a:solidFill>
                <a:latin typeface="Arial"/>
              </a:rPr>
              <a:t>Как зависит сила тяжести, действующая на тело , от массы тела?</a:t>
            </a:r>
            <a:r>
              <a:rPr b="0" lang="en-US" sz="2000" spc="-1" strike="noStrike">
                <a:solidFill>
                  <a:srgbClr val="46468c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4646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Verdana"/>
              </a:rPr>
              <a:t>Задание 1.</a:t>
            </a:r>
            <a:r>
              <a:rPr b="0" lang="ru-RU" sz="1500" spc="-1" strike="noStrike">
                <a:solidFill>
                  <a:srgbClr val="003300"/>
                </a:solidFill>
                <a:latin typeface="Verdana"/>
              </a:rPr>
              <a:t> Определить цену деления, пределы измерения и погрешность динамометра. </a:t>
            </a:r>
            <a:endParaRPr b="0" lang="en-US" sz="15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4646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Verdana"/>
              </a:rPr>
              <a:t>Задание 2.</a:t>
            </a:r>
            <a:r>
              <a:rPr b="0" lang="ru-RU" sz="1500" spc="-1" strike="noStrike">
                <a:solidFill>
                  <a:srgbClr val="003300"/>
                </a:solidFill>
                <a:latin typeface="Verdana"/>
              </a:rPr>
              <a:t> Измерить силу тяжести, действующую на грузы массой 0,1кг, 0,2кг, 0,3 кг, 0,4кг. </a:t>
            </a:r>
            <a:endParaRPr b="0" lang="en-US" sz="15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4646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Verdana"/>
              </a:rPr>
              <a:t>Задание 3.</a:t>
            </a:r>
            <a:r>
              <a:rPr b="0" lang="ru-RU" sz="1500" spc="-1" strike="noStrike">
                <a:solidFill>
                  <a:srgbClr val="003300"/>
                </a:solidFill>
                <a:latin typeface="Verdana"/>
              </a:rPr>
              <a:t> Заполнить таблицу. </a:t>
            </a:r>
            <a:endParaRPr b="0" lang="en-US" sz="15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3300"/>
                </a:solidFill>
                <a:latin typeface="Verdana"/>
              </a:rPr>
              <a:t>                  </a:t>
            </a:r>
            <a:r>
              <a:rPr b="1" i="1" lang="ru-RU" sz="1500" spc="-1" strike="noStrike">
                <a:solidFill>
                  <a:srgbClr val="003300"/>
                </a:solidFill>
                <a:latin typeface="Verdana"/>
              </a:rPr>
              <a:t>Ответить на вопросы:</a:t>
            </a:r>
            <a:endParaRPr b="0" lang="en-US" sz="15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00"/>
                </a:solidFill>
                <a:latin typeface="Verdana"/>
              </a:rPr>
              <a:t>1) Что происходит с силой тяжести по мере увеличения массы груза? </a:t>
            </a:r>
            <a:endParaRPr b="0" lang="en-US" sz="15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00"/>
                </a:solidFill>
                <a:latin typeface="Verdana"/>
              </a:rPr>
              <a:t>2) При увеличении массы груза в 2 раза, сила тяжести увеличилась в … раза</a:t>
            </a:r>
            <a:endParaRPr b="0" lang="en-US" sz="15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00"/>
                </a:solidFill>
                <a:latin typeface="Verdana"/>
              </a:rPr>
              <a:t>3) При уменьшении массы груза в 3 раза сила тяжести ….. в … раза</a:t>
            </a:r>
            <a:endParaRPr b="0" lang="en-US" sz="15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00"/>
                </a:solidFill>
                <a:latin typeface="Verdana"/>
              </a:rPr>
              <a:t>4) Как называется такая зависимость в математике? </a:t>
            </a:r>
            <a:endParaRPr b="0" lang="en-US" sz="15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4646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Verdana"/>
              </a:rPr>
              <a:t>Задание 4.</a:t>
            </a:r>
            <a:r>
              <a:rPr b="0" lang="ru-RU" sz="15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00"/>
                </a:solidFill>
                <a:latin typeface="Verdana"/>
              </a:rPr>
              <a:t>     </a:t>
            </a:r>
            <a:r>
              <a:rPr b="0" lang="ru-RU" sz="1500" spc="-1" strike="noStrike">
                <a:solidFill>
                  <a:srgbClr val="003300"/>
                </a:solidFill>
                <a:latin typeface="Verdana"/>
              </a:rPr>
              <a:t>1.Построить график зависимости силы тяжести от массы тела Fт (m).</a:t>
            </a:r>
            <a:endParaRPr b="0" lang="en-US" sz="15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00"/>
                </a:solidFill>
                <a:latin typeface="Verdana"/>
              </a:rPr>
              <a:t>      </a:t>
            </a:r>
            <a:r>
              <a:rPr b="0" lang="ru-RU" sz="1500" spc="-1" strike="noStrike">
                <a:solidFill>
                  <a:srgbClr val="003300"/>
                </a:solidFill>
                <a:latin typeface="Verdana"/>
              </a:rPr>
              <a:t>2.Ответить на вопрос:</a:t>
            </a:r>
            <a:endParaRPr b="0" lang="en-US" sz="15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00"/>
                </a:solidFill>
                <a:latin typeface="Verdana"/>
              </a:rPr>
              <a:t>      </a:t>
            </a:r>
            <a:r>
              <a:rPr b="0" lang="ru-RU" sz="1500" spc="-1" strike="noStrike">
                <a:solidFill>
                  <a:srgbClr val="003300"/>
                </a:solidFill>
                <a:latin typeface="Verdana"/>
              </a:rPr>
              <a:t>Что представляет собой этот график?</a:t>
            </a:r>
            <a:endParaRPr b="0" lang="en-US" sz="15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Алгоритм построения силы тяжести на чертеже</a:t>
            </a:r>
            <a:endParaRPr b="0" lang="en-US" sz="24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6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указать точку приложения силы (центр масс тела);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646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построить перпендикуляр к поверхности Земли;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646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направить стрелку вниз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324000" y="333360"/>
            <a:ext cx="8569080" cy="6191280"/>
            <a:chOff x="324000" y="333360"/>
            <a:chExt cx="8569080" cy="6191280"/>
          </a:xfrm>
        </p:grpSpPr>
        <p:grpSp>
          <p:nvGrpSpPr>
            <p:cNvPr id="120" name=""/>
            <p:cNvGrpSpPr/>
            <p:nvPr/>
          </p:nvGrpSpPr>
          <p:grpSpPr>
            <a:xfrm>
              <a:off x="324000" y="333360"/>
              <a:ext cx="8569080" cy="4838400"/>
              <a:chOff x="324000" y="333360"/>
              <a:chExt cx="8569080" cy="483840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324000" y="3865320"/>
                <a:ext cx="8569080" cy="352080"/>
                <a:chOff x="324000" y="3865320"/>
                <a:chExt cx="8569080" cy="3520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24000" y="3865320"/>
                  <a:ext cx="8569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2400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600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28000" y="3865320"/>
                  <a:ext cx="25164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08000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3200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58400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836000" y="3865320"/>
                  <a:ext cx="25164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08800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4000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9200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844360" y="3865320"/>
                  <a:ext cx="25164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09600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34800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60036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10400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52360" y="3865320"/>
                  <a:ext cx="25164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35636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60836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60360" y="3865320"/>
                  <a:ext cx="25164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11236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36436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1636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868720" y="3865320"/>
                  <a:ext cx="25164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12036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37236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62472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876720" y="3865320"/>
                  <a:ext cx="25164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12836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8072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3272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884720" y="3865320"/>
                  <a:ext cx="25164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13672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38872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640720" y="3865320"/>
                  <a:ext cx="252000" cy="352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2844000" y="333360"/>
                <a:ext cx="3276360" cy="3531960"/>
              </a:xfrm>
              <a:prstGeom prst="rect">
                <a:avLst/>
              </a:prstGeom>
              <a:solidFill>
                <a:srgbClr val="ccfff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4399920" y="1952640"/>
                <a:ext cx="6840" cy="3219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073120" y="4339440"/>
              <a:ext cx="1548360" cy="2185200"/>
              <a:chOff x="5073120" y="4339440"/>
              <a:chExt cx="1548360" cy="2185200"/>
            </a:xfrm>
          </p:grpSpPr>
          <p:sp>
            <p:nvSpPr>
              <p:cNvPr id="160" name=""/>
              <p:cNvSpPr txBox="1"/>
              <p:nvPr/>
            </p:nvSpPr>
            <p:spPr>
              <a:xfrm>
                <a:off x="5268240" y="4593960"/>
                <a:ext cx="1157760" cy="1888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1" strike="noStrike">
                    <a:ln w="7632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F </a:t>
                </a:r>
                <a:endParaRPr b="0" lang="en-US" sz="6000" spc="1" strike="noStrike">
                  <a:ln w="7632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6050880" y="5612400"/>
                <a:ext cx="570600" cy="912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7632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т</a:t>
                </a:r>
                <a:endParaRPr b="0" lang="en-US" sz="1800" spc="1" strike="noStrike">
                  <a:ln w="7632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73120" y="4339440"/>
                <a:ext cx="1369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19796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87280" y="1484280"/>
                <a:ext cx="7201080" cy="27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708360" y="4508640"/>
            <a:ext cx="24480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Коэффициент пропорциональности между силой тяжести и массой тела –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называют ускорением свободного падения.</a:t>
            </a:r>
            <a:endParaRPr b="0" lang="en-US" sz="2400" spc="-1" strike="noStrike">
              <a:solidFill>
                <a:srgbClr val="46468c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03640" y="3357720"/>
            <a:ext cx="30240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0"/>
            <a:ext cx="9144000" cy="6165360"/>
            <a:chOff x="0" y="0"/>
            <a:chExt cx="9144000" cy="6165360"/>
          </a:xfrm>
        </p:grpSpPr>
        <p:grpSp>
          <p:nvGrpSpPr>
            <p:cNvPr id="170" name=""/>
            <p:cNvGrpSpPr/>
            <p:nvPr/>
          </p:nvGrpSpPr>
          <p:grpSpPr>
            <a:xfrm>
              <a:off x="0" y="0"/>
              <a:ext cx="9144000" cy="6165360"/>
              <a:chOff x="0" y="0"/>
              <a:chExt cx="9144000" cy="616536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0"/>
                <a:ext cx="9144000" cy="6156720"/>
              </a:xfrm>
              <a:prstGeom prst="flowChartExtract">
                <a:avLst/>
              </a:prstGeom>
              <a:solidFill>
                <a:srgbClr val="ccffcc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60480" y="3709800"/>
                <a:ext cx="4320" cy="2455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817280" y="3701520"/>
                <a:ext cx="55119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079720" y="1414440"/>
              <a:ext cx="4883040" cy="4451400"/>
              <a:chOff x="2079720" y="1414440"/>
              <a:chExt cx="4883040" cy="4451400"/>
            </a:xfrm>
          </p:grpSpPr>
          <p:sp>
            <p:nvSpPr>
              <p:cNvPr id="175" name=""/>
              <p:cNvSpPr txBox="1"/>
              <p:nvPr/>
            </p:nvSpPr>
            <p:spPr>
              <a:xfrm>
                <a:off x="3931920" y="1414440"/>
                <a:ext cx="1504800" cy="1981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1" strike="noStrike">
                    <a:ln w="9360">
                      <a:solidFill>
                        <a:srgbClr val="003300"/>
                      </a:solidFill>
                      <a:miter/>
                    </a:ln>
                    <a:solidFill>
                      <a:srgbClr val="ccffcc"/>
                    </a:solidFill>
                    <a:latin typeface="Times New Roman"/>
                  </a:rPr>
                  <a:t>F</a:t>
                </a:r>
                <a:endParaRPr b="0" lang="en-US" sz="66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ccffcc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2079720" y="3962160"/>
                <a:ext cx="1445400" cy="1903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1" strike="noStrike">
                    <a:ln w="9360">
                      <a:solidFill>
                        <a:srgbClr val="003300"/>
                      </a:solidFill>
                      <a:miter/>
                    </a:ln>
                    <a:solidFill>
                      <a:srgbClr val="ccffcc"/>
                    </a:solidFill>
                    <a:latin typeface="Times New Roman"/>
                  </a:rPr>
                  <a:t>m</a:t>
                </a:r>
                <a:endParaRPr b="0" lang="en-US" sz="66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ccffcc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5509440" y="3965400"/>
                <a:ext cx="1453320" cy="1894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1" strike="noStrike">
                    <a:ln w="9360">
                      <a:solidFill>
                        <a:srgbClr val="003300"/>
                      </a:solidFill>
                      <a:miter/>
                    </a:ln>
                    <a:solidFill>
                      <a:srgbClr val="ccffcc"/>
                    </a:solidFill>
                    <a:latin typeface="Times New Roman"/>
                  </a:rPr>
                  <a:t>g</a:t>
                </a:r>
                <a:endParaRPr b="0" lang="en-US" sz="66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ccffcc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620280"/>
            <a:ext cx="7313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8c"/>
                </a:solidFill>
                <a:latin typeface="Arial"/>
              </a:rPr>
              <a:t>Решение задач:</a:t>
            </a: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187164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1.На мопед МП-047 действует сила тяжести, равная 392 Н.какова масса мопеда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2.Определите силу тяжести , действующую на тело массой 600 г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3.Чему равна сила тяжести, действующая на зайца, волка, медведя, носорога, слона, если их массы соответственно равны: 6 кг, 40 кг, 400 кг, 2 т, 4 т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6468c"/>
                </a:solidFill>
                <a:latin typeface="Arial"/>
              </a:rPr>
              <a:t>1 вариант</a:t>
            </a:r>
            <a:br>
              <a:rPr sz="2000"/>
            </a:br>
            <a:r>
              <a:rPr b="0" lang="en-US" sz="2000" spc="-1" strike="noStrike">
                <a:solidFill>
                  <a:srgbClr val="46468c"/>
                </a:solidFill>
                <a:latin typeface="Arial"/>
              </a:rPr>
              <a:t>А. Сила тяжести увеличивается с увеличением массы тела.</a:t>
            </a:r>
            <a:br>
              <a:rPr sz="2000"/>
            </a:br>
            <a:r>
              <a:rPr b="0" lang="en-US" sz="2000" spc="-1" strike="noStrike">
                <a:solidFill>
                  <a:srgbClr val="46468c"/>
                </a:solidFill>
                <a:latin typeface="Arial"/>
              </a:rPr>
              <a:t>Б. Сила тяжести зависит от места наблюдения.</a:t>
            </a:r>
            <a:br>
              <a:rPr sz="2000"/>
            </a:br>
            <a:r>
              <a:rPr b="0" lang="en-US" sz="2000" spc="-1" strike="noStrike">
                <a:solidFill>
                  <a:srgbClr val="46468c"/>
                </a:solidFill>
                <a:latin typeface="Arial"/>
              </a:rPr>
              <a:t>В. Сила тяжести на Луне меньше, чем на Земле.</a:t>
            </a:r>
            <a:br>
              <a:rPr sz="2000"/>
            </a:br>
            <a:r>
              <a:rPr b="0" lang="en-US" sz="2000" spc="-1" strike="noStrike">
                <a:solidFill>
                  <a:srgbClr val="46468c"/>
                </a:solidFill>
                <a:latin typeface="Arial"/>
              </a:rPr>
              <a:t>Г. Сила тяжести уменьшается у тел, погруженных в воду.</a:t>
            </a:r>
            <a:br>
              <a:rPr sz="2000"/>
            </a:br>
            <a:r>
              <a:rPr b="0" lang="en-US" sz="2000" spc="-1" strike="noStrike">
                <a:solidFill>
                  <a:srgbClr val="46468c"/>
                </a:solidFill>
                <a:latin typeface="Arial"/>
              </a:rPr>
              <a:t>Д. Сила тяжести не действует на плавающие тела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46468c"/>
                </a:solidFill>
                <a:latin typeface="Arial"/>
              </a:rPr>
              <a:t>2 вариант.</a:t>
            </a:r>
            <a:br>
              <a:rPr sz="2000"/>
            </a:br>
            <a:r>
              <a:rPr b="0" lang="en-US" sz="2000" spc="-1" strike="noStrike">
                <a:solidFill>
                  <a:srgbClr val="46468c"/>
                </a:solidFill>
                <a:latin typeface="Arial"/>
              </a:rPr>
              <a:t>А. Сила тяжести измеряется динамометром.</a:t>
            </a:r>
            <a:br>
              <a:rPr sz="2000"/>
            </a:br>
            <a:r>
              <a:rPr b="0" lang="en-US" sz="2000" spc="-1" strike="noStrike">
                <a:solidFill>
                  <a:srgbClr val="46468c"/>
                </a:solidFill>
                <a:latin typeface="Arial"/>
              </a:rPr>
              <a:t>Б. Сила тяжести действует на любое тело.</a:t>
            </a:r>
            <a:br>
              <a:rPr sz="2000"/>
            </a:br>
            <a:r>
              <a:rPr b="0" lang="en-US" sz="2000" spc="-1" strike="noStrike">
                <a:solidFill>
                  <a:srgbClr val="46468c"/>
                </a:solidFill>
                <a:latin typeface="Arial"/>
              </a:rPr>
              <a:t>В. Сила тяжести всегда направлена вниз.</a:t>
            </a:r>
            <a:br>
              <a:rPr sz="2000"/>
            </a:br>
            <a:r>
              <a:rPr b="0" lang="en-US" sz="2000" spc="-1" strike="noStrike">
                <a:solidFill>
                  <a:srgbClr val="46468c"/>
                </a:solidFill>
                <a:latin typeface="Arial"/>
              </a:rPr>
              <a:t>Г. Сила тяжести на Земле везде одинакова.</a:t>
            </a:r>
            <a:br>
              <a:rPr sz="2000"/>
            </a:br>
            <a:r>
              <a:rPr b="0" lang="en-US" sz="2000" spc="-1" strike="noStrike">
                <a:solidFill>
                  <a:srgbClr val="46468c"/>
                </a:solidFill>
                <a:latin typeface="Arial"/>
              </a:rPr>
              <a:t>Д. Сила тяжести при движении тела вниз уменьшается</a:t>
            </a:r>
            <a:r>
              <a:rPr b="0" lang="en-US" sz="2400" spc="-1" strike="noStrike">
                <a:solidFill>
                  <a:srgbClr val="4646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549360"/>
            <a:ext cx="820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8c"/>
                </a:solidFill>
                <a:latin typeface="Verdana"/>
              </a:rPr>
              <a:t>Тест “Хорошо ли вы знаете силу тяжести?”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8c"/>
                </a:solidFill>
                <a:latin typeface="Verdana"/>
              </a:rPr>
              <a:t>                  </a:t>
            </a:r>
            <a:r>
              <a:rPr b="1" lang="en-US" sz="2400" spc="-1" strike="noStrike">
                <a:solidFill>
                  <a:srgbClr val="46468c"/>
                </a:solidFill>
                <a:latin typeface="Verdana"/>
              </a:rPr>
              <a:t>(Ответы “да, нет”)</a:t>
            </a:r>
            <a:br>
              <a:rPr sz="2400"/>
            </a:b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507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61196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4646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00"/>
                </a:solidFill>
                <a:latin typeface="Verdana"/>
              </a:rPr>
              <a:t>§24 учебника, </a:t>
            </a: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4646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00"/>
                </a:solidFill>
                <a:latin typeface="Verdana"/>
              </a:rPr>
              <a:t>вопросы к параграфу</a:t>
            </a:r>
            <a:r>
              <a:rPr b="0" lang="ru-RU" sz="29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132000" y="3141720"/>
            <a:ext cx="32403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8c"/>
                </a:solidFill>
                <a:latin typeface="Arial"/>
              </a:rPr>
              <a:t>Контрольные вопросы</a:t>
            </a:r>
            <a:br>
              <a:rPr sz="3200"/>
            </a:br>
            <a:endParaRPr b="0" lang="en-US" sz="32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4646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00"/>
                </a:solidFill>
                <a:latin typeface="Verdana"/>
              </a:rPr>
              <a:t>1.В чем проявляется всемирное тяготение?</a:t>
            </a: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4646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00"/>
                </a:solidFill>
                <a:latin typeface="Verdana"/>
              </a:rPr>
              <a:t>2.Какую силу называют силой тяжести?</a:t>
            </a: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0" y="836640"/>
            <a:ext cx="914400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2600">
                  <a:solidFill>
                    <a:srgbClr val="cc99ff"/>
                  </a:solidFill>
                  <a:miter/>
                </a:ln>
                <a:solidFill>
                  <a:srgbClr val="00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cap="sq" w="12600">
                <a:solidFill>
                  <a:srgbClr val="cc99ff"/>
                </a:solidFill>
                <a:miter/>
              </a:ln>
              <a:solidFill>
                <a:srgbClr val="00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Почему мяч, выпущенный из рук,</a:t>
            </a:r>
            <a:br>
              <a:rPr sz="3200"/>
            </a:b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падает вниз?</a:t>
            </a:r>
            <a:endParaRPr b="0" lang="en-US" sz="3200" spc="-1" strike="noStrike">
              <a:solidFill>
                <a:srgbClr val="46468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335640" y="1413000"/>
            <a:ext cx="2808360" cy="28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900000" y="2349360"/>
          <a:ext cx="5329440" cy="3905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349360"/>
                    <a:ext cx="5329440" cy="3905280"/>
                  </a:xfrm>
                  <a:prstGeom prst="rect">
                    <a:avLst/>
                  </a:prstGeom>
                  <a:ln w="57240">
                    <a:solidFill>
                      <a:srgbClr val="00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Почему прыгнувший вверх человек вскоре снова оказывается внизу?</a:t>
            </a: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7280" y="31417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Почему падает вниз вода фонтанов и водопадов?</a:t>
            </a:r>
            <a:endParaRPr b="0" lang="en-US" sz="2400" spc="-1" strike="noStrike">
              <a:solidFill>
                <a:srgbClr val="46468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43640" y="155736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37292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Почему падает вниз листья деревьев?</a:t>
            </a:r>
            <a:endParaRPr b="0" lang="en-US" sz="2400" spc="-1" strike="noStrike">
              <a:solidFill>
                <a:srgbClr val="4646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6119640" cy="4589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443640" y="155736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915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Наблюдения за природными объектами показывают, что все окружающие тела ощущают  притяжение к Земле.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646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348000" y="3716280"/>
            <a:ext cx="3348000" cy="2774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58920" y="2489040"/>
            <a:ext cx="73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Та сила, с которой Земля притягивает к себе тело, называется силой тяжести. Она обозначается как Fт.</a:t>
            </a:r>
            <a:r>
              <a:rPr b="0" lang="ru-RU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ила тяжести всегда направлена вертикально вниз к центру Земли.</a:t>
            </a:r>
            <a:r>
              <a:rPr b="0" lang="en-US" sz="3600" spc="-1" strike="noStrike">
                <a:solidFill>
                  <a:srgbClr val="46468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6468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302436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9:19:36Z</dcterms:created>
  <dc:creator>Никитенко Ирина Георгиевна</dc:creator>
  <dc:description/>
  <dc:language>en-US</dc:language>
  <cp:lastModifiedBy>кабинет информатики и физики</cp:lastModifiedBy>
  <dcterms:modified xsi:type="dcterms:W3CDTF">2010-05-18T05:44:21Z</dcterms:modified>
  <cp:revision>17</cp:revision>
  <dc:subject>Сила тяжести</dc:subject>
  <dc:title>Презентация</dc:title>
</cp:coreProperties>
</file>