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E79-2B0E-4FEB-86D5-7DCCE15A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FE2-2D76-42A6-9A9B-138D00D6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2B6-BA23-4B98-A473-1094DB3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06A-9F84-4D4D-A1AF-AA7C1A2F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37A0-717E-4FDC-8ACE-0485AE91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363-FDB7-4AE1-BC71-1B496C44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140-C5A9-42D7-A2C1-B3D5DE71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8EFF-620F-41E1-8BD7-96991F0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B5DC-1702-41AE-B1AB-6DB8727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E8B6-7F20-4846-9EEB-522A3B2C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C40-1149-4B01-855C-0283B9C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E67-7380-400B-9835-93E055E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24B4-E019-4BD5-B98F-DF023B5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86F-8A78-4D4B-8E2D-256E602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4A13-7609-4CAA-83A4-729EED6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46D-7715-40F8-BE9E-5CD91C6A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9C23-1F2C-4C11-BCA8-70621A15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6AC-4DB3-45BD-828C-4B27E09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F1A-E24C-4427-930F-A9F861B3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4A8-1757-4021-B482-74FCA71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B72-98F4-4DCC-AB81-867433C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494-E6F6-43C0-8DC9-A2D7EBB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3B2-ADF5-4AF7-A055-4137704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C9A-5899-44C6-8616-0811AB6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ccffcc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E3C-D9B0-4CB6-829C-3957C7599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ccffcc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3332-B589-4DF0-B992-1947861D6875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260280"/>
            <a:ext cx="701676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ла упругост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он Гу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8512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Шишкина Надежда Павловна,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физики и информатики,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ая квалификационная категория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КОУ Медяковская СОШ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08000" y="2708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7 клас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6FC3-34FD-46AD-9DF1-FD2DA60F6453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52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величим силу в 2 раза – 2 груз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мерим новое изменение длины х и занесём его в таблиц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5" name="Picture 13" descr="BFEB7A8"/>
          <p:cNvPicPr/>
          <p:nvPr/>
        </p:nvPicPr>
        <p:blipFill>
          <a:blip r:embed="rId1"/>
          <a:srcRect l="21657" t="38940" r="58741" b="31839"/>
          <a:stretch/>
        </p:blipFill>
        <p:spPr>
          <a:xfrm>
            <a:off x="5940360" y="1557360"/>
            <a:ext cx="2130480" cy="2960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4"/>
          <p:cNvSpPr/>
          <p:nvPr/>
        </p:nvSpPr>
        <p:spPr>
          <a:xfrm>
            <a:off x="6732720" y="4581360"/>
            <a:ext cx="487080" cy="648000"/>
          </a:xfrm>
          <a:prstGeom prst="can">
            <a:avLst>
              <a:gd name="adj" fmla="val 240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732720" y="5300640"/>
            <a:ext cx="487080" cy="647640"/>
          </a:xfrm>
          <a:prstGeom prst="can">
            <a:avLst>
              <a:gd name="adj" fmla="val 240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83F1-5170-4029-8799-9002DA050F30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52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величим силу в 3 раза – 3 груз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мерим новое изменение длины х и занесём его в таблиц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0" name="Picture 3" descr="BFEB7A8"/>
          <p:cNvPicPr/>
          <p:nvPr/>
        </p:nvPicPr>
        <p:blipFill>
          <a:blip r:embed="rId1"/>
          <a:srcRect l="21657" t="38940" r="58741" b="31839"/>
          <a:stretch/>
        </p:blipFill>
        <p:spPr>
          <a:xfrm>
            <a:off x="5867280" y="1484280"/>
            <a:ext cx="2130480" cy="29606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6732720" y="4508640"/>
            <a:ext cx="487080" cy="647640"/>
          </a:xfrm>
          <a:prstGeom prst="can">
            <a:avLst>
              <a:gd name="adj" fmla="val 240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32720" y="5300640"/>
            <a:ext cx="487080" cy="647640"/>
          </a:xfrm>
          <a:prstGeom prst="can">
            <a:avLst>
              <a:gd name="adj" fmla="val 240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6732720" y="6021360"/>
            <a:ext cx="487080" cy="647640"/>
          </a:xfrm>
          <a:prstGeom prst="can">
            <a:avLst>
              <a:gd name="adj" fmla="val 2407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EBF-73BE-4FAF-BD7E-D29DEC2ACF7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209680" y="5257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042920" y="476280"/>
            <a:ext cx="74167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ЗУЛЬТАТ ЭКСПЕРИМЕНТ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2492280"/>
          <a:ext cx="8425080" cy="20876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4920"/>
                <a:gridCol w="210672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F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1 H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2 H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3 H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x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1 см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2 см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55114a"/>
                          </a:solidFill>
                          <a:latin typeface="Times New Roman"/>
                        </a:rPr>
                        <a:t>3 см</a:t>
                      </a:r>
                      <a:endParaRPr b="0" lang="en-US" sz="4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A4F-F071-4077-9211-2F98D0567726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кон Гук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4209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Сила упругости, возникающая при растяжении и сжатии, пропорциональна его удлинению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пр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51" name="Picture 6" descr="30"/>
          <p:cNvPicPr/>
          <p:nvPr/>
        </p:nvPicPr>
        <p:blipFill>
          <a:blip r:embed="rId1"/>
          <a:stretch/>
        </p:blipFill>
        <p:spPr>
          <a:xfrm>
            <a:off x="2987640" y="4005360"/>
            <a:ext cx="320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1732-CD42-4E65-8A04-FF3350D60B1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Деформация, при которой тело восстанавливает свою форму после снятия нагрузки, называется упругой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54" name="Picture 4" descr="30"/>
          <p:cNvPicPr/>
          <p:nvPr/>
        </p:nvPicPr>
        <p:blipFill>
          <a:blip r:embed="rId1"/>
          <a:stretch/>
        </p:blipFill>
        <p:spPr>
          <a:xfrm>
            <a:off x="2987640" y="4005360"/>
            <a:ext cx="320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780-F2F0-41CA-BF88-94DB3532C89B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festival.1september.ru/articles/414057/full.h6.jpg"/>
          <p:cNvPicPr/>
          <p:nvPr/>
        </p:nvPicPr>
        <p:blipFill>
          <a:blip r:embed="rId1"/>
          <a:stretch/>
        </p:blipFill>
        <p:spPr>
          <a:xfrm>
            <a:off x="755640" y="1844640"/>
            <a:ext cx="77724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9B3-963B-46FE-9887-78BCE4AB4DF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омашнее задание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§25; вопросы к параграфу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44C-5280-47EC-B3D2-5368478819D1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8360" y="1714680"/>
            <a:ext cx="8424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D06D-FE35-4857-9AC8-E925335C7F3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1.Какую силу называют силой упругост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2.Что такое деформация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3.Какие бывают деформаци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4.Какой физической величиной характеризуют деформацию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5.О чем говорит закон Гука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6B1-91EA-4827-A55B-27DECE1B3377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ует ли сила упругости на гирю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067280" y="3068640"/>
            <a:ext cx="1439640" cy="1584360"/>
          </a:xfrm>
          <a:prstGeom prst="cube">
            <a:avLst>
              <a:gd name="adj" fmla="val 0"/>
            </a:avLst>
          </a:prstGeom>
          <a:solidFill>
            <a:srgbClr val="3399ff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AutoShape 14"/>
          <p:cNvSpPr/>
          <p:nvPr/>
        </p:nvSpPr>
        <p:spPr>
          <a:xfrm flipV="1">
            <a:off x="900000" y="3644640"/>
            <a:ext cx="7488360" cy="1079280"/>
          </a:xfrm>
          <a:prstGeom prst="pie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55640" y="4076640"/>
            <a:ext cx="914400" cy="91440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596360" y="4076640"/>
            <a:ext cx="914400" cy="91440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BCCC-5B5F-44EC-B09D-696264CE48CA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ие силы действуют  на цилиндр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Груз на вертикальной пружине"/>
          <p:cNvPicPr/>
          <p:nvPr/>
        </p:nvPicPr>
        <p:blipFill>
          <a:blip r:embed="rId1"/>
          <a:srcRect l="32167" t="0" r="40209" b="10081"/>
          <a:stretch/>
        </p:blipFill>
        <p:spPr>
          <a:xfrm>
            <a:off x="3419640" y="1916280"/>
            <a:ext cx="2166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633-F13E-4509-98CD-52F6D58C1F20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пр приложена в точке контакта. Направлена в сторону восстановления прежних форм и разме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3924360" y="4076640"/>
            <a:ext cx="1439640" cy="1584360"/>
          </a:xfrm>
          <a:prstGeom prst="cube">
            <a:avLst>
              <a:gd name="adj" fmla="val 0"/>
            </a:avLst>
          </a:prstGeom>
          <a:solidFill>
            <a:srgbClr val="3399ff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 flipV="1">
            <a:off x="826920" y="4651920"/>
            <a:ext cx="7488360" cy="1079640"/>
          </a:xfrm>
          <a:prstGeom prst="pie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55640" y="4941720"/>
            <a:ext cx="914400" cy="91440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7596360" y="4941720"/>
            <a:ext cx="914400" cy="91440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427640" y="2708280"/>
            <a:ext cx="485640" cy="2921040"/>
          </a:xfrm>
          <a:prstGeom prst="upArrow">
            <a:avLst>
              <a:gd name="adj1" fmla="val 50000"/>
              <a:gd name="adj2" fmla="val 150371"/>
            </a:avLst>
          </a:prstGeom>
          <a:solidFill>
            <a:srgbClr val="ccffcc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83CD-25FE-400D-9B49-49AD2B9B9B1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Деформация — изменение формы или размеров тела под действием внешних сил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2" name="Picture 4" descr="30"/>
          <p:cNvPicPr/>
          <p:nvPr/>
        </p:nvPicPr>
        <p:blipFill>
          <a:blip r:embed="rId1"/>
          <a:stretch/>
        </p:blipFill>
        <p:spPr>
          <a:xfrm>
            <a:off x="2987640" y="4005360"/>
            <a:ext cx="320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6C5-1A12-423B-8AC6-2DD5FC20FDB4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иды деформ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Times New Roman"/>
              </a:rPr>
              <a:t>Растяжение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  <a:p>
            <a:pPr marL="315360" indent="-315360" algn="ctr"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Times New Roman"/>
              </a:rPr>
              <a:t>Сжатие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  <a:p>
            <a:pPr marL="315360" indent="-315360" algn="ctr"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Times New Roman"/>
              </a:rPr>
              <a:t>Кручение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  <a:p>
            <a:pPr marL="315360" indent="-315360" algn="ctr"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Times New Roman"/>
              </a:rPr>
              <a:t>Сдвиг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  <a:p>
            <a:pPr marL="315360" indent="-315360" algn="ctr"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3300"/>
                </a:solidFill>
                <a:latin typeface="Times New Roman"/>
              </a:rPr>
              <a:t>Изгиб 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7CB5-2E38-44E9-A126-B7C655B06320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042920" y="62064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660 г. Роберт Гук: «Каково удлинение, такова и сила».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496-130F-43D0-BBFF-D48D7F23AD04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КСПЕРИМЕН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2" descr="1-12-3"/>
          <p:cNvPicPr/>
          <p:nvPr/>
        </p:nvPicPr>
        <p:blipFill>
          <a:blip r:embed="rId1"/>
          <a:stretch/>
        </p:blipFill>
        <p:spPr>
          <a:xfrm>
            <a:off x="5076720" y="1557360"/>
            <a:ext cx="3743280" cy="4176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395280" y="1716840"/>
            <a:ext cx="44640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одвесим к пружине (специально выбирается пружина жёсткостью 100 Н/м) груз создающий силу 1 Н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2.Обозначим удлинение х и занесём измерения в таблицу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3860640"/>
          <a:ext cx="3168720" cy="1656000"/>
        </p:xfrm>
        <a:graphic>
          <a:graphicData uri="http://schemas.openxmlformats.org/drawingml/2006/table">
            <a:tbl>
              <a:tblPr/>
              <a:tblGrid>
                <a:gridCol w="552600"/>
                <a:gridCol w="871560"/>
                <a:gridCol w="873000"/>
                <a:gridCol w="87156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 H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 H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 H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5:20:28Z</dcterms:created>
  <dc:creator>Vadim</dc:creator>
  <dc:description/>
  <dc:language>en-US</dc:language>
  <cp:lastModifiedBy>Андрей</cp:lastModifiedBy>
  <dcterms:modified xsi:type="dcterms:W3CDTF">2015-03-01T04:12:48Z</dcterms:modified>
  <cp:revision>28</cp:revision>
  <dc:subject/>
  <dc:title>Обычное в необычном</dc:title>
</cp:coreProperties>
</file>