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468-6ABA-4E13-AD34-81C9796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367-5FBD-490A-ABD1-D4D75C3C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82A-4368-42C9-BD9F-1F64B3CB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569-A5A5-40C4-9FF1-0D6D81B8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DA14-F2DA-497E-BEC5-4D38CDFB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4F5-E613-4A2B-A6FC-BC824C67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902F-D997-4BC2-A513-5CDF38A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BCD9-32B0-40EB-BF8C-3E0D50E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FE3B-9779-4644-A34C-7233E0D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A1C8-BC82-4300-86B4-3134021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3485-3F81-4457-9560-A50A924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2BE-7AA4-4FF1-A8E8-64588D2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A929-8356-46EF-843A-B6AF35F5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B786-9574-4C78-B7A1-1B92631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C639-92BF-4B20-B251-6F61D166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FCA6-1379-460E-9BF2-6404C0C2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E89-7639-43E6-A675-0454EE54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0AE-0644-4EE9-B69A-2569ADB0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E40-24E4-4774-ABBB-D1FF3F6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913-3486-4B0A-B947-CCAAC40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76E-A6EA-4E36-A938-EFA9B2E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201-2E1B-469D-B87E-295778A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FF4-2897-41A5-B1A4-AF808C1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38F-D69C-4391-A417-D5B5248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020-A7DE-4779-8CDC-486F0CD64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8392-9AAC-4D72-A441-B315F94F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92360" y="2707920"/>
            <a:ext cx="72007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99"/>
                </a:solidFill>
                <a:latin typeface="Arial"/>
              </a:rPr>
              <a:t>« Валеологическое воспитание в детском саду»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рохова Елена Борисов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вшиново 201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ологическое воспитание очень важно. Скоро дошкольник шагнет в мир, где много опасностей. Задача занятий по валеологии – научить ребенка не бояться опасностей, а уметь остерегаться их и обходить. Надо научить детей выражать свои чувства, мысли, уважать мнение других, заботиться о здоровье и благополучии своем и чуж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обанов В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Уроки Мойдодыра. Уроки Айболита. С-П.: Изд-во Агентство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умаков Б.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алеология. М.: Изд-во “Агентство”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аль Л.В., Ветрова В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укварь здоровья. М.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“Мир и человек”. Окружающий мир. 1 класс. М.: Изд-во “Баланс”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узмер А.М., Петришина О.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иология. Человек и его здоровье. 9 класс. М.: Изд-во “Просвещение”,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Валеология – э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ология наука и сфера человеческой деятельности, изучающая возможности наилучшей адаптации человека к условиям окружающей среды путем ведения здорового образа жизни. Мы обязаны воспитать потребность быть здоровым. Ребенок должен знать: зачем нужно быть здоровым, что нужно сделать для этого, как справиться с болезн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очень актуальна проблема здоровья детей и реальное ухудшение их физического, психического, нравственного и духовного состояния. Особенно это ощущают те, кто работает с ними, то есть мы, педагоги. Но с другой стороны все мы несем историческую ответственность за здоровье будущих поколений и только все вместе можем изменить ситу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Сохранение и укрепление здоровья детей на основе комплексного и системного использования доступных для детского сада средств физического воспитания, оптимизации двигательной деятельности на свежем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Обеспечение активной позиции детей в процессе получения знаний о здоровом образе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Конструктивное партнерство семьи, педагогического коллектива и самих детей в укреплении их здоровья, развитии творческого потенциа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Формирование опыта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ой для формирования опыта работы являются воспитанники средней группы МДОУ д/с №2. Основная проблема, которая встала перед воспитателями – это слабое физическое развитие детей. В ходе мониторинга выяснилось, что дети испытывают «двигательный дефицит», в связи с чем задерживается возрастное развитие всех физических кач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Результаты мониторинг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заболеваемости и пропусков по болезни на начало проекта составляет 26% от списочного состава детей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детей, имеющих высокий уровень физического развития составляет 33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детей, имеющих высокий уровень представлений о здоровом образе жизни составляет 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 Unicode MS"/>
              </a:rPr>
              <a:t>С целью решения этих задач определены следующие направления в валеологической работ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  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1. Человек и здоровь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2. Природные условия здоровь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3. Социальные условия здоровь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4. Этноздоровь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5. Индивидуальное здоровье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Работа с семь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 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опросы воспитания здорового образа жизни должны решаться в </a:t>
            </a:r>
            <a:r>
              <a:rPr b="0" i="1" lang="ru-RU" sz="2000" spc="-1" strike="noStrike">
                <a:solidFill>
                  <a:srgbClr val="ff0066"/>
                </a:solidFill>
                <a:latin typeface="Arial Unicode MS"/>
              </a:rPr>
              <a:t>сотрудничестве</a:t>
            </a:r>
            <a:r>
              <a:rPr b="0" lang="ru-RU" sz="20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 Unicode MS"/>
              </a:rPr>
              <a:t>с</a:t>
            </a:r>
            <a:r>
              <a:rPr b="0" lang="ru-RU" sz="20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 Unicode MS"/>
              </a:rPr>
              <a:t>родителями.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В данной работе определяются следующие задачи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- установление доверительно-делового контакта с родителя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- повышение педагогической культуры родителе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- пропаганда здорового образа жиз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  - изучение, внедрение, распространение передового опыта семейного воспита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Эффективность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ость работы по комплексному подходу в организации здорового образа жизни ребенка может быть определена следующим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оказателями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1. Снижение заболеваемост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2. Рост уровня физического и психического здоровь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3. Повышение двигательной активности дет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4. Динамика показателей физической подготовленности дошкольник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5. Сознательное отношение детей к собственному здоровью и использование доступных способов его укреплен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6. Общая подготовленность к обучению в школ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7. Сотрудничество детского сада с родителями в вопросе организации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Дима Лена</cp:lastModifiedBy>
  <dcterms:modified xsi:type="dcterms:W3CDTF">2015-03-01T11:07:24Z</dcterms:modified>
  <cp:revision>7</cp:revision>
  <dc:subject/>
  <dc:title>фон облака</dc:title>
</cp:coreProperties>
</file>