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EB3-10D5-41FE-9B9A-077F0685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1B0-1C9D-41A7-B67B-3B4D5F84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9EE-AD1F-4754-A655-95013082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1EC-6DF1-4E94-8C3D-02330F7D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427FF-3652-43B7-8804-5FB4CA92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02445-1337-4523-ACBB-FD32830E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9E4CF-159E-4A0E-AB8F-ED7851E0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7FB53-449B-45CD-933A-F2466DEA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509EC-867D-4A05-A385-F9F1F02A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EFEB-FC0D-452C-ACD7-B2E11480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072D2-3E09-4208-B1A4-8FA33FF4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AFE-7321-4078-9D84-B2A750F3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D3655-1A92-4283-A493-EF9DE6FE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38B22-5A79-415F-A8AA-7FCB3DCB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7604E-D5C5-4139-B260-AE67229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BA5F9-F902-4D89-B912-79EAF2B0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6C534-6C50-4A29-9297-B9DDE0C1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A0A7-4A04-4E2C-936C-780586C2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963D-6D31-42B8-A813-48842001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1D414-4CE5-4CD7-8886-6B1C4FC0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9486-A710-416F-90B1-AB7FCC1D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9CE6-C31D-42B2-BF5F-9FC5C2F4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9E8-74ED-41D7-96BA-AA688F71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2644-C216-4BC8-A843-F38256C7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1496-9AE0-4485-A09B-5053AB6E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2937-9200-4537-A643-73CAADB4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20BE-6B64-4FE9-9FBE-BE1487C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1816-E00F-4D47-A243-AA24C95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31A8-DE34-4F7A-BAFD-3A09BD8F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46CE-2B83-4594-81D4-4820E3AF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20EAA-63F3-427B-B13D-8F865F8E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06EA6-E35A-499F-BB9B-47F2A320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904C5-60E8-45AA-AD80-EC2D11EC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B7D-5D9D-43CA-AC28-E9A2683E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F5845-5165-4BDE-8890-2EA2873F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ABBF0-A293-4E5B-8122-9AF2ABA9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CE5AE1-F499-43C8-8C61-CEE6C56F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B3A71-2972-4235-9DBE-7215F12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844F7-F0C7-4D49-AD97-C92714E2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B33E3-F2E9-435F-8F19-F5584889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CA0B2-D7AE-4807-979B-26EEB4BB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CF254-7D0B-4B25-AFCE-D5592FA8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D21EE-5AB8-477B-B60D-CD14E3C2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CE5-BA94-481B-BE3D-C2C553C1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35D-C74B-4FDA-8099-1AD8F07D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45C-2BDA-4018-88D9-618B0899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7D0-2C7D-4B19-98CE-D6C52EC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C90-27B5-493B-98D7-D6E65D34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eb9e6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eb9e6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A7F0-FCC3-4D9D-9A00-18F945F02574}" type="slidenum">
              <a:rPr b="0" lang="ru-RU" sz="16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0e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0e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7598d9"/>
          </a:solidFill>
          <a:ln w="38160">
            <a:solidFill>
              <a:srgbClr val="7598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eb9e6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eb9e6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892E-D190-4EC2-83A5-4E0F8562493B}" type="slidenum">
              <a:rPr b="0" lang="ru-RU" sz="16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eb9e6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eb9e6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24C7-5506-4954-BE2B-14D9EC41EF7B}" type="slidenum">
              <a:rPr b="0" lang="ru-RU" sz="16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0e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0e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eb9e6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eb9e6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9e6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7055-0617-4093-84EF-2BFA6A6EFD87}" type="slidenum">
              <a:rPr b="0" lang="ru-RU" sz="16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9e6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Constantia"/>
              </a:rPr>
              <a:t>Работа учащегося 7 «А» класса ГБОУ «Лицей №1571»</a:t>
            </a:r>
            <a:endParaRPr b="0" lang="en-US" sz="2000" spc="-1" strike="noStrike">
              <a:solidFill>
                <a:srgbClr val="eb9e6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39d"/>
                </a:solidFill>
                <a:latin typeface="Constantia"/>
              </a:rPr>
              <a:t>Трошина Константина</a:t>
            </a:r>
            <a:endParaRPr b="0" lang="en-US" sz="2000" spc="-1" strike="noStrike">
              <a:solidFill>
                <a:srgbClr val="eb9e6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14040" y="981000"/>
            <a:ext cx="765828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ff1f7"/>
                </a:solidFill>
                <a:latin typeface="Constantia"/>
              </a:rPr>
              <a:t>Мой прадедушка, Василий Федорович, когда был таким, как я, мечтал стать военным, и ,закончив школу, поступил в военное училище.  Его  мечта сбылась. Только не суждено было мне услышать от прадедушки о его трудном боевом пути, так как ушел он из жизни раньше, чем я родился.</a:t>
            </a:r>
            <a:endParaRPr b="0" lang="en-US" sz="3200" spc="-1" strike="noStrike">
              <a:solidFill>
                <a:srgbClr val="eb9e6f"/>
              </a:solidFill>
              <a:latin typeface="Constantia"/>
            </a:endParaRPr>
          </a:p>
          <a:p>
            <a:pPr marL="245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ff1f7"/>
                </a:solidFill>
                <a:latin typeface="Constantia"/>
              </a:rPr>
              <a:t>Но моя бабушка – дочь моего прадедушки -  много рассказывала о нем и своей семье.</a:t>
            </a:r>
            <a:endParaRPr b="0" lang="en-US" sz="3200" spc="-1" strike="noStrike">
              <a:solidFill>
                <a:srgbClr val="eb9e6f"/>
              </a:solidFill>
              <a:latin typeface="Constantia"/>
            </a:endParaRPr>
          </a:p>
          <a:p>
            <a:pPr marL="245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ff1f7"/>
                </a:solidFill>
                <a:latin typeface="Constantia"/>
              </a:rPr>
              <a:t>Вот о чем рассказывала она мне…</a:t>
            </a:r>
            <a:endParaRPr b="0" lang="en-US" sz="3200" spc="-1" strike="noStrike">
              <a:solidFill>
                <a:srgbClr val="eb9e6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85880" y="428760"/>
            <a:ext cx="76579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…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кануне Великой Отечественной войны наша семья жила в городе Омске. В мае папа уехал в командировку, а в июне началась война, и отец сразу был отправлен на фронт. Семья (мама, я – 8 лет, старший брат – 14 лет, средний брат – 3 года и младший брат – 4 месяца) остались в Омске…</a:t>
            </a:r>
            <a:endParaRPr b="0" lang="en-US" sz="2800" spc="-1" strike="noStrike">
              <a:solidFill>
                <a:srgbClr val="eb9e6f"/>
              </a:solidFill>
              <a:latin typeface="Constantia"/>
            </a:endParaRPr>
          </a:p>
        </p:txBody>
      </p:sp>
      <p:pic>
        <p:nvPicPr>
          <p:cNvPr id="174" name="Picture 5" descr="http://tub.rutube.ru/thumbs-wide/19/01/19011bf5cf2d13dfb9170495666fcbf7-1.jpg"/>
          <p:cNvPicPr/>
          <p:nvPr/>
        </p:nvPicPr>
        <p:blipFill>
          <a:blip r:embed="rId1"/>
          <a:stretch/>
        </p:blipFill>
        <p:spPr>
          <a:xfrm>
            <a:off x="1857240" y="3714840"/>
            <a:ext cx="5667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50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скоре эшелон с военными, в котором был папа, направлялся в Москву через Омск, где была остановка на непродолжительное время. Он хотел повидать нас и попрощаться. </a:t>
            </a:r>
            <a:endParaRPr b="0" lang="en-US" sz="2200" spc="-1" strike="noStrike">
              <a:solidFill>
                <a:srgbClr val="eb9e6f"/>
              </a:solidFill>
              <a:latin typeface="Constantia"/>
            </a:endParaRPr>
          </a:p>
          <a:p>
            <a:pPr marL="25920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спользовавшись остановкой поезда, он прибежал к нам ночью, когда мы все спали, попросил маму нас разбудить, одеть и быстро идти на вокзал, а сам поспешил к эшелону. Мама нас торопила…</a:t>
            </a:r>
            <a:endParaRPr b="0" lang="en-US" sz="2200" spc="-1" strike="noStrike">
              <a:solidFill>
                <a:srgbClr val="eb9e6f"/>
              </a:solidFill>
              <a:latin typeface="Constantia"/>
            </a:endParaRPr>
          </a:p>
          <a:p>
            <a:pPr marL="25920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 пришли на вокзал, а поезд ушел. Нам стало очень горько, что мы не попрощались с папой. Долго мы сидели на перроне и плакали. А перед нами прошли еще несколько эшелонов. Нужна была срочная помощь для обороны Москвы. </a:t>
            </a:r>
            <a:endParaRPr b="0" lang="en-US" sz="2200" spc="-1" strike="noStrike">
              <a:solidFill>
                <a:srgbClr val="eb9e6f"/>
              </a:solidFill>
              <a:latin typeface="Constantia"/>
            </a:endParaRPr>
          </a:p>
          <a:p>
            <a:pPr marL="259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b9e6f"/>
              </a:solidFill>
              <a:latin typeface="Constantia"/>
            </a:endParaRPr>
          </a:p>
        </p:txBody>
      </p:sp>
      <p:pic>
        <p:nvPicPr>
          <p:cNvPr id="176" name="Picture 6" descr="002[1]"/>
          <p:cNvPicPr/>
          <p:nvPr/>
        </p:nvPicPr>
        <p:blipFill>
          <a:blip r:embed="rId1"/>
          <a:stretch/>
        </p:blipFill>
        <p:spPr>
          <a:xfrm>
            <a:off x="4572000" y="260280"/>
            <a:ext cx="43275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42600" y="357120"/>
            <a:ext cx="772956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скву отстояли! Отбросив немцев от Москвы, наши войска теснили их на запад. Шли кровопролитные бои. Под городом Курском папа попал в окружение. Но хитростью и смекалкой группе воинов удалось вырваться из кольца. Но, попав под обстрел, отец был контужен. С помощью товарищей он добрался до своего полка, где была оказана медицинская помощь, и он снова продолжил свое движение на Берлин.</a:t>
            </a: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А в 45-ом к нам пришла Победа!</a:t>
            </a: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Она и жизнь, и счастье принесла!</a:t>
            </a: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А тем, кто не вернулся с фронта,</a:t>
            </a: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Огонь бессмертный на века зажгл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arade4[1]"/>
          <p:cNvPicPr/>
          <p:nvPr/>
        </p:nvPicPr>
        <p:blipFill>
          <a:blip r:embed="rId1"/>
          <a:stretch/>
        </p:blipFill>
        <p:spPr>
          <a:xfrm>
            <a:off x="684360" y="549360"/>
            <a:ext cx="7921440" cy="58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9280" y="499680"/>
            <a:ext cx="8607600" cy="68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мае 45-го года папа вернулся с фронта за нами в Омск. Взяв с собой только самое необходимое, мы поехали по городам: Моздок, Черкесск, Пятигорск, Новороссийск, Ростов. В каждом городе мы были около года, так как воинские части расформировывались.</a:t>
            </a:r>
            <a:endParaRPr b="0" lang="en-US" sz="22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ыла разруха, голод. Страна не успевала зализывать раны.</a:t>
            </a:r>
            <a:endParaRPr b="0" lang="en-US" sz="22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Пятигорске я ходила в 6-ой класс. В обычном доме была небольшая комната с двумя длинными столами, сбитыми из досок, а школьники должны были ходить каждый день со своими табуретками, так как учились в две смены и никто не оставлял свою табуретку, опасаясь ее потерять.</a:t>
            </a:r>
            <a:endParaRPr b="0" lang="en-US" sz="22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 меня не было табуретки, и я долгое время подсаживалась к кому-нибудь на краешек, а потом папа сбил мне табуретку из дощечек. Трудно было с тетрадями, их невозможно было найти в магазинах. Брали газеты и писали на полях и между строк текста. Мои мучения с учебой закончились, когда папу снова в 1947 году послали в Германию, а мы поехали к бабушке в город Борисоглебск, где я закончила 10 классов и уехала в Москву для поступления в институ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http://forum.pwonline.ru/showimg.php?url=http%3A%2F%2Fclub.foto.ru%2Fgallery%2Fimages%2Fphoto%2F2011%2F02%2F02%2F1711141.jpg"/>
          <p:cNvPicPr/>
          <p:nvPr/>
        </p:nvPicPr>
        <p:blipFill>
          <a:blip r:embed="rId1"/>
          <a:stretch/>
        </p:blipFill>
        <p:spPr>
          <a:xfrm>
            <a:off x="1714680" y="4317840"/>
            <a:ext cx="1785600" cy="17211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56760" y="428760"/>
            <a:ext cx="828684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апа, отслужив добросовестно в армии 50 лет, ушел в отставку.</a:t>
            </a: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отставке он продолжал работать в Москве и часто нам рассказывал о своем боевом пути от Москвы до Берлина.</a:t>
            </a: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 него много наград: медали, два ордена «Красной звезды», орден «Красного знамени», орден «Великой Отечественной войны». А когда папа скончался, его похоронили со всеми воинскими почестями, с салютом из нескольких боевых орудий…»</a:t>
            </a: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9e6f"/>
              </a:solidFill>
              <a:latin typeface="Constantia"/>
            </a:endParaRPr>
          </a:p>
        </p:txBody>
      </p:sp>
      <p:pic>
        <p:nvPicPr>
          <p:cNvPr id="182" name="Picture 6" descr="http://topwar.ru/uploads/posts/2012-05/1337051104_1272924145_4.jpg"/>
          <p:cNvPicPr/>
          <p:nvPr/>
        </p:nvPicPr>
        <p:blipFill>
          <a:blip r:embed="rId2"/>
          <a:stretch/>
        </p:blipFill>
        <p:spPr>
          <a:xfrm>
            <a:off x="4000680" y="4286160"/>
            <a:ext cx="1458720" cy="181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http://im7-tub-ru.yandex.net/i?id=519490474-28-72&amp;n=21"/>
          <p:cNvPicPr/>
          <p:nvPr/>
        </p:nvPicPr>
        <p:blipFill>
          <a:blip r:embed="rId3"/>
          <a:stretch/>
        </p:blipFill>
        <p:spPr>
          <a:xfrm>
            <a:off x="6072120" y="428616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http://im8-tub-ru.yandex.net/i?id=76712903-68-72&amp;n=21"/>
          <p:cNvPicPr/>
          <p:nvPr/>
        </p:nvPicPr>
        <p:blipFill>
          <a:blip r:embed="rId1"/>
          <a:stretch/>
        </p:blipFill>
        <p:spPr>
          <a:xfrm>
            <a:off x="857160" y="1803240"/>
            <a:ext cx="7500960" cy="4554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00080" y="2214720"/>
            <a:ext cx="72151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 низкий вам поклон, фронтовики!</a:t>
            </a:r>
            <a:endParaRPr b="0" lang="en-US" sz="3200" spc="-1" strike="noStrike">
              <a:solidFill>
                <a:srgbClr val="eb9e6f"/>
              </a:solidFill>
              <a:latin typeface="Constantia"/>
            </a:endParaRPr>
          </a:p>
          <a:p>
            <a:pPr marL="25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ы много лет встречаем в мире лето!</a:t>
            </a:r>
            <a:endParaRPr b="0" lang="en-US" sz="3200" spc="-1" strike="noStrike">
              <a:solidFill>
                <a:srgbClr val="eb9e6f"/>
              </a:solidFill>
              <a:latin typeface="Constantia"/>
            </a:endParaRPr>
          </a:p>
          <a:p>
            <a:pPr marL="25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искуя жизнью, вы детей земли спасли!</a:t>
            </a:r>
            <a:endParaRPr b="0" lang="en-US" sz="3200" spc="-1" strike="noStrike">
              <a:solidFill>
                <a:srgbClr val="eb9e6f"/>
              </a:solidFill>
              <a:latin typeface="Constantia"/>
            </a:endParaRPr>
          </a:p>
          <a:p>
            <a:pPr marL="25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ы бесконечно благодарны вам за это!</a:t>
            </a:r>
            <a:endParaRPr b="0" lang="en-US" sz="3200" spc="-1" strike="noStrike">
              <a:solidFill>
                <a:srgbClr val="eb9e6f"/>
              </a:solidFill>
              <a:latin typeface="Constantia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571680" y="357120"/>
            <a:ext cx="8072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f1f7"/>
                </a:solidFill>
                <a:latin typeface="Verdana"/>
              </a:rPr>
              <a:t>Я, Костя Трошин, всегда буду помнить о Великой Отечественной войне, о победе советского народа и тех, кто отдал жизнь за мир на земле, о боевом пути моего прадеда.</a:t>
            </a:r>
            <a:endParaRPr b="0" lang="en-US" sz="2400" spc="-1" strike="noStrike">
              <a:solidFill>
                <a:srgbClr val="eb9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8:35:32Z</dcterms:created>
  <dc:creator>школа</dc:creator>
  <dc:description/>
  <dc:language>en-US</dc:language>
  <cp:lastModifiedBy>c400</cp:lastModifiedBy>
  <dcterms:modified xsi:type="dcterms:W3CDTF">2015-02-28T21:19:48Z</dcterms:modified>
  <cp:revision>28</cp:revision>
  <dc:subject/>
  <dc:title>Война в моей семье</dc:title>
</cp:coreProperties>
</file>