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6A4-52E7-42CC-BAEC-1A31ABB8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CB2-57FE-4055-9371-08E05F2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DFC-946F-4CD7-86CF-CEB31454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715-995A-4FEF-B32A-D77FF6E2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682B-38B8-451C-9736-8058404C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E2E-05C5-424E-85D5-E53A737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047C-7042-498D-BF44-4BCD863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53F8-445F-486F-A793-0450A07E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8E63-0841-44BF-868F-5FE6B705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A32F-F6A5-4B17-BE02-C4B9441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6B4-EA17-4BB5-92FC-C88A0E5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964-E9E7-40AD-BD1F-0634F05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C074-7A4D-4610-8B71-7869582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B93D-3785-4606-8728-CF282CD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DE0D-B168-47FC-8B70-33CF99A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869-FE30-4858-B504-46E4034D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3E0-6F91-4524-8727-AF02603A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740-1F18-4458-BA3B-B8C5C14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D54-63B0-4645-A811-3B16625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B8E-5AD4-4E56-A110-89E409B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6C8-F606-4522-ABB9-3BDCE2D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719-EA1D-4D30-84D5-E49A742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39B-71D7-40B0-852A-C87FEAA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F5B-BA36-497C-9BB9-B5CB91AD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E67-747D-4E64-BD90-32DF8CD183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1CF-0D0C-4427-AC51-E387FFD7C3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96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66ff"/>
                </a:solidFill>
                <a:latin typeface="Times New Roman"/>
              </a:rPr>
              <a:t>Возникновение земледелия и скотоводства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203640" y="2143080"/>
            <a:ext cx="3097080" cy="3014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31840" y="368280"/>
            <a:ext cx="7515360" cy="985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993300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e1"/>
                </a:solidFill>
                <a:latin typeface="Arial Black"/>
              </a:rPr>
              <a:t>Закреп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ера в богов и духов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Изображение в пещерах почитаемых духов и бого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ражение копьями нарисованных животны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ущества, которые являются фантазией древнейших людей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Рели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2. Искусство (живопис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3. Обря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4. Обор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993300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e1"/>
                </a:solidFill>
                <a:latin typeface="Arial Black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Picture 4" descr="venus5"/>
          <p:cNvPicPr/>
          <p:nvPr/>
        </p:nvPicPr>
        <p:blipFill>
          <a:blip r:embed="rId1"/>
          <a:stretch/>
        </p:blipFill>
        <p:spPr>
          <a:xfrm>
            <a:off x="6877080" y="3573360"/>
            <a:ext cx="1649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лан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1. Мотыжное земле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2.Приручение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3.Появление рем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4.Родовые общины и пл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5. Сверхъестественны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ru-RU" sz="4600" spc="-1" strike="noStrike">
                <a:solidFill>
                  <a:srgbClr val="3366ff"/>
                </a:solidFill>
                <a:latin typeface="Times New Roman"/>
              </a:rPr>
              <a:t>Мотыжное  земледелие.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446880" y="3500280"/>
            <a:ext cx="2697120" cy="3225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1476360" y="1413000"/>
            <a:ext cx="781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ясь собирательством, женщины заметили, что упавшие  в землю дикорастущие семена дают всходы. Люди стали сами сеять зерно. Т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ее 10 тысяч лет назад из собирательства возникло земледел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123920" cy="3066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0" y="342900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В  земледелии применялись моты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каменный топор  и сер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7980480" y="0"/>
            <a:ext cx="1163520" cy="14842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07" name="Rectangle 9"/>
          <p:cNvSpPr/>
          <p:nvPr/>
        </p:nvSpPr>
        <p:spPr>
          <a:xfrm>
            <a:off x="0" y="4392720"/>
            <a:ext cx="673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При помощи топора вы рубали деревья и кустарник, затем выкорчевывали пни, и все сжиг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Пепел перемешивали с землей. Он выступал в качестве удоб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97840" y="-474768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земледельцы вскапывали землю и бросали в неё се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оспевал урожай, колосья срезали серп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рая зерн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их камн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ли му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глях оч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кли лепё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3200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500720" y="3244680"/>
            <a:ext cx="4535280" cy="3494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12" name="Rectangle 6"/>
          <p:cNvSpPr/>
          <p:nvPr/>
        </p:nvSpPr>
        <p:spPr>
          <a:xfrm>
            <a:off x="971640" y="476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Arial"/>
              </a:rPr>
              <a:t>Мотыжное  земледел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66ff"/>
                </a:solidFill>
                <a:latin typeface="Times New Roman"/>
              </a:rPr>
              <a:t>Приручение животных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жчины иногда с охоты приносили домой детёнышей убитых животных. Они их выкармливали и приручали. Первым домашним животным стала собака, потом свиньи, овцы, козы и коров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529080" cy="24559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385128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из охоты возникло скотовод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но, в то же время, что и земледелие. Жизнь человека теперь зависела от его собственного труда и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366ff"/>
                </a:solidFill>
                <a:latin typeface="Times New Roman"/>
              </a:rPr>
              <a:t>Появление ремесла.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79280" y="1700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обранного урожая они научились готовить еду, а для этого нужна была по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"/>
          <p:cNvPicPr/>
          <p:nvPr/>
        </p:nvPicPr>
        <p:blipFill>
          <a:blip r:embed="rId1"/>
          <a:stretch/>
        </p:blipFill>
        <p:spPr>
          <a:xfrm>
            <a:off x="7440480" y="1268280"/>
            <a:ext cx="1703520" cy="237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7709040" y="4721400"/>
            <a:ext cx="1434960" cy="2136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22" name="Rectangle 10"/>
          <p:cNvSpPr/>
          <p:nvPr/>
        </p:nvSpPr>
        <p:spPr>
          <a:xfrm>
            <a:off x="684360" y="2924280"/>
            <a:ext cx="5165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 научились лепить гор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глины и обжигать их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не о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05840" y="4365720"/>
            <a:ext cx="62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чество, которое освоили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или изобрести ткацкий ста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22"/>
          <p:cNvPicPr/>
          <p:nvPr/>
        </p:nvPicPr>
        <p:blipFill>
          <a:blip r:embed="rId3"/>
          <a:stretch/>
        </p:blipFill>
        <p:spPr>
          <a:xfrm>
            <a:off x="6156360" y="3357720"/>
            <a:ext cx="2195640" cy="1933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537480" y="5373720"/>
            <a:ext cx="688500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зобретением пря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качества у людей появ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ежды из льняного и шерстяного полот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411280" y="2205000"/>
            <a:ext cx="42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96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выми общинами управля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рейши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следил за тем, чтобы все выполняли общественны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его руководством  проходили праздн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колько родовых общ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ущих в одной мест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лял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ем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менем управля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вет старейши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338920" y="404640"/>
            <a:ext cx="4773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Выделение зна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верования перв"/>
          <p:cNvPicPr/>
          <p:nvPr/>
        </p:nvPicPr>
        <p:blipFill>
          <a:blip r:embed="rId1"/>
          <a:stretch/>
        </p:blipFill>
        <p:spPr>
          <a:xfrm>
            <a:off x="6630840" y="3645000"/>
            <a:ext cx="25131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410920" y="2565000"/>
            <a:ext cx="37450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ачный сою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94520" y="19162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тарей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0" y="765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одовая общ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014160" y="19890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5c80b"/>
                </a:solidFill>
                <a:latin typeface="Arial"/>
              </a:rPr>
              <a:t>старей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5364000" y="765000"/>
            <a:ext cx="349596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овая общин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887280" y="5373720"/>
            <a:ext cx="5256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Совет </a:t>
            </a:r>
            <a:br>
              <a:rPr sz="4400"/>
            </a:b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старейшин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1692360" y="1557360"/>
            <a:ext cx="358560" cy="503280"/>
          </a:xfrm>
          <a:prstGeom prst="downArrow">
            <a:avLst>
              <a:gd name="adj1" fmla="val 50000"/>
              <a:gd name="adj2" fmla="val 3509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6804000" y="1557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>
            <a:off x="6300720" y="242100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28"/>
          <p:cNvSpPr txBox="1"/>
          <p:nvPr/>
        </p:nvSpPr>
        <p:spPr>
          <a:xfrm>
            <a:off x="2700360" y="3645000"/>
            <a:ext cx="3240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ем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39"/>
          <p:cNvSpPr/>
          <p:nvPr/>
        </p:nvSpPr>
        <p:spPr>
          <a:xfrm>
            <a:off x="0" y="1484280"/>
            <a:ext cx="1440000" cy="360036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630000 h 3600360"/>
              <a:gd name="textAreaBottom" fmla="*/ 26103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7667640" y="1413000"/>
            <a:ext cx="1152360" cy="3456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469080" y="5229360"/>
            <a:ext cx="333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лемен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 flipH="1">
            <a:off x="2050560" y="4508640"/>
            <a:ext cx="172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4572000" y="443700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6"/>
          <p:cNvSpPr/>
          <p:nvPr/>
        </p:nvSpPr>
        <p:spPr>
          <a:xfrm>
            <a:off x="3419640" y="1557360"/>
            <a:ext cx="57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7"/>
          <p:cNvSpPr/>
          <p:nvPr/>
        </p:nvSpPr>
        <p:spPr>
          <a:xfrm flipH="1">
            <a:off x="5148000" y="155736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lang="ru-RU" sz="4200" spc="-1" strike="noStrike">
                <a:solidFill>
                  <a:srgbClr val="3366ff"/>
                </a:solidFill>
                <a:latin typeface="Times New Roman"/>
              </a:rPr>
              <a:t>Сверхъестественные силы.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67280" y="1600200"/>
            <a:ext cx="1019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484280"/>
            <a:ext cx="55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Для первобытных людей все в природе было живым  и одушевленным. Мир, по их мнению, был населен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ухами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Самые могущественные духи назывались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Если все вокруг живое, то со всем можно договориться –нужно  только обратит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богам просьбу-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оли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Изображения богов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ухов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назывались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до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Идола старались задобрить жер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6156360" y="1413000"/>
            <a:ext cx="2421000" cy="5229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2" name="Text Box 7"/>
          <p:cNvSpPr/>
          <p:nvPr/>
        </p:nvSpPr>
        <p:spPr>
          <a:xfrm>
            <a:off x="1863720" y="0"/>
            <a:ext cx="16635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341360"/>
            <a:ext cx="58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0:56:45Z</dcterms:created>
  <dc:creator>дерегузова Н. В.</dc:creator>
  <dc:description/>
  <dc:language>en-US</dc:language>
  <cp:lastModifiedBy>123</cp:lastModifiedBy>
  <dcterms:modified xsi:type="dcterms:W3CDTF">2014-09-22T17:23:22Z</dcterms:modified>
  <cp:revision>18</cp:revision>
  <dc:subject/>
  <dc:title>возникновение земледелия и скотоводства</dc:title>
</cp:coreProperties>
</file>