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635EB-26BC-4BEC-B177-592F403EC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222BC-575F-4583-9E8F-05BC387FE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7BB9A-3F5E-42BF-80BF-88488D0F7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A0AA1-5A02-41E2-8C43-EFDDEDD37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C48CD-9D42-4081-9A01-B0EDB1F9F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32B4A-AC2F-44AD-8A72-EE2EB88E9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E481C-ED9A-4821-8CF5-6DA073B8F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89C6C-A937-45DF-BD27-69F6FF3E9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AA127-7C7C-4940-990A-37673B021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A61B3-C17D-44F7-8656-719975C6C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34539-6B15-461A-BC7F-E6457A355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E8A23-3CC0-43BF-9E45-CDF5515C2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ola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8A3F6-03DE-4E8F-B1BE-0CF2A7702D58}" type="slidenum">
              <a:rPr b="0" lang="ru-RU" sz="1200" spc="-1" strike="noStrike">
                <a:solidFill>
                  <a:srgbClr val="898989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nsportal.ru/shishkina-mariya-sergeevna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nsportal.ru/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00000" y="1915920"/>
            <a:ext cx="7772400" cy="218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olas"/>
              </a:rPr>
              <a:t>«Педагог-психолог в детском саду. Взаимодействие с родителями»</a:t>
            </a:r>
            <a:endParaRPr b="0" lang="en-US" sz="40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916360" y="4365720"/>
            <a:ext cx="57592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Corbel"/>
              </a:rPr>
              <a:t>педагог-психолог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Corbel"/>
              </a:rPr>
              <a:t>Шишкина Мария Сергеевна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TextBox 3"/>
          <p:cNvSpPr/>
          <p:nvPr/>
        </p:nvSpPr>
        <p:spPr>
          <a:xfrm>
            <a:off x="2771640" y="476280"/>
            <a:ext cx="583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ГБОУ СОШ №1208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г. Москва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4" name="Picture 4" descr="позитивный цветок"/>
          <p:cNvPicPr/>
          <p:nvPr/>
        </p:nvPicPr>
        <p:blipFill>
          <a:blip r:embed="rId1"/>
          <a:stretch/>
        </p:blipFill>
        <p:spPr>
          <a:xfrm>
            <a:off x="285840" y="4286160"/>
            <a:ext cx="21636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nsolas"/>
              </a:rPr>
              <a:t>Немного о психологе…</a:t>
            </a:r>
            <a:endParaRPr b="0" lang="en-US" sz="44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46" name="Прямоугольник 6"/>
          <p:cNvSpPr/>
          <p:nvPr/>
        </p:nvSpPr>
        <p:spPr>
          <a:xfrm>
            <a:off x="4071960" y="1785960"/>
            <a:ext cx="392904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5426"/>
                </a:solidFill>
                <a:latin typeface="Times New Roman"/>
                <a:ea typeface="Calibri"/>
              </a:rPr>
              <a:t>Фамилия, имя, отчество: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Шишкина Мария Сергеевна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5426"/>
                </a:solidFill>
                <a:latin typeface="Times New Roman"/>
                <a:ea typeface="Calibri"/>
              </a:rPr>
              <a:t>Профессиональное кредо: </a:t>
            </a: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Не думайте, что воспитываете ребенка только тогда, когда с ним разговариваете. Вы воспитываете его в каждый момент его жизни (</a:t>
            </a:r>
            <a:r>
              <a:rPr b="0" i="1" lang="ru-RU" sz="1800" spc="-1" strike="noStrike">
                <a:solidFill>
                  <a:srgbClr val="000000"/>
                </a:solidFill>
                <a:latin typeface="Corbel"/>
              </a:rPr>
              <a:t>А. С. Макаренко)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5426"/>
                </a:solidFill>
                <a:latin typeface="Times New Roman"/>
                <a:ea typeface="Times New Roman"/>
              </a:rPr>
              <a:t>Сайт:</a:t>
            </a:r>
            <a:r>
              <a:rPr b="1" lang="en-US" sz="1800" spc="-1" strike="noStrike" u="sng">
                <a:solidFill>
                  <a:srgbClr val="17bbfd"/>
                </a:solidFill>
                <a:uFillTx/>
                <a:latin typeface="Times New Roman"/>
                <a:ea typeface="Times New Roman"/>
                <a:hlinkClick r:id="rId1"/>
              </a:rPr>
              <a:t>http://nsportal.ru/shishkina-mariya-sergeevna</a:t>
            </a:r>
            <a:r>
              <a:rPr b="0" lang="ru-RU" sz="1800" spc="-1" strike="noStrike">
                <a:solidFill>
                  <a:srgbClr val="005426"/>
                </a:solidFill>
                <a:latin typeface="Corbe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7" name="Picture 5" descr="http://sch1208uv.mskobr.ru/images/cms/data/1418751693.jpg"/>
          <p:cNvPicPr/>
          <p:nvPr/>
        </p:nvPicPr>
        <p:blipFill>
          <a:blip r:embed="rId2"/>
          <a:stretch/>
        </p:blipFill>
        <p:spPr>
          <a:xfrm>
            <a:off x="1143000" y="1785960"/>
            <a:ext cx="250020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nsolas"/>
              </a:rPr>
              <a:t>Формы работы с родителями:</a:t>
            </a:r>
            <a:endParaRPr b="0" lang="en-US" sz="44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Индивидуальное консультирование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Выступления на родительских собраниях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Анкетирование родителей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Информационно-просветительская работа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«Почта доверия»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Семинары и тренинги для родителей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Детско-родительские тренинги 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olas"/>
              </a:rPr>
              <a:t>Индивидуальное консультирование</a:t>
            </a:r>
            <a:endParaRPr b="0" lang="en-US" sz="40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rbel"/>
              </a:rPr>
              <a:t>Психолог ответит на следующие ваши вопросы: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индивидуальные особенности вашего малыша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особенности того или иного возраста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как можно развивать познавательную сферу ребенка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как вести себя с ребенком в кризисных ситуациях (появление нового члена семьи, развод и т.д.)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причины и коррекция страхов, агрессии, тревожности, застенчивости и других поведенческих проблем  ребенка  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orbel"/>
              </a:rPr>
              <a:t>     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52" name="Picture 6" descr="Деловые люди пожимают руки на совещании"/>
          <p:cNvPicPr/>
          <p:nvPr/>
        </p:nvPicPr>
        <p:blipFill>
          <a:blip r:embed="rId1"/>
          <a:stretch/>
        </p:blipFill>
        <p:spPr>
          <a:xfrm>
            <a:off x="3500280" y="4572000"/>
            <a:ext cx="216072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nsolas"/>
              </a:rPr>
              <a:t>Информационно-просветительская и развивающая работы</a:t>
            </a:r>
            <a:endParaRPr b="0" lang="en-US" sz="36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09040" indent="-5090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Библиотека;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509040" indent="-5090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Папка-передвижка;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509040" indent="-5090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Видеофильмы;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509040" indent="-5090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Памятки-рекомендации;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509040" indent="-5090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Открытки-приглашения;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509040" indent="-5090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Фотовыставка;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509040" indent="-5090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Стенд для родителей «Уголок психолога»;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509040" indent="-50904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8.   Страничка психолога на сайте школы;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509040" indent="-50904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9.   Сайт на портале  </a:t>
            </a:r>
            <a:r>
              <a:rPr b="0" lang="en-US" sz="3000" spc="-1" strike="noStrike" u="sng">
                <a:solidFill>
                  <a:srgbClr val="17bbfd"/>
                </a:solidFill>
                <a:uFillTx/>
                <a:latin typeface="Corbel"/>
                <a:hlinkClick r:id="rId1"/>
              </a:rPr>
              <a:t>nsportal.ru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509040" indent="-50904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55" name="Picture 2" descr="Человек проходит через дверь"/>
          <p:cNvPicPr/>
          <p:nvPr/>
        </p:nvPicPr>
        <p:blipFill>
          <a:blip r:embed="rId2"/>
          <a:stretch/>
        </p:blipFill>
        <p:spPr>
          <a:xfrm>
            <a:off x="6715080" y="185724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nsolas"/>
              </a:rPr>
              <a:t>«Почта доверия»</a:t>
            </a:r>
            <a:endParaRPr b="0" lang="en-US" sz="44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684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создана для вопросов,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ожеланий, отзывов родителей. Находится рядом с кабинетом психолога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58" name="Picture 2" descr="http://ramka.in.ua/uploads/posts/2011-05/1306513568_jsf9z2awhtksupg.jpeg"/>
          <p:cNvPicPr/>
          <p:nvPr/>
        </p:nvPicPr>
        <p:blipFill>
          <a:blip r:embed="rId1"/>
          <a:stretch/>
        </p:blipFill>
        <p:spPr>
          <a:xfrm>
            <a:off x="5429160" y="1571760"/>
            <a:ext cx="318132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6" descr="Рыбки"/>
          <p:cNvPicPr/>
          <p:nvPr/>
        </p:nvPicPr>
        <p:blipFill>
          <a:blip r:embed="rId1"/>
          <a:stretch/>
        </p:blipFill>
        <p:spPr>
          <a:xfrm>
            <a:off x="1571760" y="1428840"/>
            <a:ext cx="6238800" cy="46782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nsolas"/>
              </a:rPr>
              <a:t>Спасибо за внимание!</a:t>
            </a:r>
            <a:endParaRPr b="0" lang="en-US" sz="3600" spc="-1" strike="noStrike">
              <a:solidFill>
                <a:srgbClr val="000000"/>
              </a:solidFill>
              <a:latin typeface="Consola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0T18:00:14Z</dcterms:created>
  <dc:creator>Пользователь</dc:creator>
  <dc:description/>
  <dc:language>en-US</dc:language>
  <cp:lastModifiedBy>IRONMANN (AKA SHAMAN)</cp:lastModifiedBy>
  <dcterms:modified xsi:type="dcterms:W3CDTF">2015-02-28T22:51:11Z</dcterms:modified>
  <cp:revision>51</cp:revision>
  <dc:subject/>
  <dc:title>Слайд 1</dc:title>
</cp:coreProperties>
</file>