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8138-B892-4CE1-912B-414F7525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D632-CBB0-4B78-A428-CC4BB105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B98C-8694-4AF9-AA35-32228B1E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D7FC-2D4C-4B32-B45C-C01E583A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2243-2ED7-43AA-8981-5FDE3C36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BB6-E109-4E94-B404-24B83156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CDCD-777B-46B1-83B3-47883B31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6ED2-D47E-404A-B44A-A6495540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D71D-D2A4-4A98-B525-7A47B6E6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29B6-7599-4C5A-80F2-95154793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5940-3284-4D65-9A1E-5742AD52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A8A-EA67-4181-9A90-CA625E2A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3189-7F02-47C7-AF31-D56D4FA8AB0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14360" y="1133640"/>
            <a:ext cx="8650440" cy="2993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28840" y="5714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de by Zhuravkova V. A., a teacher of English languag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000240" y="4357800"/>
            <a:ext cx="378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Book Antiqua"/>
              </a:rPr>
              <a:t>For 6 for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85480" y="213840"/>
            <a:ext cx="8643960" cy="60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Book Antiqua"/>
              </a:rPr>
              <a:t>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I. Round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1. What is the official language in Great Britain? (10 $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 English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;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) French; c) Russian; d) Chine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2. Big Ben is: (50 $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clock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;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) a horse; c) an animal in the zoo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) b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3. Westminster Abbey is: (100 $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 the chapel; b) the monastery; c) the inn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) the famous Royal chu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4. The changing of guard happens every day at: (500 $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 12.30; b) 12 o'clock;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 11.30 A.M; d) 10 o'clock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14200" y="213840"/>
            <a:ext cx="8786880" cy="60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6400" indent="-402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Book Antiqua"/>
              </a:rPr>
              <a:t>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II 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1. Great Britain is divided into: (10 $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 three parts; b) five parts; c) four parts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) two parts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2. What is a Piccadilly Circus? (50 $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 a circus; b) a square; c) a street; d) a house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3. What is the Tower of London now? (100 $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 a prison; b) a museum; c) a house; d) a fortres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4. The name of the Palace where the Queen lives is: (500 $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 The Tower of London; b) White House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) Windsor Palace; d) Buckingham Palace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14200" y="285840"/>
            <a:ext cx="878688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III R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1. The capital of Great Britain: (10 $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 Paris; b) Moscow; c) London; d) Cardif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2. What can you see in Trafalgar square? (50 $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 Nelson statue; b) King memorial; c) Queen memorial; d) Michael Gorbachev memo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3. The legend says that without them the Tower will fall. They are: (100 $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 the pigeons; b) the cats; c) the squirrels; d) the raven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4. When can you see the flag over the Queen's Palace? (500$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 When she's out; b) When she is abroad; c) When she has a party; d) When she is at hom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214200"/>
            <a:ext cx="8229600" cy="64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IV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аунд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1. England is in: (10 $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 Europe; b) Africa; c) America; 4) Asi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2. Where is London's Zoo? (50 $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 Regent's park; b) Hyde park; c) St. James park; d) Central park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3. The Raven Master is the person who: (100 $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 is the main raven; b) kills the raven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) feeds the ravens; d) chases the rave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4. Sir Christopher Wren built: (500 $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 St. Paul's Cathedral, b) the Tower of London; c) Westminster Abbey; d) the Parliame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6400" indent="-402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000"/>
                </a:solidFill>
                <a:latin typeface="Book Antiqua"/>
              </a:rPr>
              <a:t>          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Book Antiqua"/>
              </a:rPr>
              <a:t>V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Раунд</a:t>
            </a:r>
            <a:r>
              <a:rPr b="1" lang="en-US" sz="2600" spc="-1" strike="noStrike">
                <a:solidFill>
                  <a:srgbClr val="ff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Book Antiqua"/>
              </a:rPr>
              <a:t>1. The name of the river in London is: (10 $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) The Volga; b) the Thames; c) the Nile;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d) the D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Book Antiqua"/>
              </a:rPr>
              <a:t>2. Where can you say everything you want? (50 $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) Regent's park; b) Hyde park; c) St. James park: d) Central park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Book Antiqua"/>
              </a:rPr>
              <a:t>3. Key ceremony in the Tower of London takes place at: (100 $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) seven p.m.: b) ten p.m.; c) five p.m.; d) ten a.m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Book Antiqua"/>
              </a:rPr>
              <a:t>4. London is almost: (500 $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)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ne thousand years old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b) two thousand years old; c) three thousand years old; d) four thousand years old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13840" y="214200"/>
            <a:ext cx="864396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Book Antiqua"/>
              </a:rPr>
              <a:t>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VI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аунд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1. Who is the head of the UK? (10 $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 the Queen; b) the Tsar; c) the Princess; d) the Prin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2. Where can you see pelicans and ducks? (50 $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 Hyde park; b) St. James park; c) Central park; d) Regent's pa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3. Where are the tombs of many British Kings and Queens and other famous people? ( 100 $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 In the Tower of London; b) on the Cemetery; c) on the river bank; d) In Westminster Abb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4. In what country do men wear skirts? (500 $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 France; b) England; c) Scotland; d) Norwa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85480" y="357120"/>
            <a:ext cx="864396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VII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аунд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1. You can get from Russia to England by: (10 $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 bicycle;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b) airplane;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c) car; d) foo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2. The British Parliament is in: (50 $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 the Buckingham Palace;  b) the House of Parliament;  c) Baker Street;  d) Westminster Abbe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3. Covent Garden is now: (100 $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 a cinema; b) a fruit and apple garden; c) theatre; d) a tourist shopping centr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4. The Princess Diana was the wife of: (500 $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 Prince John; b) Prince Robert; c) Prince Edward;  d) Prince Charles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13:47:03Z</dcterms:created>
  <dc:creator>Unknown User</dc:creator>
  <dc:description/>
  <dc:language>en-US</dc:language>
  <cp:lastModifiedBy>Unknown User</cp:lastModifiedBy>
  <dcterms:modified xsi:type="dcterms:W3CDTF">2012-04-22T14:33:00Z</dcterms:modified>
  <cp:revision>10</cp:revision>
  <dc:subject/>
  <dc:title>Who wants to be a Milliner? </dc:title>
</cp:coreProperties>
</file>