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095-354E-4BBE-8DA2-E1AF37D5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752-7E7B-4AD0-A85A-0B1762CA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FB8-AC0E-4F84-92AC-7A723C04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FF2-02FC-4AE4-92FA-64E9F67E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BD3-966A-4D6D-BC50-96570F65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F809-B571-4E51-8B6B-FFA234A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1F5E-3FD3-4B8C-A426-56A7D6BD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8E45-F94C-4890-B33E-BAEAF25A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5A10-EB8D-4DBC-9E6F-F43844C9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499-2510-438F-B6D7-D931884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E72C-A2FE-41AC-93F7-784C1AFD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D27-4E8C-4C56-B81A-525A1899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4B6-52CF-4B00-96EC-77F897D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0048-81B9-46E6-8C14-2B561D8E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8916-71F4-48A6-867E-8656F2EF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8548-6899-4727-B4FE-3F75BC4B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8F9C-FFD8-4AE7-85DC-7D3AE1B1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A7F-DE04-4123-8AC8-2DC0388C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224-60D9-44B7-941C-1D00941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094-E9F9-43BC-A65B-E89E602D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4FC-E897-4902-8863-CF9131CD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465-CE6A-408C-BAA5-7D3D817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652-9DB0-4C5E-9AAC-6B1D5CE6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738-4C6E-47CA-A6C9-974F5703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A708-56C8-4A7D-A1E0-945DE7413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E415-0DC5-47FD-B621-87D4B46C4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809880" cy="4064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География Африки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3952800"/>
            <a:ext cx="326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Выполнили уче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6«А»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уководитель: Мисилевич О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еографическое положение Афри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АФРИКА</a:t>
            </a: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, материк, второй по величине после Евразии. 29,2 млн. км2 (с островами 30,3 млн. км2). С запада омывается Атлантическим океаном, с севера — Средиземным м., с северо-востока — Красным морем, с востока — Индийским океаном. Берега изрезаны слабо; наиболее крупный залив — Гвинейский, п-ов Сомали. В геологическом отношении преимущественно платформа с докембрийским кристаллическим основанием, перекрытым более молодыми осадочными породами. Складчатые горы располагаются лишь на северо-западе (Атлас) и на юге (Капские горы). Средняя высота над уровнем моря 750 м. В рельефе преобладают высокие ступенчатые равнины, плато и плоскогорья; во внутренних районах — обширные тектонические впадины (Калахари в Южной Африке, Конго в Центральной Африке и др.).</a:t>
            </a:r>
            <a:br>
              <a:rPr sz="1400"/>
            </a:b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745080" cy="396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787640" y="2204640"/>
            <a:ext cx="39272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От Красного м. и до р. Замбези Африка раздроблена величайшей в мире системой сбросовых впадин, частично занятых озерами (Танганьика, Ньяса и др.). По краям впадин вулканы Килиманджаро (5895 м, высшая точка Африки), Кения и др. Полезные ископаемые мирового значения: алмазы (Южная и Западная Африка), золото, уран (Южная Африка), руды железа, алюминия (Зап. Африка), меди, кобальта, бериллия, лития (в основном в Южной Африке), фосфориты, нефть, природный газ (Сев. и Зап. Афр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2440" y="641520"/>
            <a:ext cx="3949560" cy="444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 Black"/>
              </a:rPr>
              <a:t>Климат Африки.</a:t>
            </a: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Arial Black"/>
              </a:rPr>
              <a:t>Природные ресурсы, растительность, животный мир Африки.</a:t>
            </a:r>
            <a:br>
              <a:rPr sz="2800"/>
            </a:br>
            <a:endParaRPr b="1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В Африке к северу и югу от зоны экваториального климата следуют зоны субэкваториального, тропического и субтропического климата. Среднемесячные температуры лета около 25-30 °С. Зимой также преобладают высокие положительные температуры (10-25 °С), но в горах бывают температуры ниже 0 °С; в горах Атласа ежегодно выпадает снег. Наибольшее количество осадков в экваториальной зоне (в среднем 1500-2000 мм в год), на побережье Гвинейского зал. (до 3000-4000 мм). К северу и югу от экватора осадки убывают (100 мм и менее в пустынях). Основной сток направлен в Атлантический океан: река Нил (самая длинная в Африке), Конго (Заир), Нигер, Сенегал, Гамбия, Оранжевая и др.; крупная река бассейна Индийского океана — Замбези. Около 1/3 Африки — область внутреннего стока в основном временных водотоков. Наиболее крупные озера — Виктория, Танганьика, Ньяса (Малави).</a:t>
            </a:r>
            <a:br>
              <a:rPr sz="1400"/>
            </a:b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4360" y="3573360"/>
            <a:ext cx="2938680" cy="247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17960" y="259920"/>
            <a:ext cx="3927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Главные типы растительности — саванны и пустыни (крупнейшая — Сахара), занимающие около 80% площади Африки. Влажные экваториальные вечнозеленые леса характерны для экваториальной зоны и прибрежных районов субэкваториальных зон. К северу или югу от них — разреженные тропические леса, переходящие в саванны, а затем в опустыненные саванны. В тропической Африке (главным образом в заповедниках) — слоны, носороги, бегемоты, зебры, антилопы, и др.; львы, гепарды, леопарды и другие крупные хищники. Многочисленны обезьяны, мелкие хищники, грызуны; в сухих районах обилие пресмыкающихся. Множество птиц, в т. ч. страусы, ибисы, фламинго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671640" cy="396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764640"/>
            <a:ext cx="3949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Ущерб хозяйству наносят термиты, саранча, муха цеце. В Африке расположены государства: Алжир, Ангола, Бенин, Ботсвана, Буркина-Фасо, Бурунди, Габон, Гамбия, Гана, Гвинея, Гвинея-Бисау, Джибути, большая часть Египта, Конго (Заир), Замбия, Зимбабве, Кабо-Верде, Камерун, Кения, Конго, Кот-д'Ивуар, Лесото, Либерия, Ливия, Мавритания, Малави, Мали, Марокко, Мозамбик, Намибия, Нигер, Нигерия, Руанда, Свазиленд, Сенегал, Сомали, Судан, Сьерра-Леоне, Танзания, Того, Тунис, Уганда, ЦАР, Чад, Экваториальная Гвинея, Эфиопия, ЮАР, а также территория Зап. Сахара, Сеута и Мелилья. На островах, относящихся к Африке, — государства: Коморские Острова, Маврикий, Мадагаскар, Сан-Томе и Принсипи, Сейшельские Острова, а также Реюньон, Святой Елены Остров. Население Африки 670 млн. человек (1993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714840" cy="453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4602240" cy="3450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4292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КОН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1:51:11Z</dcterms:created>
  <dc:creator>MUSATOV</dc:creator>
  <dc:description/>
  <dc:language>en-US</dc:language>
  <cp:lastModifiedBy>Admin</cp:lastModifiedBy>
  <dcterms:modified xsi:type="dcterms:W3CDTF">2014-12-22T16:08:29Z</dcterms:modified>
  <cp:revision>4</cp:revision>
  <dc:subject/>
  <dc:title>География Африки</dc:title>
</cp:coreProperties>
</file>