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46875-E62C-4AFE-8C7E-64E9BD4B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6FC17-F0A8-460D-8DBA-28B728DA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2DE7D-8D18-45F1-8881-24462B30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EDEE4-E2D8-4DC3-8964-15A9D14C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EF20-8A88-4F17-8ED5-88C4A544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E5BC-D9BE-4621-BAD8-F81EFEAE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0CEC-8CB3-4150-AB0B-06069F16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934A-B57E-4551-910F-0E742D3C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9C2F-6B9E-43FA-873E-4E444294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4D32-DACB-40D8-A9A5-0DBFB11F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6789-057D-4012-B0E3-5C69425C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69620-06E8-4328-BEC6-F03028BD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7B0A-782A-40B2-95D7-1B64552F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C89D-1A0D-4FC0-8434-C1F74484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CCE4-C649-4D86-AC62-D2D17142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06D9-7A83-4501-A92D-97964477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D8FA-8945-49A1-8E5C-6A7EA23A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A8795-DE89-4989-87EB-A955E6B9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DBF21-1740-41D3-A60B-5E4BFED8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004D0-C8AC-430F-833B-E84DFA7E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8C0F0-0B51-453D-A835-6DA1D984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3C3A-1F9F-48F1-88B3-45FBE776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0A630-0092-4FAD-8270-644C5452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E799E-CD19-4FEE-8A48-5100139A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61BE-4FE2-4EBB-8F97-E7EB0161EAC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6E87-2624-42AC-B264-F3B82055007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estia-wm.ru/wp-content/uploads/2011/11/03-Pamyatnik-geroyam-velikoy-pobedyi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estia-wm.ru/wp-content/uploads/2011/11/09-Spaso-Preobrazhenskiy-kafedralnyiy-sobor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bestia-wm.ru/wp-content/uploads/2011/11/10-Kolokolnya-Spaso-Preobrazhenskogo-kafedralnogo-sobora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estia-wm.ru/wp-content/uploads/2011/11/02-Muzeyno-vyistavochnyiy-tsentr-Tambovskoy-oblasti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ЧЕТЫРЕХУГОЛЬНИКИ       В  АРХИТЕКТУРЕ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843280" y="3789000"/>
            <a:ext cx="4713120" cy="27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готовили:Родкин Вале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ыжкин Александр (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ащиеся 8 класса Волхонщинского филиала МБОУ Пичаевской СОШ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уководитель : Макеева Валентина Ивановна,учитель математи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Памятник героям великой побед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62064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271600" y="4652280"/>
            <a:ext cx="46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АМЯТНИК ГЕРОЯМ ВЕЛИКОЙ ПОБЕ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410240" cy="4895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643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ТАМБОВСКИЙ ГОСУДАРСТВЕННЫЙ БАНК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260280"/>
            <a:ext cx="4330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Спасо-Преображенский кафедральный собор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33360"/>
            <a:ext cx="3810240" cy="5715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826920" y="6216120"/>
            <a:ext cx="361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аса -Преображенский кафедральный со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Колокольня Спасо-Преображенского кафедрального собор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04640"/>
            <a:ext cx="381024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641840" y="6216120"/>
            <a:ext cx="45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локольня Спаса -Преображенского кафедрального со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ролевский дворец в Мадриде            Ступиниджи близ Тур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105080" cy="3313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716360" y="692280"/>
            <a:ext cx="4248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Четырехугольники в архитектуре  сказок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8360" y="3789360"/>
            <a:ext cx="2809800" cy="232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0" y="0"/>
          <a:ext cx="182520" cy="5214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1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1800" y="5214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203640" y="1844640"/>
            <a:ext cx="2666880" cy="23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0" y="0"/>
          <a:ext cx="182520" cy="27147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1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1800" y="271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940360" y="3789360"/>
            <a:ext cx="2590920" cy="22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0" y="0"/>
          <a:ext cx="182520" cy="30542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0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1800" y="30538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ВЫВОД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етырехугольники и их свойства имею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ирокое  применение в архитектур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спользуемая литератур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ц А.А.; М., Стройиздат, 1978 г. «Загадки древнерусского чертежа»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лошинов А. В. «Математика и искусство» 2000 г. «Просвещение»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ЭКМ – электронная энциклопедия. «Кирилл и Мефодий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908000" y="2924280"/>
            <a:ext cx="4461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2aa68"/>
                </a:solidFill>
                <a:latin typeface="Tahoma"/>
              </a:rPr>
              <a:t>ЦЕЛ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казать  как в архитектуре используются четырехугольн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Задач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учить и проанализировать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учно-методическую литературу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 проблеме исслед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гипотез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тырехугольники имеют большой спектр использования в архитектур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ез  геометрии не было бы ничег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се  здания, которые нас окружают  - это геометрические фигуры. В XXI веке геометрия и архитектура превратили наши города в величественные мегаполисы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Геометрия в древнерусских постройках.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81374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РИМЕРЫ ПЛАНОВ ДОМО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203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составлении плана дома в большей части используются четырехугольники и их свойства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2684520" cy="2449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059280" y="2492280"/>
            <a:ext cx="2171520" cy="2449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686560" y="2276640"/>
            <a:ext cx="3457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0" y="2565360"/>
            <a:ext cx="3311640" cy="244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3313080" cy="23047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ПРИМЕРЫ ДЕТСКИХ ГОРОДКО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29239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амбовский драматический теа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Музейно-выставочный центр Тамбовской област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357720"/>
            <a:ext cx="5715000" cy="2504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54120" y="6490440"/>
            <a:ext cx="588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узейно-выставочный центр Тамбов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908000" y="620640"/>
            <a:ext cx="554544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8:27:50Z</dcterms:created>
  <dc:creator>Makeeva</dc:creator>
  <dc:description/>
  <dc:language>en-US</dc:language>
  <cp:lastModifiedBy>Makeeva</cp:lastModifiedBy>
  <dcterms:modified xsi:type="dcterms:W3CDTF">2012-01-30T14:23:42Z</dcterms:modified>
  <cp:revision>17</cp:revision>
  <dc:subject/>
  <dc:title>ЧЕТЫРЕХУГОЛЬНИКИ       В  АРХИТЕКТУРЕ </dc:title>
</cp:coreProperties>
</file>