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4D2-116E-49D7-9735-40E7BF3C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D66-17B6-49BA-B9CC-5865B527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BD8-B730-40EA-962C-A14B291F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523-2F41-4483-8421-8BD34C06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53B51-7093-45DC-9CE0-5D4B710C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22BA9-9013-4F25-814D-2E76042D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938BA-220D-43BE-B656-DEF9932F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12959-E55B-46FE-A862-ABAF8051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8D677-EF41-4703-A972-932CACB1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0D978-86D0-4F43-89FB-C2D67FD2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1C00B-652B-4247-B2FC-635A315A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AA2-5BBE-45FD-AB39-76F4DD27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7BC5A-285E-4D9E-AD95-7E85CB60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1C857-30C3-4693-AB12-80A5E79B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34FC4-B234-421B-AC47-AA2D7390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78628-7F78-4518-B083-1F21E3C2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86D41-6ED3-4540-8F01-8A8D018C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A90-2B00-4574-B862-54EC52C6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087-B4FA-4AD7-8D9F-55E40903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3A2-694E-4F83-9868-F3B6E3A5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B62-37D4-43E3-80C9-8A8DD9AB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EE4-A902-4D70-A22B-08A8DDF6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63E-2A39-453D-828F-F93C80FE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ED8-687E-44DF-8EAC-5D72064A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E348-8992-40E3-85B4-C8E368CCC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E143-5D09-4EC2-9A90-CA1E2AA0BC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Monotype Corsiva"/>
              </a:rPr>
              <a:t>Мы верим, всё у нас получит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Monotype Corsiva"/>
              </a:rPr>
              <a:t>Удачным будет этот день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Monotype Corsiva"/>
              </a:rPr>
              <a:t>Преодолеем все мы трудност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Monotype Corsiva"/>
              </a:rPr>
              <a:t>Лишь было бы учиться нам не лен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Училка"/>
          <p:cNvPicPr/>
          <p:nvPr/>
        </p:nvPicPr>
        <p:blipFill>
          <a:blip r:embed="rId1"/>
          <a:stretch/>
        </p:blipFill>
        <p:spPr>
          <a:xfrm>
            <a:off x="7236000" y="0"/>
            <a:ext cx="1693800" cy="180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BOOK1"/>
          <p:cNvPicPr/>
          <p:nvPr/>
        </p:nvPicPr>
        <p:blipFill>
          <a:blip r:embed="rId2"/>
          <a:stretch/>
        </p:blipFill>
        <p:spPr>
          <a:xfrm>
            <a:off x="1763640" y="5537160"/>
            <a:ext cx="1662120" cy="81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QUILLPEN"/>
          <p:cNvPicPr/>
          <p:nvPr/>
        </p:nvPicPr>
        <p:blipFill>
          <a:blip r:embed="rId3"/>
          <a:stretch/>
        </p:blipFill>
        <p:spPr>
          <a:xfrm>
            <a:off x="324000" y="4941720"/>
            <a:ext cx="1152360" cy="174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4"/>
          <a:stretch/>
        </p:blipFill>
        <p:spPr>
          <a:xfrm>
            <a:off x="108000" y="103320"/>
            <a:ext cx="1944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:\Users\Анфиса\Desktop\i.jpg"/>
          <p:cNvPicPr/>
          <p:nvPr/>
        </p:nvPicPr>
        <p:blipFill>
          <a:blip r:embed="rId1"/>
          <a:stretch/>
        </p:blipFill>
        <p:spPr>
          <a:xfrm>
            <a:off x="1785960" y="1571760"/>
            <a:ext cx="5786280" cy="4340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Недетское время.mp3" descr=""/>
          <p:cNvPicPr/>
          <p:nvPr/>
        </p:nvPicPr>
        <p:blipFill>
          <a:blip r:embed="rId2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4424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Как изменяются имена существи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599840"/>
            <a:ext cx="4495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о чис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Единственное число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Множественное числ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озавры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о падеж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тельный   кто? чт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ный      кого? чег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ельный          кому? 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ительный      кого? 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ительный     кем? че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ный       о ком? о че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Просклонять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лиса, с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83" descr="NA01441_"/>
          <p:cNvPicPr/>
          <p:nvPr/>
        </p:nvPicPr>
        <p:blipFill>
          <a:blip r:embed="rId1"/>
          <a:stretch/>
        </p:blipFill>
        <p:spPr>
          <a:xfrm>
            <a:off x="395280" y="2492280"/>
            <a:ext cx="1357200" cy="1433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All Users\Документы\Мои рисунки\Мои рисунки\животные\D_046.BMP"/>
          <p:cNvPicPr/>
          <p:nvPr/>
        </p:nvPicPr>
        <p:blipFill>
          <a:blip r:embed="rId2"/>
          <a:stretch/>
        </p:blipFill>
        <p:spPr>
          <a:xfrm>
            <a:off x="0" y="5214960"/>
            <a:ext cx="2286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мена существительные бывают мужского, женского или среднего 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429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                 Избушка               О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Анфиса\Desktop\tova-h119.jpg"/>
          <p:cNvPicPr/>
          <p:nvPr/>
        </p:nvPicPr>
        <p:blipFill>
          <a:blip r:embed="rId1"/>
          <a:stretch/>
        </p:blipFill>
        <p:spPr>
          <a:xfrm>
            <a:off x="571680" y="3786120"/>
            <a:ext cx="1847520" cy="1849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Анфиса\Desktop\0106.jpg"/>
          <p:cNvPicPr/>
          <p:nvPr/>
        </p:nvPicPr>
        <p:blipFill>
          <a:blip r:embed="rId2"/>
          <a:stretch/>
        </p:blipFill>
        <p:spPr>
          <a:xfrm>
            <a:off x="3429000" y="3571920"/>
            <a:ext cx="2205000" cy="187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Анфиса\Desktop\s_windows_090510_19_ps.jpg"/>
          <p:cNvPicPr/>
          <p:nvPr/>
        </p:nvPicPr>
        <p:blipFill>
          <a:blip r:embed="rId3"/>
          <a:stretch/>
        </p:blipFill>
        <p:spPr>
          <a:xfrm>
            <a:off x="6643800" y="3643200"/>
            <a:ext cx="2143080" cy="19494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1"/>
          <p:cNvSpPr/>
          <p:nvPr/>
        </p:nvSpPr>
        <p:spPr>
          <a:xfrm>
            <a:off x="1361160" y="25002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4644720" y="242892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7647480" y="25002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927000" y="221472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Мужской 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4143240" y="22147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Женский 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9"/>
          <p:cNvSpPr/>
          <p:nvPr/>
        </p:nvSpPr>
        <p:spPr>
          <a:xfrm>
            <a:off x="7434000" y="2214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редний 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интаксическая роль в предлож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51732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осс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моя Род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17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я родная страна –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ос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17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границей я часто думаю о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17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самого рождения я живу в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1732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 членом предложения является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Росс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мя существительное может быть и подлежащим, и сказуемым, и дополнением, и обстоятель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17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3"/>
          <p:cNvSpPr/>
          <p:nvPr/>
        </p:nvSpPr>
        <p:spPr>
          <a:xfrm>
            <a:off x="2797200" y="3660840"/>
            <a:ext cx="2897280" cy="2144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предме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‒•‒•‒•‒•‒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Овал 4"/>
          <p:cNvSpPr/>
          <p:nvPr/>
        </p:nvSpPr>
        <p:spPr>
          <a:xfrm>
            <a:off x="3286080" y="2376360"/>
            <a:ext cx="1920960" cy="14144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Овал 5"/>
          <p:cNvSpPr/>
          <p:nvPr/>
        </p:nvSpPr>
        <p:spPr>
          <a:xfrm>
            <a:off x="3679920" y="1413000"/>
            <a:ext cx="1179360" cy="1152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Трапеция 6"/>
          <p:cNvSpPr/>
          <p:nvPr/>
        </p:nvSpPr>
        <p:spPr>
          <a:xfrm>
            <a:off x="3808440" y="1028880"/>
            <a:ext cx="950760" cy="504720"/>
          </a:xfrm>
          <a:prstGeom prst="pi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Овал 7"/>
          <p:cNvSpPr/>
          <p:nvPr/>
        </p:nvSpPr>
        <p:spPr>
          <a:xfrm>
            <a:off x="5003640" y="2617920"/>
            <a:ext cx="812880" cy="490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Овал 9"/>
          <p:cNvSpPr/>
          <p:nvPr/>
        </p:nvSpPr>
        <p:spPr>
          <a:xfrm>
            <a:off x="2700360" y="2592360"/>
            <a:ext cx="795240" cy="51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Овал 16"/>
          <p:cNvSpPr/>
          <p:nvPr/>
        </p:nvSpPr>
        <p:spPr>
          <a:xfrm>
            <a:off x="2916360" y="5589720"/>
            <a:ext cx="903240" cy="576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д.ч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Овал 17"/>
          <p:cNvSpPr/>
          <p:nvPr/>
        </p:nvSpPr>
        <p:spPr>
          <a:xfrm>
            <a:off x="4740120" y="5589720"/>
            <a:ext cx="954360" cy="576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.ч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Овал 18"/>
          <p:cNvSpPr/>
          <p:nvPr/>
        </p:nvSpPr>
        <p:spPr>
          <a:xfrm>
            <a:off x="3808440" y="2593800"/>
            <a:ext cx="812880" cy="403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.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19"/>
          <p:cNvSpPr/>
          <p:nvPr/>
        </p:nvSpPr>
        <p:spPr>
          <a:xfrm>
            <a:off x="3819600" y="2994120"/>
            <a:ext cx="812880" cy="403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.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0"/>
          <p:cNvSpPr/>
          <p:nvPr/>
        </p:nvSpPr>
        <p:spPr>
          <a:xfrm>
            <a:off x="3819600" y="3397320"/>
            <a:ext cx="812880" cy="403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.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Дуга 21"/>
          <p:cNvSpPr/>
          <p:nvPr/>
        </p:nvSpPr>
        <p:spPr>
          <a:xfrm rot="5400000">
            <a:off x="3768840" y="1531800"/>
            <a:ext cx="914400" cy="91440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Равнобедренный треугольник 22"/>
          <p:cNvSpPr/>
          <p:nvPr/>
        </p:nvSpPr>
        <p:spPr>
          <a:xfrm>
            <a:off x="3579840" y="2090880"/>
            <a:ext cx="639720" cy="115920"/>
          </a:xfrm>
          <a:prstGeom prst="triangle">
            <a:avLst>
              <a:gd name="adj" fmla="val 90935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Блок-схема: узел 23"/>
          <p:cNvSpPr/>
          <p:nvPr/>
        </p:nvSpPr>
        <p:spPr>
          <a:xfrm>
            <a:off x="3900600" y="1868400"/>
            <a:ext cx="71280" cy="619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Блок-схема: узел 24"/>
          <p:cNvSpPr/>
          <p:nvPr/>
        </p:nvSpPr>
        <p:spPr>
          <a:xfrm flipH="1">
            <a:off x="4355280" y="1868400"/>
            <a:ext cx="101880" cy="619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олилиния 34"/>
          <p:cNvSpPr/>
          <p:nvPr/>
        </p:nvSpPr>
        <p:spPr>
          <a:xfrm>
            <a:off x="3736800" y="5315040"/>
            <a:ext cx="1190880" cy="7596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олилиния 35"/>
          <p:cNvSpPr/>
          <p:nvPr/>
        </p:nvSpPr>
        <p:spPr>
          <a:xfrm>
            <a:off x="3808440" y="5276880"/>
            <a:ext cx="923760" cy="954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Скругленная соединительная линия 37"/>
          <p:cNvCxnSpPr/>
          <p:nvPr/>
        </p:nvCxnSpPr>
        <p:spPr>
          <a:xfrm>
            <a:off x="7071840" y="5714640"/>
            <a:ext cx="700920" cy="57960"/>
          </a:xfrm>
          <a:prstGeom prst="curvedConnector5">
            <a:avLst>
              <a:gd name="adj1" fmla="val 48715"/>
              <a:gd name="adj2" fmla="val 50000"/>
              <a:gd name="adj3" fmla="val 48715"/>
            </a:avLst>
          </a:prstGeom>
          <a:ln w="9360">
            <a:solidFill>
              <a:srgbClr val="b6dcdf"/>
            </a:solidFill>
            <a:miter/>
          </a:ln>
        </p:spPr>
      </p:cxnSp>
      <p:sp>
        <p:nvSpPr>
          <p:cNvPr id="170" name="Полилиния 43"/>
          <p:cNvSpPr/>
          <p:nvPr/>
        </p:nvSpPr>
        <p:spPr>
          <a:xfrm>
            <a:off x="3808440" y="5202360"/>
            <a:ext cx="1038240" cy="9828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ая соединительная линия 45"/>
          <p:cNvSpPr/>
          <p:nvPr/>
        </p:nvSpPr>
        <p:spPr>
          <a:xfrm>
            <a:off x="3857760" y="4572000"/>
            <a:ext cx="785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7-конечная звезда 54"/>
          <p:cNvSpPr/>
          <p:nvPr/>
        </p:nvSpPr>
        <p:spPr>
          <a:xfrm>
            <a:off x="6572160" y="2928960"/>
            <a:ext cx="843120" cy="7142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.п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7-конечная звезда 55"/>
          <p:cNvSpPr/>
          <p:nvPr/>
        </p:nvSpPr>
        <p:spPr>
          <a:xfrm>
            <a:off x="1643040" y="4071960"/>
            <a:ext cx="843120" cy="7142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Д.п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7-конечная звезда 56"/>
          <p:cNvSpPr/>
          <p:nvPr/>
        </p:nvSpPr>
        <p:spPr>
          <a:xfrm>
            <a:off x="571680" y="2857680"/>
            <a:ext cx="842760" cy="7142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.п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7-конечная звезда 57"/>
          <p:cNvSpPr/>
          <p:nvPr/>
        </p:nvSpPr>
        <p:spPr>
          <a:xfrm>
            <a:off x="1928880" y="1285920"/>
            <a:ext cx="842760" cy="7142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.п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7-конечная звезда 58"/>
          <p:cNvSpPr/>
          <p:nvPr/>
        </p:nvSpPr>
        <p:spPr>
          <a:xfrm>
            <a:off x="7786800" y="3857760"/>
            <a:ext cx="842760" cy="7142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.п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7-конечная звезда 59"/>
          <p:cNvSpPr/>
          <p:nvPr/>
        </p:nvSpPr>
        <p:spPr>
          <a:xfrm>
            <a:off x="6072120" y="1428840"/>
            <a:ext cx="843120" cy="7142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.п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WordArt 2" descr=""/>
          <p:cNvPicPr/>
          <p:nvPr/>
        </p:nvPicPr>
        <p:blipFill>
          <a:blip r:embed="rId1"/>
          <a:stretch/>
        </p:blipFill>
        <p:spPr>
          <a:xfrm>
            <a:off x="324000" y="133200"/>
            <a:ext cx="8448480" cy="59994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ая соединительная линия 29"/>
          <p:cNvSpPr/>
          <p:nvPr/>
        </p:nvSpPr>
        <p:spPr>
          <a:xfrm>
            <a:off x="3857760" y="4786200"/>
            <a:ext cx="7855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ая соединительная линия 30"/>
          <p:cNvSpPr/>
          <p:nvPr/>
        </p:nvSpPr>
        <p:spPr>
          <a:xfrm>
            <a:off x="3857760" y="4857840"/>
            <a:ext cx="785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 существительное- это часть речи, которая обозначае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едм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отвечает на вопросы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то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а существительные бываю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ужского, женского или среднего ро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а существительные изменяются п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исл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адеж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едложении имена существ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длежащим, дополнением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бстоятельств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абота с тек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ик , страница 181, упражнение 46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ТЕСТ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ВЗАИМОПРОВЕР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5» — 5 правильных ответов;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4» — 4 правильных ответа;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3» — 3 правильных ответа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ю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И напоследо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- Оцените итоги работы на уроке, дополняя предло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не удалос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узнал, ч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не понравилос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могу похвалить себя з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не было трудн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7" descr="cdolls118.gif"/>
          <p:cNvPicPr/>
          <p:nvPr/>
        </p:nvPicPr>
        <p:blipFill>
          <a:blip r:embed="rId1"/>
          <a:stretch/>
        </p:blipFill>
        <p:spPr>
          <a:xfrm>
            <a:off x="285840" y="277920"/>
            <a:ext cx="8572320" cy="6294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1857240" y="573120"/>
            <a:ext cx="5643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Девятнадцатое  феврал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Классная работ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Имя существительное как часть речи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отличать имя существительное от других частей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 значение и морфологические признаки существительного как части реч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находить существительные в тексте и определять их морфологические признаки и синтаксическую 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Значения существи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1"/>
          <p:cNvSpPr/>
          <p:nvPr/>
        </p:nvSpPr>
        <p:spPr>
          <a:xfrm>
            <a:off x="3348000" y="3716280"/>
            <a:ext cx="2808360" cy="71928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32"/>
          <p:cNvSpPr/>
          <p:nvPr/>
        </p:nvSpPr>
        <p:spPr>
          <a:xfrm>
            <a:off x="1258920" y="1989000"/>
            <a:ext cx="28814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ивые организ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38"/>
          <p:cNvSpPr/>
          <p:nvPr/>
        </p:nvSpPr>
        <p:spPr>
          <a:xfrm>
            <a:off x="5292720" y="2060640"/>
            <a:ext cx="28814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м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39"/>
          <p:cNvSpPr/>
          <p:nvPr/>
        </p:nvSpPr>
        <p:spPr>
          <a:xfrm>
            <a:off x="6732720" y="3716280"/>
            <a:ext cx="2232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40"/>
          <p:cNvSpPr/>
          <p:nvPr/>
        </p:nvSpPr>
        <p:spPr>
          <a:xfrm>
            <a:off x="5219640" y="5516640"/>
            <a:ext cx="28814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йствие как предм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1"/>
          <p:cNvSpPr/>
          <p:nvPr/>
        </p:nvSpPr>
        <p:spPr>
          <a:xfrm>
            <a:off x="1187280" y="5445000"/>
            <a:ext cx="28814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щ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42"/>
          <p:cNvSpPr/>
          <p:nvPr/>
        </p:nvSpPr>
        <p:spPr>
          <a:xfrm>
            <a:off x="179280" y="3716280"/>
            <a:ext cx="28814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знак как предм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4"/>
          <p:cNvSpPr/>
          <p:nvPr/>
        </p:nvSpPr>
        <p:spPr>
          <a:xfrm>
            <a:off x="6156360" y="40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5"/>
          <p:cNvSpPr/>
          <p:nvPr/>
        </p:nvSpPr>
        <p:spPr>
          <a:xfrm flipV="1">
            <a:off x="5508720" y="2781360"/>
            <a:ext cx="431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6"/>
          <p:cNvSpPr/>
          <p:nvPr/>
        </p:nvSpPr>
        <p:spPr>
          <a:xfrm flipH="1" flipV="1">
            <a:off x="3132000" y="2781360"/>
            <a:ext cx="719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47"/>
          <p:cNvSpPr/>
          <p:nvPr/>
        </p:nvSpPr>
        <p:spPr>
          <a:xfrm flipH="1">
            <a:off x="3059280" y="40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48"/>
          <p:cNvSpPr/>
          <p:nvPr/>
        </p:nvSpPr>
        <p:spPr>
          <a:xfrm flipH="1">
            <a:off x="2700000" y="4365720"/>
            <a:ext cx="11509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9"/>
          <p:cNvSpPr/>
          <p:nvPr/>
        </p:nvSpPr>
        <p:spPr>
          <a:xfrm>
            <a:off x="5580000" y="436572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разуй имя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брый – храбрость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лый – смелость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ёлый – веселье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дить – ход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ыгать – прыж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ить – кос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Существительные могут обозначать признак как предмет. Такие существительные образуются обычно от прилагате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уществительные могут обозначать действие как предмет. Такие существительные образуются обычно от глаго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2714760" y="1714680"/>
            <a:ext cx="171432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2643120" y="2214720"/>
            <a:ext cx="178596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2571840" y="2714760"/>
            <a:ext cx="15714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2428920" y="3214800"/>
            <a:ext cx="157176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2643120" y="3714840"/>
            <a:ext cx="164304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2357280" y="4214880"/>
            <a:ext cx="157176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аспределить слова в соответствии с их  зна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оза, смелость, молотьба, зеркало, тетрадь, Олег, бег, радость, олень, стрельба, ветер, синева, велосипед, пилот, собака, гололедица, тракторист, ко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предм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при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я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Названия людей -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лег, пилот, трактори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Названия предметов -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зеркало, тетрадь, велосипе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Названия признаков -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мелость, радость, син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Названия действий -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молотьба, стрельба, б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Названия животных –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лень, собака, ко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Названия явлений -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гроза, ветер, гололед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 Black"/>
              </a:rPr>
              <a:t>РАСПРЕДЕЛИТ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 Black"/>
              </a:rPr>
              <a:t>Кто?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500" spc="-1" strike="noStrike">
                <a:solidFill>
                  <a:srgbClr val="ff0000"/>
                </a:solidFill>
                <a:latin typeface="Arial Black"/>
              </a:rPr>
              <a:t>Что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фав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жен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офе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ол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ртф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оля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и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ов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61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ТО?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женер                                    а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фер                                      портф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яр                                       сви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ва                                       хол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ушевлённые имена существительные отвечают на вопрос КТО? неодушевлённые на вопрос 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2431080" y="2071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2216880" y="26431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2145240" y="3214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2002320" y="37861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7646040" y="2071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7574400" y="26431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7003080" y="3286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10"/>
          <p:cNvSpPr/>
          <p:nvPr/>
        </p:nvSpPr>
        <p:spPr>
          <a:xfrm>
            <a:off x="6788880" y="3857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21:50:12Z</dcterms:created>
  <dc:creator>1</dc:creator>
  <dc:description/>
  <dc:language>en-US</dc:language>
  <cp:lastModifiedBy>Анфиса</cp:lastModifiedBy>
  <dcterms:modified xsi:type="dcterms:W3CDTF">2015-02-19T07:23:37Z</dcterms:modified>
  <cp:revision>122</cp:revision>
  <dc:subject/>
  <dc:title>Имя существительное как часть речи</dc:title>
</cp:coreProperties>
</file>