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9242-14A5-4415-9BCC-8D1FAC275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FB1-784E-44DE-8101-D7A4D69D3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EFE3-DB51-4C1A-B365-9961E58A3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5E8-0F8A-4A08-99D3-762D40DF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36C-F7C0-49A4-853B-B5959409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C13-79A7-4838-B453-D7B0B8B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FC0-4A74-4162-B5DE-C281C351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8B9F-D42E-4096-A8FA-FE4E0E5D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9AB-E984-45B9-BA5D-03081A14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0865-8A97-41E0-8BF7-30AB254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56B-11EE-4175-88A4-4AECF0D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461-8E88-4A66-9F6F-2C31C89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27F6-8A4E-495E-AC28-17B9D2BC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16B7-2A5F-4564-A293-20C0FE8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106-F617-4AE7-B355-5B67EDBE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140E-63A6-4553-8BE5-138205D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5429-A395-44CE-8B46-8E62459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8B40-13B6-45AE-A00F-5FCB443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086-31AC-4358-AB46-D8C04A6E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13D-9642-4EF4-AA85-F1165AEC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B320-C97C-4C0D-9B56-183FD6E4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8EFA-6C21-4126-B148-DF2E76FC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55E5-ECC0-4CAF-A19C-38B3A84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77A4-A444-4EF9-B57A-F8E30ECA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DFBE-8A45-44D1-913F-9CDE7524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796-B959-4A5F-981C-9EF98EE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88B4-BD7D-45E5-AB10-1B52A0B0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AEFE-3B27-4868-964B-EDA003B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8C58-2B4A-46A3-95E4-C1788CF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2730-D1C9-45D1-945A-99E99828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E490-08C5-4B39-AAD0-66ADEC6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851E-00DF-49BC-A93D-172E1B94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410D-9DE7-472C-BFA8-A34833D7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C77F-6D24-4F52-9010-72D0B3B4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D3A1-2FB2-4186-A949-DDC2266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CCF0-495C-4C2A-97CD-A22EC3B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566-4680-45BF-BF2B-C7A252A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3FA9-27D9-4EE4-B7E8-B910B9FB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E798-674E-40FC-A907-1AEBDED8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0EC8-96D6-47C9-954B-2EBC1F0C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6EEF-2F41-4870-8B31-5EDEFD6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3F7A-EFD7-495F-9F82-321784D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0A91-0DF2-4276-92D4-B7DF54B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95B4-C78E-4979-9AEF-534D8AF6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0B78-01B7-45C8-AE68-0CFCDC5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C691-C947-4A9D-ACF1-81BEA3DD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392-4394-4D64-8243-3C1E0491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961-0016-44D7-B935-E31FBD00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018-EA75-4062-9DB2-2A7F293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C67-1BCF-4E7A-A00B-FB8B784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E84-ED4E-4150-9C04-A78639E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1CA-2B35-4A8F-9646-96EB5B6EF284}" type="slidenum">
              <a:rPr b="0" lang="ru-RU" sz="1200" spc="-1" strike="noStrike">
                <a:solidFill>
                  <a:srgbClr val="045c75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9AD-F486-4C23-AC9B-08C1B65F7BD9}" type="slidenum">
              <a:rPr b="0" lang="ru-RU" sz="1200" spc="-1" strike="noStrike">
                <a:solidFill>
                  <a:srgbClr val="d1eaee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FD03-6A2B-46AD-B55B-94290A96C5CB}" type="slidenum">
              <a:rPr b="0" lang="ru-RU" sz="1200" spc="-1" strike="noStrike">
                <a:solidFill>
                  <a:srgbClr val="d1eaee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618D-EBA3-4A51-A7F9-C6514222B6FC}" type="slidenum">
              <a:rPr b="0" lang="ru-RU" sz="1200" spc="-1" strike="noStrike">
                <a:solidFill>
                  <a:srgbClr val="045c75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6"/>
          <p:cNvPicPr/>
          <p:nvPr/>
        </p:nvPicPr>
        <p:blipFill>
          <a:blip r:embed="rId1"/>
          <a:stretch/>
        </p:blipFill>
        <p:spPr>
          <a:xfrm>
            <a:off x="142920" y="3500280"/>
            <a:ext cx="3403440" cy="314172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6" descr=""/>
          <p:cNvPicPr/>
          <p:nvPr/>
        </p:nvPicPr>
        <p:blipFill>
          <a:blip r:embed="rId2"/>
          <a:stretch/>
        </p:blipFill>
        <p:spPr>
          <a:xfrm>
            <a:off x="633240" y="420840"/>
            <a:ext cx="8156880" cy="31813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3780000" y="5442120"/>
            <a:ext cx="546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Выполнил: Пухтееа Юл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БОУ «Гимназия №166 г. Новоалта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Имя прилагательное</a:t>
            </a:r>
            <a:endParaRPr b="0" lang="en-US" sz="6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b5395"/>
                </a:solidFill>
                <a:latin typeface="Century Schoolbook"/>
              </a:rPr>
              <a:t>Изменяемая часть речи, обозначает признак предмета и отвечает на вопрос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72428"/>
                </a:solidFill>
                <a:latin typeface="Century Schoolbook"/>
              </a:rPr>
              <a:t>какой?  какая?  какое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Имя прилагательное изменяется по </a:t>
            </a:r>
            <a:r>
              <a:rPr b="0" lang="ru-RU" sz="3000" spc="-1" strike="noStrike">
                <a:solidFill>
                  <a:srgbClr val="072428"/>
                </a:solidFill>
                <a:latin typeface="Century Schoolbook"/>
              </a:rPr>
              <a:t>родам, числам и падежам</a:t>
            </a: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entury Schoolbook"/>
              </a:rPr>
              <a:t>Имя прилагательное связано в предложении с именем существительны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6" descr="http://festival.1september.ru/articles/410497/img1.gif"/>
          <p:cNvPicPr/>
          <p:nvPr/>
        </p:nvPicPr>
        <p:blipFill>
          <a:blip r:embed="rId1"/>
          <a:stretch/>
        </p:blipFill>
        <p:spPr>
          <a:xfrm>
            <a:off x="198360" y="1268280"/>
            <a:ext cx="8550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7" descr="http://festival.1september.ru/articles/410497/img2.gif"/>
          <p:cNvPicPr/>
          <p:nvPr/>
        </p:nvPicPr>
        <p:blipFill>
          <a:blip r:embed="rId1"/>
          <a:stretch/>
        </p:blipFill>
        <p:spPr>
          <a:xfrm>
            <a:off x="250920" y="1052640"/>
            <a:ext cx="8773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5280" y="2852280"/>
            <a:ext cx="885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 теперь , ребята, вста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ыстро руки вверх подняли, помахал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стороны развели, вперёд, хлопок,  назад, хлоп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овернулись вправо, влево, вправо, влев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ихо сели, вновь за дел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1" name="Прямоугольник 3" descr=""/>
          <p:cNvPicPr/>
          <p:nvPr/>
        </p:nvPicPr>
        <p:blipFill>
          <a:blip r:embed="rId1"/>
          <a:stretch/>
        </p:blipFill>
        <p:spPr>
          <a:xfrm>
            <a:off x="2120760" y="1195560"/>
            <a:ext cx="458496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Измене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имён прилагательных по родам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4200" y="2357280"/>
          <a:ext cx="8715600" cy="2571840"/>
        </p:xfrm>
        <a:graphic>
          <a:graphicData uri="http://schemas.openxmlformats.org/drawingml/2006/table">
            <a:tbl>
              <a:tblPr/>
              <a:tblGrid>
                <a:gridCol w="3043440"/>
                <a:gridCol w="2975040"/>
                <a:gridCol w="269712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ДЕНЬ (КАКОЙ?) ТЁПЛ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ГОРОД (КАКОЙ?) РОДН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ШАРФ (КАКОЙ?) СИН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НОЧЬ (КАКАЯ?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ТЁПЛ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ДЕРЕВНЯ (КАКАЯ?) РОД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ЛЕНТА (КАКАЯ?) СИН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УТРО (КАКОЕ?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ТЁПЛ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СЕЛО (КАКОЕ?) РОДН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Bookman Old Style"/>
                        </a:rPr>
                        <a:t>ПЛАТЬЕ (КАКОЕ?) СИН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468360" y="1052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 словосочетания и объясните пропущенные орф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39640" y="24210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…рёзов…рощ. . , одн. . летн… растение,  в. . сточный в. . тер, в. . сенн. . п. . года, ов…щной м. . газин, ст…личн. . м. . тро, ф…вральск. . праз. . 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19120" y="4815000"/>
            <a:ext cx="8393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выполняется по ряд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исывает словосочетания, в которых имена прил. употреблены в ж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писывает словосочетания, в которых имена прил. употреблены в м. 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писывает словосочетания, в которых имена прил. употреблены в с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0" descr=""/>
          <p:cNvPicPr/>
          <p:nvPr/>
        </p:nvPicPr>
        <p:blipFill>
          <a:blip r:embed="rId1"/>
          <a:stretch/>
        </p:blipFill>
        <p:spPr>
          <a:xfrm>
            <a:off x="469800" y="609480"/>
            <a:ext cx="8302680" cy="15843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1"/>
          <p:cNvSpPr/>
          <p:nvPr/>
        </p:nvSpPr>
        <p:spPr>
          <a:xfrm>
            <a:off x="539640" y="2060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ет ветерок светит солнышко льётся пес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2"/>
          <p:cNvSpPr/>
          <p:nvPr/>
        </p:nvSpPr>
        <p:spPr>
          <a:xfrm>
            <a:off x="439560" y="4005360"/>
            <a:ext cx="82648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сколько здесь предложений, какие это предложения по сост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ространите эти предложения, используя прилагательны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, ласковое, тёп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те распространённы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жите род и число каждого прилага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2" descr=""/>
          <p:cNvPicPr/>
          <p:nvPr/>
        </p:nvPicPr>
        <p:blipFill>
          <a:blip r:embed="rId1"/>
          <a:stretch/>
        </p:blipFill>
        <p:spPr>
          <a:xfrm>
            <a:off x="2341440" y="835200"/>
            <a:ext cx="4102200" cy="92700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468360" y="1989000"/>
            <a:ext cx="835164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урок заканчивается. Мы получили новые знания.                      Но у меня остались к вам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нравился вам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лись ли вы чему- то ново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прилагательные назвали именно т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нового вы узнали об имени прилагательн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родовые окончания име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311720" y="141300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Bookman Old Style"/>
              </a:rPr>
              <a:t>В природе есть солнц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Bookman Old Style"/>
              </a:rPr>
              <a:t>Оно светит и всех нас любит и гре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Bookman Old Style"/>
              </a:rPr>
              <a:t>Так пусть же каждый его лучит заглянет к нам в класс и не только обогреет вас своим теплом, но и придаст сил и уверенности в знан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6" name="Picture 8" descr="image922"/>
          <p:cNvPicPr/>
          <p:nvPr/>
        </p:nvPicPr>
        <p:blipFill>
          <a:blip r:embed="rId1"/>
          <a:stretch/>
        </p:blipFill>
        <p:spPr>
          <a:xfrm>
            <a:off x="357120" y="1285920"/>
            <a:ext cx="3954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6360" y="1365120"/>
            <a:ext cx="8826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игнальные карточки: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6760" y="278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ботал в полную силу –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красный кружок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ботал хорошо –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синий кружок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ог работать лучше – 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зелёный кружок</a:t>
            </a:r>
            <a:r>
              <a:rPr b="0" lang="ru-RU" sz="2800" spc="-1" strike="noStrike">
                <a:solidFill>
                  <a:srgbClr val="00b05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man Old Style"/>
              </a:rPr>
              <a:t>Домашнее задание</a:t>
            </a:r>
            <a:endParaRPr b="0" lang="en-US" sz="6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a3"/>
                </a:solidFill>
                <a:latin typeface="Bookman Old Style"/>
              </a:rPr>
              <a:t>СПАСИБО ЗА ВНИМАНИЕ!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249" name="Picture 5" descr="weddingbells"/>
          <p:cNvPicPr/>
          <p:nvPr/>
        </p:nvPicPr>
        <p:blipFill>
          <a:blip r:embed="rId1"/>
          <a:stretch/>
        </p:blipFill>
        <p:spPr>
          <a:xfrm>
            <a:off x="2214720" y="2214720"/>
            <a:ext cx="47145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9aaf2"/>
                </a:solidFill>
                <a:latin typeface="Century Schoolbook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Загадка:</a:t>
            </a:r>
            <a:endParaRPr b="0" lang="en-US" sz="7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23065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шла, улыбнулась – утихли метел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званивать стал колокольчик капел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ка пробудилась, растаяли льды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ряд белоснежный надели сад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(весна)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entury Schoolbook"/>
              </a:rPr>
              <a:t>Минутка чистописания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5681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весна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2340000" y="2268360"/>
            <a:ext cx="777096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етрадь свою отк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клонно пол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, от вас не скрою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у я вот так дер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ду прямо, не согн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боту я возьм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вде  В евд  В де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егодня на уроке мы будем учиться определять род имён прилагательных и правильно писать родовые окончания имен прилагательных.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2765520"/>
          <a:ext cx="8229600" cy="259380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ая зимняя ел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рог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ое зимнее снеж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1230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зе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ой зимний еловый  глубок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одберите к существительным соответствующие имена прилагательные. Задайте к ним вопрос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63480" y="234900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Лес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(какой?)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больш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ой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зимн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ий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елов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ый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Дорога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(какая?)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больш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ая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зимн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снежн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ая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Озеро 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(какое?)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 больш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ое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зимн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ее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, глубок</a:t>
            </a:r>
            <a:r>
              <a:rPr b="1" i="1" lang="ru-RU" sz="2600" spc="-1" strike="noStrike">
                <a:solidFill>
                  <a:srgbClr val="ff0000"/>
                </a:solidFill>
                <a:latin typeface="Century Schoolbook"/>
              </a:rPr>
              <a:t>ое</a:t>
            </a: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539640" y="5040360"/>
            <a:ext cx="83534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определить род имени прилагательного, достаточно определить род имени существительного, с которым оно связ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entury Schoolbook"/>
              </a:rPr>
              <a:t>Прочитайте группы слов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50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лето, летний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белая, белизна, белеет;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смех, смешное, рассмешил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539640" y="472428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слова каждой группы?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Измените прилагательные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по родам 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Century Schoolbook"/>
              </a:rPr>
              <a:t>    </a:t>
            </a:r>
            <a:r>
              <a:rPr b="1" i="1" lang="ru-RU" sz="3200" spc="-1" strike="noStrike">
                <a:solidFill>
                  <a:srgbClr val="00b0f0"/>
                </a:solidFill>
                <a:latin typeface="Century Schoolbook"/>
              </a:rPr>
              <a:t>М.Р.                   Ж.Р.                СР. 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лет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ий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    лет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яя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  лет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ее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бел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ый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      бел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ая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     бел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ое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смеш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ой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смеш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ая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,   смешн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ое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Прямая соединительная линия 3"/>
          <p:cNvSpPr/>
          <p:nvPr/>
        </p:nvSpPr>
        <p:spPr>
          <a:xfrm>
            <a:off x="3203640" y="1935000"/>
            <a:ext cx="0" cy="336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"/>
          <p:cNvSpPr/>
          <p:nvPr/>
        </p:nvSpPr>
        <p:spPr>
          <a:xfrm>
            <a:off x="5940360" y="1935000"/>
            <a:ext cx="0" cy="336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Сформулируйте вывод по следующему плану: 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к изменяются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к определяется род имени прилагательного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 какой вопрос отвечают и какие окончания имеют прилагательные мужского рода, женского рода, среднего рода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5:17Z</dcterms:created>
  <dc:creator>Школа</dc:creator>
  <dc:description/>
  <dc:language>en-US</dc:language>
  <cp:lastModifiedBy>tornado42</cp:lastModifiedBy>
  <dcterms:modified xsi:type="dcterms:W3CDTF">2015-03-02T03:02:03Z</dcterms:modified>
  <cp:revision>24</cp:revision>
  <dc:subject/>
  <dc:title>Тема урока: Изменение имён прилагательных по родам</dc:title>
</cp:coreProperties>
</file>