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4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ead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Mead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Mea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Mead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ead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Mead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Mea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Mead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ead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Mead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Mea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Mead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ead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Mead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Mea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Mead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ead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Mead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Mea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Mead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ead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Mead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Mea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Mead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ead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Mead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Mea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Mead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ead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Mead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Mea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Mead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ead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Объект 2" descr=""/>
          <p:cNvPicPr/>
          <p:nvPr/>
        </p:nvPicPr>
        <p:blipFill>
          <a:blip r:embed="rId1"/>
          <a:stretch/>
        </p:blipFill>
        <p:spPr>
          <a:xfrm>
            <a:off x="1476360" y="1371600"/>
            <a:ext cx="6246720" cy="47563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08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3200" spc="-1" strike="noStrike">
                <a:solidFill>
                  <a:srgbClr val="ffffff"/>
                </a:solidFill>
                <a:latin typeface="Mead Bold"/>
              </a:rPr>
              <a:t>HOW TO WRITE A POSTCARD?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Dear Helen,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How are you? I just heard about your car accident. I hope it wasn’t too serious. I’m sure you’ll be back on your feet in no time!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Hugs and kisses, 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Janet.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71629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ead Bold"/>
              </a:rPr>
              <a:t>Почтовая открытка </a:t>
            </a:r>
            <a:r>
              <a:rPr b="0" lang="ru-RU" sz="3200" spc="-1" strike="noStrike">
                <a:solidFill>
                  <a:srgbClr val="ffffff"/>
                </a:solidFill>
                <a:latin typeface="Mead Bold"/>
              </a:rPr>
              <a:t>: </a:t>
            </a:r>
            <a:r>
              <a:rPr b="1" i="1" lang="ru-RU" sz="3200" spc="-1" strike="noStrike">
                <a:solidFill>
                  <a:srgbClr val="ffffff"/>
                </a:solidFill>
                <a:latin typeface="Mead Bold"/>
              </a:rPr>
              <a:t>оформление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916280"/>
            <a:ext cx="77724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ad Bold"/>
              </a:rPr>
              <a:t>1. Обращение начинается с Dear</a:t>
            </a:r>
            <a:r>
              <a:rPr b="1" lang="en-US" sz="2000" spc="-1" strike="noStrike">
                <a:solidFill>
                  <a:srgbClr val="ffffff"/>
                </a:solidFill>
                <a:latin typeface="Mead Bold"/>
              </a:rPr>
              <a:t>. Hi</a:t>
            </a:r>
            <a:r>
              <a:rPr b="1" lang="ru-RU" sz="2000" spc="-1" strike="noStrike">
                <a:solidFill>
                  <a:srgbClr val="ffffff"/>
                </a:solidFill>
                <a:latin typeface="Mead Bold"/>
              </a:rPr>
              <a:t>, к которому добавляется имя. </a:t>
            </a:r>
            <a:endParaRPr b="0" lang="en-US" sz="2000" spc="-1" strike="noStrike">
              <a:solidFill>
                <a:srgbClr val="ffffff"/>
              </a:solidFill>
              <a:latin typeface="Mead Bol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ad Bold"/>
              </a:rPr>
              <a:t>2. Всё обращение пишется не посередине, а на левой стороне без отступа на красную строку. </a:t>
            </a:r>
            <a:endParaRPr b="0" lang="en-US" sz="2000" spc="-1" strike="noStrike">
              <a:solidFill>
                <a:srgbClr val="ffffff"/>
              </a:solidFill>
              <a:latin typeface="Mead Bol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ad Bold"/>
              </a:rPr>
              <a:t>3. Не забудь поставить запятую (а не восклицательный знак) после обращения. </a:t>
            </a:r>
            <a:endParaRPr b="0" lang="en-US" sz="2000" spc="-1" strike="noStrike">
              <a:solidFill>
                <a:srgbClr val="ffffff"/>
              </a:solidFill>
              <a:latin typeface="Mead Bol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ad Bold"/>
              </a:rPr>
              <a:t>4. Объясни (напомни), почему ты пишешь эту открытку. </a:t>
            </a:r>
            <a:endParaRPr b="0" lang="en-US" sz="2000" spc="-1" strike="noStrike">
              <a:solidFill>
                <a:srgbClr val="ffffff"/>
              </a:solidFill>
              <a:latin typeface="Mead Bol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ad Bold"/>
              </a:rPr>
              <a:t>5. Ответь на вопросы, которые задала тебе Энн в своей открытке: когда ты собираешься приехать и что бы ты хотел увидеть. </a:t>
            </a:r>
            <a:endParaRPr b="0" lang="en-US" sz="2000" spc="-1" strike="noStrike">
              <a:solidFill>
                <a:srgbClr val="ffffff"/>
              </a:solidFill>
              <a:latin typeface="Mead Bol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ad Bold"/>
              </a:rPr>
              <a:t>6. В конце открытки не забудь написать завершающую фразу Best wishes (С наилучшими пожеланиями) на отдельной строке. </a:t>
            </a:r>
            <a:endParaRPr b="0" lang="en-US" sz="2000" spc="-1" strike="noStrike">
              <a:solidFill>
                <a:srgbClr val="ffffff"/>
              </a:solidFill>
              <a:latin typeface="Mead Bol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ad Bold"/>
              </a:rPr>
              <a:t>7. Не забудь поставить запятую после Best wishes, </a:t>
            </a:r>
            <a:endParaRPr b="0" lang="en-US" sz="2000" spc="-1" strike="noStrike">
              <a:solidFill>
                <a:srgbClr val="ffffff"/>
              </a:solidFill>
              <a:latin typeface="Mead Bol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ad Bold"/>
              </a:rPr>
              <a:t>8. На отдельной строке после завершающей фразы подпиши открытку - напиши своё имя. </a:t>
            </a:r>
            <a:endParaRPr b="0" lang="en-US" sz="20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Mead Bold"/>
              </a:rPr>
              <a:t>Addressing: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marL="343080" indent="-343080">
              <a:spcBef>
                <a:spcPts val="16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ead Bold"/>
              </a:rPr>
              <a:t>Dear John </a:t>
            </a:r>
            <a:r>
              <a:rPr b="1" lang="en-US" sz="6600" spc="-1" strike="noStrike">
                <a:solidFill>
                  <a:srgbClr val="ffffff"/>
                </a:solidFill>
                <a:latin typeface="Mead Bold"/>
              </a:rPr>
              <a:t>,</a:t>
            </a:r>
            <a:endParaRPr b="0" lang="en-US" sz="6600" spc="-1" strike="noStrike">
              <a:solidFill>
                <a:srgbClr val="ffffff"/>
              </a:solidFill>
              <a:latin typeface="Mead Bold"/>
            </a:endParaRPr>
          </a:p>
          <a:p>
            <a:pPr marL="343080" indent="-343080">
              <a:spcBef>
                <a:spcPts val="16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Mead Bold"/>
              </a:rPr>
              <a:t>Hi John,</a:t>
            </a:r>
            <a:endParaRPr b="0" lang="en-US" sz="66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ead Bold"/>
              </a:rPr>
              <a:t>Main body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Abbreviations (I’m, He’s, We’ve, What’s…)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Colloquial phrasal verbs, idioms and everyday language (What’s up? What’s the matter? I’m sick an tired of …)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The imperative (Do come, Do visit, Look here …)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ead Bold"/>
              </a:rPr>
              <a:t>Informal linkers (and, so, that’s why…)</a:t>
            </a:r>
            <a:endParaRPr b="0" lang="en-US" sz="32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Mead Bold"/>
              </a:rPr>
              <a:t>Opening  remarks:</a:t>
            </a: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ead Bold"/>
              </a:rPr>
              <a:t>How are you?</a:t>
            </a:r>
            <a:endParaRPr b="0" lang="en-US" sz="5400" spc="-1" strike="noStrike">
              <a:solidFill>
                <a:srgbClr val="ffffff"/>
              </a:solidFill>
              <a:latin typeface="Mead Bold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ead Bold"/>
              </a:rPr>
              <a:t>Well done!</a:t>
            </a:r>
            <a:endParaRPr b="0" lang="en-US" sz="5400" spc="-1" strike="noStrike">
              <a:solidFill>
                <a:srgbClr val="ffffff"/>
              </a:solidFill>
              <a:latin typeface="Mead Bold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ead Bold"/>
              </a:rPr>
              <a:t>How’s it going?</a:t>
            </a:r>
            <a:endParaRPr b="0" lang="en-US" sz="5400" spc="-1" strike="noStrike">
              <a:solidFill>
                <a:srgbClr val="ffffff"/>
              </a:solidFill>
              <a:latin typeface="Mead Bold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Mead Bold"/>
              </a:rPr>
              <a:t>Closing remarks:</a:t>
            </a:r>
            <a:endParaRPr b="0" lang="en-US" sz="4400" spc="-1" strike="noStrike">
              <a:solidFill>
                <a:srgbClr val="ffffff"/>
              </a:solidFill>
              <a:latin typeface="Mead Bold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ead Bold"/>
              </a:rPr>
              <a:t>Best wishes,</a:t>
            </a:r>
            <a:endParaRPr b="0" lang="en-US" sz="4800" spc="-1" strike="noStrike">
              <a:solidFill>
                <a:srgbClr val="ffffff"/>
              </a:solidFill>
              <a:latin typeface="Mead Bold"/>
            </a:endParaRPr>
          </a:p>
          <a:p>
            <a:pPr marL="322200" indent="-32220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ead Bold"/>
              </a:rPr>
              <a:t>All the best,</a:t>
            </a:r>
            <a:endParaRPr b="0" lang="en-US" sz="4800" spc="-1" strike="noStrike">
              <a:solidFill>
                <a:srgbClr val="ffffff"/>
              </a:solidFill>
              <a:latin typeface="Mead Bold"/>
            </a:endParaRPr>
          </a:p>
          <a:p>
            <a:pPr marL="322200" indent="-32220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ead Bold"/>
              </a:rPr>
              <a:t>Catch you later,</a:t>
            </a:r>
            <a:endParaRPr b="0" lang="en-US" sz="4800" spc="-1" strike="noStrike">
              <a:solidFill>
                <a:srgbClr val="ffffff"/>
              </a:solidFill>
              <a:latin typeface="Mead Bold"/>
            </a:endParaRPr>
          </a:p>
          <a:p>
            <a:pPr marL="322200" indent="-32220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ead Bold"/>
              </a:rPr>
              <a:t>Hugs and kisses,</a:t>
            </a:r>
            <a:endParaRPr b="0" lang="en-US" sz="4800" spc="-1" strike="noStrike">
              <a:solidFill>
                <a:srgbClr val="ffffff"/>
              </a:solidFill>
              <a:latin typeface="Mead Bold"/>
            </a:endParaRPr>
          </a:p>
          <a:p>
            <a:pPr marL="322200" indent="-3222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ead Bold"/>
              </a:rPr>
              <a:t>Kisses,</a:t>
            </a:r>
            <a:endParaRPr b="0" lang="en-US" sz="4800" spc="-1" strike="noStrike">
              <a:solidFill>
                <a:srgbClr val="ffffff"/>
              </a:solidFill>
              <a:latin typeface="Mead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9:01:37Z</dcterms:created>
  <dc:creator>Admin</dc:creator>
  <dc:description/>
  <dc:language>en-US</dc:language>
  <cp:lastModifiedBy>Елена</cp:lastModifiedBy>
  <dcterms:modified xsi:type="dcterms:W3CDTF">2015-03-02T18:59:02Z</dcterms:modified>
  <cp:revision>14</cp:revision>
  <dc:subject/>
  <dc:title>Письма</dc:title>
</cp:coreProperties>
</file>