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2.png" ContentType="image/png"/>
  <Override PartName="/ppt/media/image10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367C4-68FA-445A-ADD8-1BE94B3DF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45FD8-49E4-4F1E-83B7-888D08DAC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4264D-657C-4CD2-BCFA-1DC34A865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BB99D-8D40-40B0-AC4C-B2A1CA91A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0BAC9-9BDE-452F-8414-8C503D035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99A26-1993-4DE0-87FF-8E99C2F82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778C4-ED8B-4376-B4E3-C78E595DD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860CB-D2C3-46B2-B05A-02D0BB4D0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62DF3-EADB-48E9-BBA9-B65DA6869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80FDC-8A92-49F7-8105-2D2B78F82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D4035-4C02-4A9E-B444-B0EB9405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CC54E-C3C4-4F03-B965-5851CB734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A0136-B672-493D-8C6A-DD7B4E9A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BDFC2-447B-4E11-B244-D46AF143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5FF09-8D6C-411E-A7EA-FA3B9C889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C04B8-45B2-40B7-923E-FFB9B10BD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EDF84-A457-480B-B063-B1D566E30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6190F-C147-4B94-B785-FEF353E76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47023-DC78-40F8-A15C-D079D96B0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1C619-64D6-4734-99C9-CDC974950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F6502-268E-4402-A031-D253BDA6E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FE023-421E-46C1-9D80-40CDA32A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BD8F5-8EEB-43A4-A5CC-CFAF120F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C48A2-1410-4D7B-B651-FB338DD4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c4c4c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bbbbbb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c2c2c2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00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5287C-2975-4975-B132-79E29420CC0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c4c4c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bbbbbb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c2c2c2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00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8705F-1210-4416-817A-D9FA6C482C2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es.walyou.com/wp-content/uploads/2011/03/Calabaza-de-Pi-2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22766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Monotype Corsiva"/>
              </a:rPr>
              <a:t>Мастер-класс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99"/>
                </a:solidFill>
                <a:latin typeface="Monotype Corsiva"/>
              </a:rPr>
              <a:t>Технология формирования метапредметных знаний и эмоциональной отзывчивости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2400" spc="-1" strike="noStrike">
                <a:solidFill>
                  <a:srgbClr val="000099"/>
                </a:solidFill>
                <a:latin typeface="Monotype Corsiva"/>
              </a:rPr>
              <a:t>Зелинский Руслан Владимирович</a:t>
            </a:r>
            <a:br>
              <a:rPr sz="4400"/>
            </a:b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Прямоугольник 1"/>
          <p:cNvSpPr/>
          <p:nvPr/>
        </p:nvSpPr>
        <p:spPr>
          <a:xfrm>
            <a:off x="1187280" y="18900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Monotype Corsiva"/>
              </a:rPr>
              <a:t>Для формирования </a:t>
            </a:r>
            <a:r>
              <a:rPr b="0" lang="ru-RU" sz="2400" spc="-1" strike="noStrike">
                <a:solidFill>
                  <a:srgbClr val="ff0000"/>
                </a:solidFill>
                <a:latin typeface="Monotype Corsiva"/>
              </a:rPr>
              <a:t>личностных  УУД</a:t>
            </a:r>
            <a:r>
              <a:rPr b="0" lang="ru-RU" sz="2400" spc="-1" strike="noStrike">
                <a:solidFill>
                  <a:srgbClr val="000099"/>
                </a:solidFill>
                <a:latin typeface="Monotype Corsiva"/>
              </a:rPr>
              <a:t> возможн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Monotype Corsiva"/>
              </a:rPr>
              <a:t>следующие виды заданий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684360" y="1557360"/>
            <a:ext cx="7848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ворческие задания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частие в проектах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амооценка события, выполненного задания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невники достижений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дведение итогов урока и т.д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5320" y="836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Monotype Corsiva"/>
              </a:rPr>
              <a:t>ДЖОТ ТОТС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(«Запишите мысли»)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03280" y="1844280"/>
            <a:ext cx="864072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ждый участник команды берет 4 листочка бумаг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 каждом листочке бумаги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spcBef>
                <a:spcPts val="499"/>
              </a:spcBef>
              <a:buClr>
                <a:srgbClr val="6600ff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идумайте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авильную дробь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со знаменателем 2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spcBef>
                <a:spcPts val="499"/>
              </a:spcBef>
              <a:buClr>
                <a:srgbClr val="6600ff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говорите громко эту дробь для участников вашей команды и запишите на одном листочке бумаг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spcBef>
                <a:spcPts val="499"/>
              </a:spcBef>
              <a:buClr>
                <a:srgbClr val="6600ff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ложите на центр стола лицевой стороной ввер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spcBef>
                <a:spcPts val="499"/>
              </a:spcBef>
              <a:buClr>
                <a:srgbClr val="6600ff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вторите шаги 1-3, пока вы не используете все листочк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617400" y="115920"/>
            <a:ext cx="77724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Monotype Corsiva"/>
              </a:rPr>
              <a:t>Практическая деятельность учащихс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11280" y="1125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Monotype Corsiva"/>
              </a:rPr>
              <a:t>ТИК-ТЭК-ТОУ </a:t>
            </a:r>
            <a:br>
              <a:rPr sz="3200"/>
            </a:b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(«крестики-нолики»)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503280" y="2349000"/>
            <a:ext cx="831672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just">
              <a:spcBef>
                <a:spcPts val="499"/>
              </a:spcBef>
              <a:buClr>
                <a:srgbClr val="6600ff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еремешайте листочки и разложите 9 листочков в формате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spcBef>
                <a:spcPts val="499"/>
              </a:spcBef>
              <a:buClr>
                <a:srgbClr val="6600ff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ждый участник команды составляет пример по заданию учителя, используя любые три дроби на одной линии (по вертикали, горизонтали или диагонали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611280" y="333360"/>
            <a:ext cx="77724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Monotype Corsiva"/>
              </a:rPr>
              <a:t>Практическая деятельность учащихс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11280" y="1125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Monotype Corsiva"/>
              </a:rPr>
              <a:t>КУИЗ-КУИЗ-ТРЭЙД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br>
              <a:rPr sz="3200"/>
            </a:b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(«опроси-опроси-обменяйся карточками»)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503280" y="2349000"/>
            <a:ext cx="831672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бучающая структура, в которой учащиеся проверяют и обучают друг друга по пройденному материалу, используя карточки с вопросами и ответами по тем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611280" y="333360"/>
            <a:ext cx="77724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Monotype Corsiva"/>
              </a:rPr>
              <a:t>Практическая деятельность учащихс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6"/>
          <p:cNvSpPr/>
          <p:nvPr/>
        </p:nvSpPr>
        <p:spPr>
          <a:xfrm>
            <a:off x="0" y="189000"/>
            <a:ext cx="5148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Monotype Corsiva"/>
              </a:rPr>
              <a:t>Мнемограмм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8" name="Picture 9" descr=""/>
          <p:cNvPicPr/>
          <p:nvPr/>
        </p:nvPicPr>
        <p:blipFill>
          <a:blip r:embed="rId1"/>
          <a:stretch/>
        </p:blipFill>
        <p:spPr>
          <a:xfrm>
            <a:off x="324000" y="3789360"/>
            <a:ext cx="5833800" cy="28670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"/>
          <p:cNvPicPr/>
          <p:nvPr/>
        </p:nvPicPr>
        <p:blipFill>
          <a:blip r:embed="rId2"/>
          <a:stretch/>
        </p:blipFill>
        <p:spPr>
          <a:xfrm>
            <a:off x="4476600" y="404640"/>
            <a:ext cx="4667400" cy="508644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7"/>
          <p:cNvSpPr/>
          <p:nvPr/>
        </p:nvSpPr>
        <p:spPr>
          <a:xfrm>
            <a:off x="179280" y="1484280"/>
            <a:ext cx="52563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Monotype Corsiva"/>
              </a:rPr>
              <a:t>- Помощь в изучении материала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Monotype Corsiva"/>
              </a:rPr>
              <a:t> -  Интерес к  предмету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Monotype Corsiva"/>
              </a:rPr>
              <a:t> -  Творческий процесс учащихс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4"/>
          <p:cNvSpPr/>
          <p:nvPr/>
        </p:nvSpPr>
        <p:spPr>
          <a:xfrm>
            <a:off x="684360" y="404640"/>
            <a:ext cx="777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Monotype Corsiva"/>
              </a:rPr>
              <a:t>Основные приемы мнемотехник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395280" y="1341360"/>
            <a:ext cx="7772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Monotype Corsiva"/>
              </a:rPr>
              <a:t>1. Рифм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Picture 6" descr=""/>
          <p:cNvPicPr/>
          <p:nvPr/>
        </p:nvPicPr>
        <p:blipFill>
          <a:blip r:embed="rId1"/>
          <a:stretch/>
        </p:blipFill>
        <p:spPr>
          <a:xfrm>
            <a:off x="1835280" y="2233440"/>
            <a:ext cx="640872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5435640" y="3645000"/>
            <a:ext cx="3389400" cy="196668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5"/>
          <p:cNvSpPr/>
          <p:nvPr/>
        </p:nvSpPr>
        <p:spPr>
          <a:xfrm>
            <a:off x="684360" y="26028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Monotype Corsiva"/>
              </a:rPr>
              <a:t>Оснований половина – получилась середи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684360" y="177336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Monotype Corsiva"/>
              </a:rPr>
              <a:t>Средняя линия трапец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7" descr="Calabaza-de-Pi-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43280" y="2814480"/>
            <a:ext cx="5400720" cy="404352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4"/>
          <p:cNvSpPr/>
          <p:nvPr/>
        </p:nvSpPr>
        <p:spPr>
          <a:xfrm>
            <a:off x="324000" y="0"/>
            <a:ext cx="77724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Monotype Corsiva"/>
              </a:rPr>
              <a:t>Число П≈3,1415926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-396720" y="1052640"/>
            <a:ext cx="6264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Monotype Corsiva"/>
              </a:rPr>
              <a:t>Чтобы нам не ошибиться,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Monotype Corsiva"/>
              </a:rPr>
              <a:t> Нужно правильно прочесть: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Monotype Corsiva"/>
              </a:rPr>
              <a:t> Три, четырнадцать, пятнадцать,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Monotype Corsiva"/>
              </a:rPr>
              <a:t> Девяносто два и шесть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539640" y="115920"/>
            <a:ext cx="759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Monotype Corsiva"/>
              </a:rPr>
              <a:t>Творчество детей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Picture 4" descr="585531603_6"/>
          <p:cNvPicPr/>
          <p:nvPr/>
        </p:nvPicPr>
        <p:blipFill>
          <a:blip r:embed="rId1"/>
          <a:stretch/>
        </p:blipFill>
        <p:spPr>
          <a:xfrm>
            <a:off x="5292720" y="836640"/>
            <a:ext cx="3429000" cy="22953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"/>
          <p:cNvSpPr/>
          <p:nvPr/>
        </p:nvSpPr>
        <p:spPr>
          <a:xfrm>
            <a:off x="826920" y="3284640"/>
            <a:ext cx="759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Monotype Corsiva"/>
              </a:rPr>
              <a:t>Длину на ширину умножай,</a:t>
            </a:r>
            <a:br>
              <a:rPr sz="3600"/>
            </a:br>
            <a:r>
              <a:rPr b="1" lang="ru-RU" sz="3600" spc="-1" strike="noStrike">
                <a:solidFill>
                  <a:srgbClr val="000099"/>
                </a:solidFill>
                <a:latin typeface="Monotype Corsiva"/>
              </a:rPr>
              <a:t>Прямоугольника площадь узнавай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Rectangle 9"/>
          <p:cNvSpPr/>
          <p:nvPr/>
        </p:nvSpPr>
        <p:spPr>
          <a:xfrm>
            <a:off x="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476360" y="1341360"/>
            <a:ext cx="29336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684360" y="404640"/>
            <a:ext cx="777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Monotype Corsiva"/>
              </a:rPr>
              <a:t>Основные приемы мнемотехник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395280" y="1341360"/>
            <a:ext cx="7772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Monotype Corsiva"/>
              </a:rPr>
              <a:t>2. Ассоциаци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9" name="Picture 5" descr=""/>
          <p:cNvPicPr/>
          <p:nvPr/>
        </p:nvPicPr>
        <p:blipFill>
          <a:blip r:embed="rId1"/>
          <a:stretch/>
        </p:blipFill>
        <p:spPr>
          <a:xfrm>
            <a:off x="5742000" y="2637000"/>
            <a:ext cx="340200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"/>
          <p:cNvSpPr/>
          <p:nvPr/>
        </p:nvSpPr>
        <p:spPr>
          <a:xfrm>
            <a:off x="1403280" y="260280"/>
            <a:ext cx="6048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Monotype Corsiva"/>
              </a:rPr>
              <a:t>«Выгодная» сдел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Picture 6" descr=""/>
          <p:cNvPicPr/>
          <p:nvPr/>
        </p:nvPicPr>
        <p:blipFill>
          <a:blip r:embed="rId1"/>
          <a:stretch/>
        </p:blipFill>
        <p:spPr>
          <a:xfrm>
            <a:off x="5580000" y="2997360"/>
            <a:ext cx="3240000" cy="3240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"/>
          <p:cNvPicPr/>
          <p:nvPr/>
        </p:nvPicPr>
        <p:blipFill>
          <a:blip r:embed="rId2"/>
          <a:stretch/>
        </p:blipFill>
        <p:spPr>
          <a:xfrm>
            <a:off x="250920" y="3068640"/>
            <a:ext cx="936360" cy="9255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"/>
          <p:cNvPicPr/>
          <p:nvPr/>
        </p:nvPicPr>
        <p:blipFill>
          <a:blip r:embed="rId3"/>
          <a:stretch/>
        </p:blipFill>
        <p:spPr>
          <a:xfrm>
            <a:off x="1765440" y="2276640"/>
            <a:ext cx="936360" cy="925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"/>
          <p:cNvPicPr/>
          <p:nvPr/>
        </p:nvPicPr>
        <p:blipFill>
          <a:blip r:embed="rId4"/>
          <a:stretch/>
        </p:blipFill>
        <p:spPr>
          <a:xfrm>
            <a:off x="2268360" y="2492280"/>
            <a:ext cx="936720" cy="925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"/>
          <p:cNvPicPr/>
          <p:nvPr/>
        </p:nvPicPr>
        <p:blipFill>
          <a:blip r:embed="rId5"/>
          <a:stretch/>
        </p:blipFill>
        <p:spPr>
          <a:xfrm>
            <a:off x="3276720" y="1341360"/>
            <a:ext cx="936360" cy="925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3" descr=""/>
          <p:cNvPicPr/>
          <p:nvPr/>
        </p:nvPicPr>
        <p:blipFill>
          <a:blip r:embed="rId6"/>
          <a:stretch/>
        </p:blipFill>
        <p:spPr>
          <a:xfrm>
            <a:off x="3635280" y="1773360"/>
            <a:ext cx="936720" cy="9255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4" descr=""/>
          <p:cNvPicPr/>
          <p:nvPr/>
        </p:nvPicPr>
        <p:blipFill>
          <a:blip r:embed="rId7"/>
          <a:stretch/>
        </p:blipFill>
        <p:spPr>
          <a:xfrm>
            <a:off x="4067280" y="2133720"/>
            <a:ext cx="936360" cy="9255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5" descr=""/>
          <p:cNvPicPr/>
          <p:nvPr/>
        </p:nvPicPr>
        <p:blipFill>
          <a:blip r:embed="rId8"/>
          <a:stretch/>
        </p:blipFill>
        <p:spPr>
          <a:xfrm>
            <a:off x="4356000" y="2492280"/>
            <a:ext cx="936720" cy="92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Друг моего друга – мне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Враг моего друга – мне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Друг моего врага – мне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Враг моего врага – мне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5830920" y="333360"/>
            <a:ext cx="331308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Monotype Corsiva"/>
              </a:rPr>
              <a:t>+*+=+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6300720" y="1773360"/>
            <a:ext cx="259416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Monotype Corsiva"/>
              </a:rPr>
              <a:t>-*+= -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6443640" y="3213000"/>
            <a:ext cx="252108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Monotype Corsiva"/>
              </a:rPr>
              <a:t>+*-= -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6443640" y="4724280"/>
            <a:ext cx="252108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Monotype Corsiva"/>
              </a:rPr>
              <a:t>-*-= +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5508720" y="620640"/>
            <a:ext cx="12351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друг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Rectangle 9"/>
          <p:cNvSpPr/>
          <p:nvPr/>
        </p:nvSpPr>
        <p:spPr>
          <a:xfrm>
            <a:off x="5580000" y="2060640"/>
            <a:ext cx="12351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враг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Rectangle 10"/>
          <p:cNvSpPr/>
          <p:nvPr/>
        </p:nvSpPr>
        <p:spPr>
          <a:xfrm>
            <a:off x="5651640" y="3500280"/>
            <a:ext cx="1234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враг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11"/>
          <p:cNvSpPr/>
          <p:nvPr/>
        </p:nvSpPr>
        <p:spPr>
          <a:xfrm>
            <a:off x="5651640" y="5013360"/>
            <a:ext cx="1234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друг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6" descr=""/>
          <p:cNvPicPr/>
          <p:nvPr/>
        </p:nvPicPr>
        <p:blipFill>
          <a:blip r:embed="rId1"/>
          <a:stretch/>
        </p:blipFill>
        <p:spPr>
          <a:xfrm>
            <a:off x="3203640" y="2708280"/>
            <a:ext cx="2987640" cy="298764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2"/>
          <p:cNvSpPr/>
          <p:nvPr/>
        </p:nvSpPr>
        <p:spPr>
          <a:xfrm>
            <a:off x="684360" y="404640"/>
            <a:ext cx="777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Monotype Corsiva"/>
              </a:rPr>
              <a:t>Основные приемы мнемотехник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395280" y="1341360"/>
            <a:ext cx="7772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Monotype Corsiva"/>
              </a:rPr>
              <a:t>3. Запоминание чисел по количеству бук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2" name="Picture 5" descr=""/>
          <p:cNvPicPr/>
          <p:nvPr/>
        </p:nvPicPr>
        <p:blipFill>
          <a:blip r:embed="rId2"/>
          <a:stretch/>
        </p:blipFill>
        <p:spPr>
          <a:xfrm>
            <a:off x="7238880" y="134136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99"/>
                </a:solidFill>
                <a:latin typeface="Monotype Corsiva"/>
              </a:rPr>
              <a:t>3, 1415926536…</a:t>
            </a:r>
            <a:endParaRPr b="0" lang="en-US" sz="7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lvl="1" marL="65376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Monotype Corsiva"/>
              </a:rPr>
              <a:t>Кто и шутя и скоро пожелаетъ пи узнать число ужъ знаетъ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9" descr=""/>
          <p:cNvPicPr/>
          <p:nvPr/>
        </p:nvPicPr>
        <p:blipFill>
          <a:blip r:embed="rId1"/>
          <a:stretch/>
        </p:blipFill>
        <p:spPr>
          <a:xfrm>
            <a:off x="2916360" y="4835520"/>
            <a:ext cx="3024000" cy="202248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3"/>
          <p:cNvSpPr/>
          <p:nvPr/>
        </p:nvSpPr>
        <p:spPr>
          <a:xfrm>
            <a:off x="684360" y="404640"/>
            <a:ext cx="777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Monotype Corsiva"/>
              </a:rPr>
              <a:t>Основные приемы мнемотехник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755640" y="1341360"/>
            <a:ext cx="7772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Monotype Corsiva"/>
              </a:rPr>
              <a:t>4. Запоминание порядка расположения по первым буква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179280" y="2565360"/>
            <a:ext cx="86360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Мы Dарим Сочные Lимоны, Хватит Vсем I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50920" y="3860640"/>
            <a:ext cx="863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3200" spc="-1" strike="noStrike">
                <a:solidFill>
                  <a:srgbClr val="000099"/>
                </a:solidFill>
                <a:latin typeface="Times New Roman"/>
              </a:rPr>
              <a:t>M (1000), D (500), C (100), L (50), X (10), V (5), I (1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Прямоугольник 5"/>
          <p:cNvSpPr/>
          <p:nvPr/>
        </p:nvSpPr>
        <p:spPr>
          <a:xfrm>
            <a:off x="1187280" y="18900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Monotype Corsiva"/>
              </a:rPr>
              <a:t>Деятельность учащихся на этапе уро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79280" y="650880"/>
          <a:ext cx="8858520" cy="490680"/>
        </p:xfrm>
        <a:graphic>
          <a:graphicData uri="http://schemas.openxmlformats.org/drawingml/2006/table">
            <a:tbl>
              <a:tblPr/>
              <a:tblGrid>
                <a:gridCol w="1285920"/>
                <a:gridCol w="4572000"/>
                <a:gridCol w="3000600"/>
              </a:tblGrid>
              <a:tr h="490680"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реб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 уро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р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овременного ти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ниверсаль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ебные дейст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179280" y="1125360"/>
          <a:ext cx="8858520" cy="530280"/>
        </p:xfrm>
        <a:graphic>
          <a:graphicData uri="http://schemas.openxmlformats.org/drawingml/2006/table">
            <a:tbl>
              <a:tblPr/>
              <a:tblGrid>
                <a:gridCol w="1285920"/>
                <a:gridCol w="4572000"/>
                <a:gridCol w="3000600"/>
              </a:tblGrid>
              <a:tr h="53028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ъявление темы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р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Формулируют сами учащиеся (учитель подводит учащихся к осознанию тем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знавательные общеучебные , коммуникатив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179280" y="1628640"/>
          <a:ext cx="8858520" cy="701640"/>
        </p:xfrm>
        <a:graphic>
          <a:graphicData uri="http://schemas.openxmlformats.org/drawingml/2006/table">
            <a:tbl>
              <a:tblPr/>
              <a:tblGrid>
                <a:gridCol w="1285920"/>
                <a:gridCol w="4572000"/>
                <a:gridCol w="3000600"/>
              </a:tblGrid>
              <a:tr h="701640"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общение целей и зада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Формулируют сами учащиеся, определив границы знания и незнания (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итель подводит учащихся к осознанию целей и задач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егулятивные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оммуникатив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179280" y="2349360"/>
          <a:ext cx="8858520" cy="490680"/>
        </p:xfrm>
        <a:graphic>
          <a:graphicData uri="http://schemas.openxmlformats.org/drawingml/2006/table">
            <a:tbl>
              <a:tblPr/>
              <a:tblGrid>
                <a:gridCol w="1285920"/>
                <a:gridCol w="4572000"/>
                <a:gridCol w="3000600"/>
              </a:tblGrid>
              <a:tr h="490680"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ланир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ланирование учащимися способов достижения намеченной цели (учитель помогает, советуе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егулятив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ланир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179280" y="2852640"/>
          <a:ext cx="8858520" cy="736560"/>
        </p:xfrm>
        <a:graphic>
          <a:graphicData uri="http://schemas.openxmlformats.org/drawingml/2006/table">
            <a:tbl>
              <a:tblPr/>
              <a:tblGrid>
                <a:gridCol w="1285920"/>
                <a:gridCol w="4572000"/>
                <a:gridCol w="3000600"/>
              </a:tblGrid>
              <a:tr h="736560"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актическая деятельность учащих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ащиеся осуществляют учебные действия по намеченному плану (применяется групповой, индивидуальный методы, учитель консультируе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знавательные, регулятивные, коммуникативные, личност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179280" y="3573360"/>
          <a:ext cx="8858520" cy="665280"/>
        </p:xfrm>
        <a:graphic>
          <a:graphicData uri="http://schemas.openxmlformats.org/drawingml/2006/table">
            <a:tbl>
              <a:tblPr/>
              <a:tblGrid>
                <a:gridCol w="1285920"/>
                <a:gridCol w="4572000"/>
                <a:gridCol w="3000600"/>
              </a:tblGrid>
              <a:tr h="665280"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уществление контро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ащиеся осуществляют контро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применяются формы самоконтроля, взаимоконтроля, учитель консультирует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оммуникативные, регулятивные контроля (самоконтрол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611280" y="333360"/>
            <a:ext cx="77724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Monotype Corsiva"/>
              </a:rPr>
              <a:t>Самопроверка, взаимопроверка, обсуждение в парах и команд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Picture 12" descr=""/>
          <p:cNvPicPr/>
          <p:nvPr/>
        </p:nvPicPr>
        <p:blipFill>
          <a:blip r:embed="rId1"/>
          <a:stretch/>
        </p:blipFill>
        <p:spPr>
          <a:xfrm>
            <a:off x="2733840" y="3068640"/>
            <a:ext cx="3527280" cy="291132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4"/>
          <p:cNvSpPr/>
          <p:nvPr/>
        </p:nvSpPr>
        <p:spPr>
          <a:xfrm>
            <a:off x="763560" y="1700280"/>
            <a:ext cx="77724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Monotype Corsiva"/>
              </a:rPr>
              <a:t>Структуры РАУНД РОБИ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оугольник 5"/>
          <p:cNvSpPr/>
          <p:nvPr/>
        </p:nvSpPr>
        <p:spPr>
          <a:xfrm>
            <a:off x="1187280" y="18900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Monotype Corsiva"/>
              </a:rPr>
              <a:t>Деятельность учащихся на этапе уро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79280" y="650880"/>
          <a:ext cx="8858520" cy="490680"/>
        </p:xfrm>
        <a:graphic>
          <a:graphicData uri="http://schemas.openxmlformats.org/drawingml/2006/table">
            <a:tbl>
              <a:tblPr/>
              <a:tblGrid>
                <a:gridCol w="1285920"/>
                <a:gridCol w="4572000"/>
                <a:gridCol w="3000600"/>
              </a:tblGrid>
              <a:tr h="490680"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реб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 уро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р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овременного ти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ниверсаль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ебные дейст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179280" y="1125360"/>
          <a:ext cx="8858520" cy="530280"/>
        </p:xfrm>
        <a:graphic>
          <a:graphicData uri="http://schemas.openxmlformats.org/drawingml/2006/table">
            <a:tbl>
              <a:tblPr/>
              <a:tblGrid>
                <a:gridCol w="1285920"/>
                <a:gridCol w="4572000"/>
                <a:gridCol w="3000600"/>
              </a:tblGrid>
              <a:tr h="53028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ъявление темы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р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Формулируют сами учащиеся (учитель подводит учащихся к осознанию тем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знавательные общеучебные , коммуникатив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179280" y="1628640"/>
          <a:ext cx="8858520" cy="701640"/>
        </p:xfrm>
        <a:graphic>
          <a:graphicData uri="http://schemas.openxmlformats.org/drawingml/2006/table">
            <a:tbl>
              <a:tblPr/>
              <a:tblGrid>
                <a:gridCol w="1285920"/>
                <a:gridCol w="4572000"/>
                <a:gridCol w="3000600"/>
              </a:tblGrid>
              <a:tr h="701640"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общение целей и зада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Формулируют сами учащиеся, определив границы знания и незнания (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итель подводит учащихся к осознанию целей и задач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егулятивные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оммуникатив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179280" y="2349360"/>
          <a:ext cx="8858520" cy="490680"/>
        </p:xfrm>
        <a:graphic>
          <a:graphicData uri="http://schemas.openxmlformats.org/drawingml/2006/table">
            <a:tbl>
              <a:tblPr/>
              <a:tblGrid>
                <a:gridCol w="1285920"/>
                <a:gridCol w="4572000"/>
                <a:gridCol w="3000600"/>
              </a:tblGrid>
              <a:tr h="490680"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ланир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ланирование учащимися способов достижения намеченной цели (учитель помогает, советуе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егулятив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ланир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179280" y="2852640"/>
          <a:ext cx="8858520" cy="736560"/>
        </p:xfrm>
        <a:graphic>
          <a:graphicData uri="http://schemas.openxmlformats.org/drawingml/2006/table">
            <a:tbl>
              <a:tblPr/>
              <a:tblGrid>
                <a:gridCol w="1285920"/>
                <a:gridCol w="4572000"/>
                <a:gridCol w="3000600"/>
              </a:tblGrid>
              <a:tr h="736560"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актическая деятельность учащих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ащиеся осуществляют учебные действия по намеченному плану (применяется групповой, индивидуальный методы, учитель консультируе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знавательные, регулятивные, коммуникативные, личност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179280" y="3573360"/>
          <a:ext cx="8858520" cy="665280"/>
        </p:xfrm>
        <a:graphic>
          <a:graphicData uri="http://schemas.openxmlformats.org/drawingml/2006/table">
            <a:tbl>
              <a:tblPr/>
              <a:tblGrid>
                <a:gridCol w="1285920"/>
                <a:gridCol w="4572000"/>
                <a:gridCol w="3000600"/>
              </a:tblGrid>
              <a:tr h="665280"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уществление контро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ащиеся осуществляют контро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применяются формы самоконтроля, взаимоконтроля, учитель консультирует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оммуникативные, регулятивные контроля (самоконтрол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179280" y="4221000"/>
          <a:ext cx="8858520" cy="1420920"/>
        </p:xfrm>
        <a:graphic>
          <a:graphicData uri="http://schemas.openxmlformats.org/drawingml/2006/table">
            <a:tbl>
              <a:tblPr/>
              <a:tblGrid>
                <a:gridCol w="1285920"/>
                <a:gridCol w="4572000"/>
                <a:gridCol w="3000600"/>
              </a:tblGrid>
              <a:tr h="736920"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уществление корре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ащиеся формулируют затруднения и осуществляют коррекцию самостоя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учитель консультирует, советует, помогае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оммуникативные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егулятив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ценивание учащих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ащиеся дают оценку деятельности по ее результата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самооценивание, оценивание результатов деятельности других учеников, учитель консультирует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егулятивные оценивания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самооценивание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, коммуникатив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179280" y="5661000"/>
          <a:ext cx="8858520" cy="495360"/>
        </p:xfrm>
        <a:graphic>
          <a:graphicData uri="http://schemas.openxmlformats.org/drawingml/2006/table">
            <a:tbl>
              <a:tblPr/>
              <a:tblGrid>
                <a:gridCol w="1285920"/>
                <a:gridCol w="4572000"/>
                <a:gridCol w="3000600"/>
              </a:tblGrid>
              <a:tr h="495360"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 ур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оводится рефлекс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егулятивные, коммуникативные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личност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68360" y="0"/>
            <a:ext cx="82296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Monotype Corsiva"/>
              </a:rPr>
              <a:t>ЭЙ АР ГАЙД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1258920" y="765000"/>
            <a:ext cx="6697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столбике «ДО» поставьте «+», если вы согласны с утверждением, или «-», если вы не согласн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 чтобы принять решение, используйте результаты устного счета и условие задачи про шаги челове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684360" y="2565360"/>
          <a:ext cx="7848360" cy="1889280"/>
        </p:xfrm>
        <a:graphic>
          <a:graphicData uri="http://schemas.openxmlformats.org/drawingml/2006/table">
            <a:tbl>
              <a:tblPr/>
              <a:tblGrid>
                <a:gridCol w="745920"/>
                <a:gridCol w="6094440"/>
                <a:gridCol w="100800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ЕРЖД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 умею делить десятичную дробь на натуральное чис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имое всегда больше частного или равно частном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 умею делить число на десятичную дроб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Rectangle 26"/>
          <p:cNvSpPr/>
          <p:nvPr/>
        </p:nvSpPr>
        <p:spPr>
          <a:xfrm>
            <a:off x="1187280" y="4568760"/>
            <a:ext cx="669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еперь, после изучения нового материала, еще раз прочтите все утвержден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. В столбике «ПОСЛЕ» поставьте «+», если вы согласны с утверждением, или «-», если вы не согласны с утверждение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6. Сравните столбики «ДО» и «ПОСЛЕ». Изменились ли ваши убеждения? Почему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рямоугольник 5"/>
          <p:cNvSpPr/>
          <p:nvPr/>
        </p:nvSpPr>
        <p:spPr>
          <a:xfrm>
            <a:off x="1187280" y="18900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Monotype Corsiva"/>
              </a:rPr>
              <a:t>Деятельность учащихся на этапе уро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79280" y="650880"/>
          <a:ext cx="8858520" cy="490680"/>
        </p:xfrm>
        <a:graphic>
          <a:graphicData uri="http://schemas.openxmlformats.org/drawingml/2006/table">
            <a:tbl>
              <a:tblPr/>
              <a:tblGrid>
                <a:gridCol w="1285920"/>
                <a:gridCol w="4572000"/>
                <a:gridCol w="3000600"/>
              </a:tblGrid>
              <a:tr h="490680"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реб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 уро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р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овременного ти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ниверсаль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ебные дейст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179280" y="1125360"/>
          <a:ext cx="8858520" cy="530280"/>
        </p:xfrm>
        <a:graphic>
          <a:graphicData uri="http://schemas.openxmlformats.org/drawingml/2006/table">
            <a:tbl>
              <a:tblPr/>
              <a:tblGrid>
                <a:gridCol w="1285920"/>
                <a:gridCol w="4572000"/>
                <a:gridCol w="3000600"/>
              </a:tblGrid>
              <a:tr h="53028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ъявление темы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р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Формулируют сами учащиеся (учитель подводит учащихся к осознанию тем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знавательные общеучебные , коммуникатив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179280" y="1628640"/>
          <a:ext cx="8858520" cy="701640"/>
        </p:xfrm>
        <a:graphic>
          <a:graphicData uri="http://schemas.openxmlformats.org/drawingml/2006/table">
            <a:tbl>
              <a:tblPr/>
              <a:tblGrid>
                <a:gridCol w="1285920"/>
                <a:gridCol w="4572000"/>
                <a:gridCol w="3000600"/>
              </a:tblGrid>
              <a:tr h="701640"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общение целей и зада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Формулируют сами учащиеся, определив границы знания и незнания (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итель подводит учащихся к осознанию целей и задач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егулятивные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оммуникатив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179280" y="2349360"/>
          <a:ext cx="8858520" cy="490680"/>
        </p:xfrm>
        <a:graphic>
          <a:graphicData uri="http://schemas.openxmlformats.org/drawingml/2006/table">
            <a:tbl>
              <a:tblPr/>
              <a:tblGrid>
                <a:gridCol w="1285920"/>
                <a:gridCol w="4572000"/>
                <a:gridCol w="3000600"/>
              </a:tblGrid>
              <a:tr h="490680"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ланир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ланирование учащимися способов достижения намеченной цели (учитель помогает, советуе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егулятив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ланир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179280" y="2852640"/>
          <a:ext cx="8858520" cy="736560"/>
        </p:xfrm>
        <a:graphic>
          <a:graphicData uri="http://schemas.openxmlformats.org/drawingml/2006/table">
            <a:tbl>
              <a:tblPr/>
              <a:tblGrid>
                <a:gridCol w="1285920"/>
                <a:gridCol w="4572000"/>
                <a:gridCol w="3000600"/>
              </a:tblGrid>
              <a:tr h="736560"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актическая деятельность учащих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ащиеся осуществляют учебные действия по намеченному плану (применяется групповой, индивидуальный методы, учитель консультируе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знавательные, регулятивные, коммуникативные, личност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179280" y="3573360"/>
          <a:ext cx="8858520" cy="665280"/>
        </p:xfrm>
        <a:graphic>
          <a:graphicData uri="http://schemas.openxmlformats.org/drawingml/2006/table">
            <a:tbl>
              <a:tblPr/>
              <a:tblGrid>
                <a:gridCol w="1285920"/>
                <a:gridCol w="4572000"/>
                <a:gridCol w="3000600"/>
              </a:tblGrid>
              <a:tr h="665280"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уществление контро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ащиеся осуществляют контро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применяются формы самоконтроля, взаимоконтроля, учитель консультирует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оммуникативные, регулятивные контроля (самоконтрол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179280" y="4221000"/>
          <a:ext cx="8858520" cy="1420920"/>
        </p:xfrm>
        <a:graphic>
          <a:graphicData uri="http://schemas.openxmlformats.org/drawingml/2006/table">
            <a:tbl>
              <a:tblPr/>
              <a:tblGrid>
                <a:gridCol w="1285920"/>
                <a:gridCol w="4572000"/>
                <a:gridCol w="3000600"/>
              </a:tblGrid>
              <a:tr h="736920"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уществление корре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ащиеся формулируют затруднения и осуществляют коррекцию самостоя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учитель консультирует, советует, помогае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оммуникативные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егулятив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ценивание учащих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ащиеся дают оценку деятельности по ее результата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самооценивание, оценивание результатов деятельности других учеников, учитель консультирует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егулятивные оценивания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самооценивание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, коммуникатив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179280" y="5661000"/>
          <a:ext cx="8858520" cy="495360"/>
        </p:xfrm>
        <a:graphic>
          <a:graphicData uri="http://schemas.openxmlformats.org/drawingml/2006/table">
            <a:tbl>
              <a:tblPr/>
              <a:tblGrid>
                <a:gridCol w="1285920"/>
                <a:gridCol w="4572000"/>
                <a:gridCol w="3000600"/>
              </a:tblGrid>
              <a:tr h="495360"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 ур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оводится рефлекс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егулятивные, коммуникативные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личност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179280" y="6165720"/>
          <a:ext cx="8858520" cy="490680"/>
        </p:xfrm>
        <a:graphic>
          <a:graphicData uri="http://schemas.openxmlformats.org/drawingml/2006/table">
            <a:tbl>
              <a:tblPr/>
              <a:tblGrid>
                <a:gridCol w="1285920"/>
                <a:gridCol w="4572000"/>
                <a:gridCol w="3000600"/>
              </a:tblGrid>
              <a:tr h="490680"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омашнее зад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ащиеся могут выбирать задание из предложенных учителем с учетом индивидуальных возмо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знавательные, регулятив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Box 5"/>
          <p:cNvSpPr/>
          <p:nvPr/>
        </p:nvSpPr>
        <p:spPr>
          <a:xfrm>
            <a:off x="3851280" y="906480"/>
            <a:ext cx="475308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 рейде стоит корабль, с его борта спущен трап, нижние 4 ступеньки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оторого погружены в воду. Толщина каждой ступеньки 5 см, расстояние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ежду ступеньками 25 см. Начинается прилив и уровень воды повышается со скоростью 45 см в час. Сколько ступенек останется под водой через 2 часа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4" name="Picture 12" descr="4d186af61b0f9"/>
          <p:cNvPicPr/>
          <p:nvPr/>
        </p:nvPicPr>
        <p:blipFill>
          <a:blip r:embed="rId1"/>
          <a:stretch/>
        </p:blipFill>
        <p:spPr>
          <a:xfrm>
            <a:off x="539640" y="1341360"/>
            <a:ext cx="3057480" cy="269100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14"/>
          <p:cNvSpPr/>
          <p:nvPr/>
        </p:nvSpPr>
        <p:spPr>
          <a:xfrm>
            <a:off x="1172160" y="5846760"/>
            <a:ext cx="519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агляните в английско-русский словар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611280" y="333360"/>
            <a:ext cx="77724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Monotype Corsiva"/>
              </a:rPr>
              <a:t>Вопр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"/>
          <p:cNvPicPr/>
          <p:nvPr/>
        </p:nvPicPr>
        <p:blipFill>
          <a:blip r:embed="rId1"/>
          <a:stretch/>
        </p:blipFill>
        <p:spPr>
          <a:xfrm>
            <a:off x="0" y="-23760"/>
            <a:ext cx="9145440" cy="688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11"/>
          <p:cNvSpPr/>
          <p:nvPr/>
        </p:nvSpPr>
        <p:spPr>
          <a:xfrm>
            <a:off x="814680" y="3213000"/>
            <a:ext cx="3506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-прежнему 4 ступеньки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едь во время прилива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лестница поднимаетс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месте с корабле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8" name="Picture 9" descr="trap-na-korable-0001929926-preview"/>
          <p:cNvPicPr/>
          <p:nvPr/>
        </p:nvPicPr>
        <p:blipFill>
          <a:blip r:embed="rId1"/>
          <a:stretch/>
        </p:blipFill>
        <p:spPr>
          <a:xfrm>
            <a:off x="5367240" y="1484280"/>
            <a:ext cx="3076560" cy="418140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12"/>
          <p:cNvSpPr/>
          <p:nvPr/>
        </p:nvSpPr>
        <p:spPr>
          <a:xfrm>
            <a:off x="758520" y="1484280"/>
            <a:ext cx="342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лово «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p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» переводитс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ловушка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611280" y="333360"/>
            <a:ext cx="77724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Monotype Corsiva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826920" y="606600"/>
            <a:ext cx="7772400" cy="43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Monotype Corsiva"/>
              </a:rPr>
              <a:t>Системность метапредметного подхода формирует </a:t>
            </a:r>
            <a:r>
              <a:rPr b="0" lang="ru-RU" sz="2800" spc="-1" strike="noStrike">
                <a:solidFill>
                  <a:srgbClr val="ff0000"/>
                </a:solidFill>
                <a:latin typeface="Monotype Corsiva"/>
              </a:rPr>
              <a:t>эмоциональную отзывчивость</a:t>
            </a:r>
            <a:r>
              <a:rPr b="0" lang="ru-RU" sz="2800" spc="-1" strike="noStrike">
                <a:solidFill>
                  <a:srgbClr val="000099"/>
                </a:solidFill>
                <a:latin typeface="Monotype Corsiva"/>
              </a:rPr>
              <a:t> учащихс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Monotype Corsiva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Monotype Corsiva"/>
              </a:rPr>
              <a:t>позволяет увидеть нашим детям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всё многообразие мир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4"/>
          <p:cNvSpPr/>
          <p:nvPr/>
        </p:nvSpPr>
        <p:spPr>
          <a:xfrm>
            <a:off x="596880" y="2421000"/>
            <a:ext cx="77724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Monotype Corsiva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5"/>
          <p:cNvSpPr/>
          <p:nvPr/>
        </p:nvSpPr>
        <p:spPr>
          <a:xfrm>
            <a:off x="1187280" y="18900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Monotype Corsiva"/>
              </a:rPr>
              <a:t>Деятельность учащихся на этапе уро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79280" y="650880"/>
          <a:ext cx="8858520" cy="490680"/>
        </p:xfrm>
        <a:graphic>
          <a:graphicData uri="http://schemas.openxmlformats.org/drawingml/2006/table">
            <a:tbl>
              <a:tblPr/>
              <a:tblGrid>
                <a:gridCol w="1285920"/>
                <a:gridCol w="4572000"/>
                <a:gridCol w="3000600"/>
              </a:tblGrid>
              <a:tr h="490680"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реб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 уро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р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овременного ти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ниверсаль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ебные дейст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179280" y="1125360"/>
          <a:ext cx="8858520" cy="530280"/>
        </p:xfrm>
        <a:graphic>
          <a:graphicData uri="http://schemas.openxmlformats.org/drawingml/2006/table">
            <a:tbl>
              <a:tblPr/>
              <a:tblGrid>
                <a:gridCol w="1285920"/>
                <a:gridCol w="4572000"/>
                <a:gridCol w="3000600"/>
              </a:tblGrid>
              <a:tr h="53028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ъявление темы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р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Формулируют сами учащиеся (учитель подводит учащихся к осознанию тем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знавательные общеучебные , коммуникатив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179280" y="1628640"/>
          <a:ext cx="8858520" cy="701640"/>
        </p:xfrm>
        <a:graphic>
          <a:graphicData uri="http://schemas.openxmlformats.org/drawingml/2006/table">
            <a:tbl>
              <a:tblPr/>
              <a:tblGrid>
                <a:gridCol w="1285920"/>
                <a:gridCol w="4572000"/>
                <a:gridCol w="3000600"/>
              </a:tblGrid>
              <a:tr h="701640"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общение целей и зада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Формулируют сами учащиеся, определив границы знания и незнания (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итель подводит учащихся к осознанию целей и задач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егулятивные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оммуникатив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4"/>
          <p:cNvSpPr/>
          <p:nvPr/>
        </p:nvSpPr>
        <p:spPr>
          <a:xfrm>
            <a:off x="468360" y="0"/>
            <a:ext cx="82296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cc"/>
                </a:solidFill>
                <a:latin typeface="Monotype Corsiva"/>
              </a:rPr>
              <a:t>ЭЙ АР ГАЙД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1258920" y="692280"/>
            <a:ext cx="6697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столбике «ДО» поставьте «+», если вы согласны с утверждением, или «-», если вы не согласн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 Чтобы принять решение, используйте результаты устного счета и условие задачи про шаги челове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11280" y="2708280"/>
          <a:ext cx="7848360" cy="1889280"/>
        </p:xfrm>
        <a:graphic>
          <a:graphicData uri="http://schemas.openxmlformats.org/drawingml/2006/table">
            <a:tbl>
              <a:tblPr/>
              <a:tblGrid>
                <a:gridCol w="745920"/>
                <a:gridCol w="6094440"/>
                <a:gridCol w="100800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ЕРЖД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 умею делить десятичную дробь на натуральное чис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имое всегда больше частного или равно частном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 умею делить число на десятичную дроб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Прямоугольник 5"/>
          <p:cNvSpPr/>
          <p:nvPr/>
        </p:nvSpPr>
        <p:spPr>
          <a:xfrm>
            <a:off x="1187280" y="18900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Monotype Corsiva"/>
              </a:rPr>
              <a:t>Деятельность учащихся на этапе уро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79280" y="650880"/>
          <a:ext cx="8858520" cy="490680"/>
        </p:xfrm>
        <a:graphic>
          <a:graphicData uri="http://schemas.openxmlformats.org/drawingml/2006/table">
            <a:tbl>
              <a:tblPr/>
              <a:tblGrid>
                <a:gridCol w="1285920"/>
                <a:gridCol w="4572000"/>
                <a:gridCol w="3000600"/>
              </a:tblGrid>
              <a:tr h="490680"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реб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 уро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р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овременного ти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ниверсаль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ебные дейст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179280" y="1125360"/>
          <a:ext cx="8858520" cy="530280"/>
        </p:xfrm>
        <a:graphic>
          <a:graphicData uri="http://schemas.openxmlformats.org/drawingml/2006/table">
            <a:tbl>
              <a:tblPr/>
              <a:tblGrid>
                <a:gridCol w="1285920"/>
                <a:gridCol w="4572000"/>
                <a:gridCol w="3000600"/>
              </a:tblGrid>
              <a:tr h="53028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ъявление темы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р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Формулируют сами учащиеся (учитель подводит учащихся к осознанию тем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знавательные общеучебные , коммуникатив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179280" y="1628640"/>
          <a:ext cx="8858520" cy="701640"/>
        </p:xfrm>
        <a:graphic>
          <a:graphicData uri="http://schemas.openxmlformats.org/drawingml/2006/table">
            <a:tbl>
              <a:tblPr/>
              <a:tblGrid>
                <a:gridCol w="1285920"/>
                <a:gridCol w="4572000"/>
                <a:gridCol w="3000600"/>
              </a:tblGrid>
              <a:tr h="701640"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общение целей и зада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Формулируют сами учащиеся, определив границы знания и незнания (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итель подводит учащихся к осознанию целей и задач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егулятивные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оммуникатив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179280" y="2349360"/>
          <a:ext cx="8858520" cy="490680"/>
        </p:xfrm>
        <a:graphic>
          <a:graphicData uri="http://schemas.openxmlformats.org/drawingml/2006/table">
            <a:tbl>
              <a:tblPr/>
              <a:tblGrid>
                <a:gridCol w="1285920"/>
                <a:gridCol w="4572000"/>
                <a:gridCol w="3000600"/>
              </a:tblGrid>
              <a:tr h="490680"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ланир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ланирование учащимися способов достижения намеченной цели (учитель помогает, советуе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егулятив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ланир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179280" y="2852640"/>
          <a:ext cx="8858520" cy="736560"/>
        </p:xfrm>
        <a:graphic>
          <a:graphicData uri="http://schemas.openxmlformats.org/drawingml/2006/table">
            <a:tbl>
              <a:tblPr/>
              <a:tblGrid>
                <a:gridCol w="1285920"/>
                <a:gridCol w="4572000"/>
                <a:gridCol w="3000600"/>
              </a:tblGrid>
              <a:tr h="736560"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актическая деятельность учащих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ащиеся осуществляют учебные действия по намеченному плану (применяется групповой, индивидуальный методы, учитель консультируе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знавательные, регулятивные, коммуникативные, личност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"/>
          <p:cNvSpPr/>
          <p:nvPr/>
        </p:nvSpPr>
        <p:spPr>
          <a:xfrm>
            <a:off x="1187280" y="18900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Monotype Corsiva"/>
              </a:rPr>
              <a:t>Для формирования </a:t>
            </a:r>
            <a:r>
              <a:rPr b="0" lang="ru-RU" sz="2400" spc="-1" strike="noStrike">
                <a:solidFill>
                  <a:srgbClr val="ff0000"/>
                </a:solidFill>
                <a:latin typeface="Monotype Corsiva"/>
              </a:rPr>
              <a:t>регулятивных УУД</a:t>
            </a:r>
            <a:r>
              <a:rPr b="0" lang="ru-RU" sz="2400" spc="-1" strike="noStrike">
                <a:solidFill>
                  <a:srgbClr val="000099"/>
                </a:solidFill>
                <a:latin typeface="Monotype Corsiva"/>
              </a:rPr>
              <a:t> возможн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Monotype Corsiva"/>
              </a:rPr>
              <a:t>следующие виды заданий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684360" y="1557360"/>
            <a:ext cx="784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еднамеренные ошибки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оставление задач, упражнений, вопросов самими учащимися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ормулирование гипотез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иск информации в предложенных источниках и т.д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оугольник 1"/>
          <p:cNvSpPr/>
          <p:nvPr/>
        </p:nvSpPr>
        <p:spPr>
          <a:xfrm>
            <a:off x="1187280" y="18900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Monotype Corsiva"/>
              </a:rPr>
              <a:t>Для формирования </a:t>
            </a:r>
            <a:r>
              <a:rPr b="0" lang="ru-RU" sz="2400" spc="-1" strike="noStrike">
                <a:solidFill>
                  <a:srgbClr val="ff0000"/>
                </a:solidFill>
                <a:latin typeface="Monotype Corsiva"/>
              </a:rPr>
              <a:t>познавательных  УУД</a:t>
            </a:r>
            <a:r>
              <a:rPr b="0" lang="ru-RU" sz="2400" spc="-1" strike="noStrike">
                <a:solidFill>
                  <a:srgbClr val="000099"/>
                </a:solidFill>
                <a:latin typeface="Monotype Corsiva"/>
              </a:rPr>
              <a:t> возможн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Monotype Corsiva"/>
              </a:rPr>
              <a:t>следующие виды заданий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TextBox 2"/>
          <p:cNvSpPr/>
          <p:nvPr/>
        </p:nvSpPr>
        <p:spPr>
          <a:xfrm>
            <a:off x="684360" y="1125360"/>
            <a:ext cx="7848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йди отличия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иск лишнего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Лабиринты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порядочивание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Цепочки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естандартные решения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абота с таблицами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оставление и распознавание диаграмм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оздание проектов и т.д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угольник 1"/>
          <p:cNvSpPr/>
          <p:nvPr/>
        </p:nvSpPr>
        <p:spPr>
          <a:xfrm>
            <a:off x="1187280" y="18900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Monotype Corsiva"/>
              </a:rPr>
              <a:t>Для формирования </a:t>
            </a:r>
            <a:r>
              <a:rPr b="0" lang="ru-RU" sz="2400" spc="-1" strike="noStrike">
                <a:solidFill>
                  <a:srgbClr val="ff0000"/>
                </a:solidFill>
                <a:latin typeface="Monotype Corsiva"/>
              </a:rPr>
              <a:t>коммуникативных  УУД</a:t>
            </a:r>
            <a:r>
              <a:rPr b="0" lang="ru-RU" sz="2400" spc="-1" strike="noStrike">
                <a:solidFill>
                  <a:srgbClr val="000099"/>
                </a:solidFill>
                <a:latin typeface="Monotype Corsiva"/>
              </a:rPr>
              <a:t> возможн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Monotype Corsiva"/>
              </a:rPr>
              <a:t>следующие виды заданий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TextBox 2"/>
          <p:cNvSpPr/>
          <p:nvPr/>
        </p:nvSpPr>
        <p:spPr>
          <a:xfrm>
            <a:off x="684360" y="1557360"/>
            <a:ext cx="7848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абота в парах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абота в группах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оставь задание партнеру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тзыв на работу партнера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оспроизведение ответов партнера и т.д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5T16:39:37Z</dcterms:created>
  <dc:creator>USER</dc:creator>
  <dc:description/>
  <dc:language>en-US</dc:language>
  <cp:lastModifiedBy>User</cp:lastModifiedBy>
  <dcterms:modified xsi:type="dcterms:W3CDTF">2014-05-19T13:36:19Z</dcterms:modified>
  <cp:revision>88</cp:revision>
  <dc:subject/>
  <dc:title>Занимательная  математика</dc:title>
</cp:coreProperties>
</file>