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7F84-3FFE-4F81-89A0-C940C555E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DC55-5F52-4D8E-B574-66DD2FDF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6E31-7461-4AF1-9507-3FDB9DD6E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CD87-AC5F-4E5A-85AD-4AC4279AD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867F-4A04-4751-AFE3-788671D89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F443-8510-4CDC-B1A7-6B3808F7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20F7-4E1A-4574-8AFE-2A2C2596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12A6-DD9B-4FB6-B1B2-B9D5EB84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F2B1-D486-4BBB-9D7A-54CFB2FB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F743-F24E-47BA-B75A-1FA7D19F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2ECB-E760-49B0-BCD8-2C40885F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0C07-E285-49FB-BFAE-9130CBCE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F6A0-5DD7-4728-BDBA-3EADF326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28ED-C996-4A2B-9B54-CD6BF4C3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5D5D-8E42-43D0-B39B-2769A4DC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13D0-ED26-4108-B4BC-63EA63D3D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BF43-C1BF-4A21-8241-D06A0563D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2A70-7718-4B0A-99D3-19B5660E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CFF4-EBBE-4858-B9F4-58890534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8B8D-A5A9-4ED2-B698-A8D7A64B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A6C3-AB99-4A76-82D4-43336A57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FD41-9137-4E3A-A680-992D0DA3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646A-F0F6-468B-B9A2-CC85082A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6775-2A98-4F7A-8FC1-F0A11151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1781-08FB-49EF-A9FE-1764C3D3523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1426-A201-4648-89B0-162BAA6BD01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536400" y="1407960"/>
            <a:ext cx="8242560" cy="2078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лександр Солженицы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067280" y="692280"/>
            <a:ext cx="454824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Матрёнин двор»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— второй из опубликованных в журнале «Новый мир» рассказов Александра Солженицына. Авторское название — «Не стоит село без праведника», было изменено по требованию редакции. Рассказ написан в 1959 году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Рисунок 3" descr="1233386970.jpg"/>
          <p:cNvPicPr/>
          <p:nvPr/>
        </p:nvPicPr>
        <p:blipFill>
          <a:blip r:embed="rId1"/>
          <a:stretch/>
        </p:blipFill>
        <p:spPr>
          <a:xfrm>
            <a:off x="611280" y="836640"/>
            <a:ext cx="33019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0" y="1628640"/>
            <a:ext cx="46432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Герой рассказа - Игнатьич, жаждущий обрести покой в каком-нибудь глухом и тихом уголке России, находит приют и тепло у познавшей жизнь, но не озлобившейся пожилой женщины. Она трудолюбива, умна, но очень одинок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Рисунок 3" descr="95.jpg"/>
          <p:cNvPicPr/>
          <p:nvPr/>
        </p:nvPicPr>
        <p:blipFill>
          <a:blip r:embed="rId1"/>
          <a:stretch/>
        </p:blipFill>
        <p:spPr>
          <a:xfrm>
            <a:off x="4716360" y="1341360"/>
            <a:ext cx="35276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716000" y="3212640"/>
            <a:ext cx="442764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Её душа была открыта для каждого, внутренне она была чиста, как ребёнок. Автор сказал про таких людей, что у них» всегда лица хорошие», то есть они добрые, чистосердечные, доступные окружающим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Содержимое 2"/>
          <p:cNvSpPr/>
          <p:nvPr/>
        </p:nvSpPr>
        <p:spPr>
          <a:xfrm>
            <a:off x="395280" y="333360"/>
            <a:ext cx="4572000" cy="36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атрёна помогает людям просто так, за спасибо. И ей вовсе не нужы деньги. Главное – что у неё есть её жизнь, её дом, да грязно-белая коза и колченогая кошка. Её помощь искренняя, от чистого сердца, а значит с пользо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Рисунок 4" descr="1e5442ca1ebab5f083643ffd4574e5d5.jpg"/>
          <p:cNvPicPr/>
          <p:nvPr/>
        </p:nvPicPr>
        <p:blipFill>
          <a:blip r:embed="rId1"/>
          <a:stretch/>
        </p:blipFill>
        <p:spPr>
          <a:xfrm>
            <a:off x="5003640" y="476280"/>
            <a:ext cx="3616560" cy="266544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5" descr="96.jpg"/>
          <p:cNvPicPr/>
          <p:nvPr/>
        </p:nvPicPr>
        <p:blipFill>
          <a:blip r:embed="rId2"/>
          <a:stretch/>
        </p:blipFill>
        <p:spPr>
          <a:xfrm>
            <a:off x="900000" y="3716280"/>
            <a:ext cx="388800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6920" y="692280"/>
            <a:ext cx="48258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И эта доброта довела Матрену Васильевну до гибели. Люди не смогли понять ее, ее внутренний мир, душу. Они использовали ее помощь, ее стремление к труду для реализации своих личных целей, даже не пытаясь, ничего дать взамен. Нет, не деньги, не продукты, а понимание, уважение – вот чего ждала Матрена Васильевна, но не дождалась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Рисунок 3" descr="05labn5171275400306.jpg"/>
          <p:cNvPicPr/>
          <p:nvPr/>
        </p:nvPicPr>
        <p:blipFill>
          <a:blip r:embed="rId1"/>
          <a:stretch/>
        </p:blipFill>
        <p:spPr>
          <a:xfrm>
            <a:off x="900000" y="1125360"/>
            <a:ext cx="360072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Не гналась за обзаводом... Не выбивалась, чтобы купить вещи и потом беречь их больше своей жизни. Не гналась за нарядами. За одеждой, приукрашивающей уродов и злодеев. Не понятая и брошенная даже мужем своим, схоронившая шесть детей, но не нрав свой общительный, чужая сестрам, золовкам, смешная, по-глупому работающая на других бесплатно, - она не скопила имущества к смерти.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3" descr="ng-8-507.jpg"/>
          <p:cNvPicPr/>
          <p:nvPr/>
        </p:nvPicPr>
        <p:blipFill>
          <a:blip r:embed="rId1"/>
          <a:stretch/>
        </p:blipFill>
        <p:spPr>
          <a:xfrm>
            <a:off x="-771480" y="0"/>
            <a:ext cx="991548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250560" y="620640"/>
            <a:ext cx="8713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Она - тот самый праведник, без которого, по пословице, не стоит село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и город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и вся земля наша.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-360" y="6353280"/>
            <a:ext cx="5986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ломаева Екатерина 11 «Б» клас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4T18:51:40Z</dcterms:created>
  <dc:creator>Екатерина</dc:creator>
  <dc:description/>
  <dc:language>en-US</dc:language>
  <cp:lastModifiedBy>Екатерина</cp:lastModifiedBy>
  <dcterms:modified xsi:type="dcterms:W3CDTF">2012-05-24T20:02:38Z</dcterms:modified>
  <cp:revision>8</cp:revision>
  <dc:subject/>
  <dc:title>Матрёнин двор</dc:title>
</cp:coreProperties>
</file>