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6FC-E981-48D9-B13E-F2604A26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128-52C2-42B7-B686-C67AE3AC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C1B-13DD-4584-BD52-375F0771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148-C0CA-4AAE-9557-E7C1CF23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B297-7485-44BC-8C7B-9BCEDA6A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E4F3-17DF-4E2C-ACA2-606B4FE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D26-5125-40CE-AD30-C2CAB25A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18B1-F5AE-454A-AFFD-94B670E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CE7-3D28-4BD0-8821-ABED41B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F69F-96D8-4D83-8329-4A357E3F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A53F-9D69-48D0-99C0-B49276A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2C6-DAE5-49A0-B968-5517347D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9AEE-AA60-477C-ACB5-689A632B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1D8-7EE3-437E-9AC1-91C0D87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E5F4-3A2C-4DF2-8157-F716D4E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85BA-A4ED-46EE-8EDD-A827CEDD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93FA-0D9E-4111-A107-3B31225C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9FE-83E9-4166-9BBF-75AAAA56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77B-98C6-42E0-9E95-546FC27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E15-6928-4306-BADE-880A446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C86-3324-4C54-98F2-CC26173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24A-2F9F-43FB-ADFA-2543FB7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271-C80C-4A1D-8DED-20EFD2F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1D0-2C96-4F63-A0CC-B4B4B8D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B5C6-DE76-4705-BD98-03473FFD54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684360" y="1413000"/>
            <a:ext cx="799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0" y="0"/>
            <a:ext cx="611280" cy="4869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6300720" y="1413000"/>
            <a:ext cx="2374920" cy="14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ED8-70F9-479E-84BF-7F2404AA4B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0"/>
          <p:cNvSpPr/>
          <p:nvPr/>
        </p:nvSpPr>
        <p:spPr>
          <a:xfrm>
            <a:off x="684360" y="206064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695840" y="539280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132000" y="4365720"/>
            <a:ext cx="5473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онова Ольга Алексеевна, методист МОУ ДОД ЦДТ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ября 2009 год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143000"/>
            <a:ext cx="8748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Семинар-практикум по теме:«Организация исследовательск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деятельности обучающихся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Темы для учебных</a:t>
            </a:r>
            <a:br>
              <a:rPr sz="3400"/>
            </a:b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исследований учащихся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141300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курс «Хочу всё знать»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инации: 1. «Военная техника второй мировой войны»; 2. «С войной покончили мы счёты»- рассказ о том, какой трудовой вклад в Победу над врагом внесли жители Горьковской области, о работе предприятий Горьковской области во время войны;3. «Никто не забыт, ничто не забыто» - сообщение о героях-земляках – участниках Великой Отечественной войны, о местах памяти бессмертным подвигам героев-земляков – памятниках, обелисках, мемориалах; 4. «Памяти павших будьте достойны»- рассуждение о великом подвиге русского народа, о нынешнем поколении- достойны ли мы тех потерь, которые понесли наши деды в войну, о том, какой ценой досталась эта Победа нашей стране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Темы для учебных</a:t>
            </a:r>
            <a:br>
              <a:rPr sz="3400"/>
            </a:b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исследований учащихся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826920" y="170028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курс «Юный исследователь»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исследовательские работы выполняются по следующим секция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и охрана водных объектов (биологические и химические методы исследования водных объектов, необходимые меры, принимаемые для охраны водных объектов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качества воды (анализ чисты водоемов и водотоков физическими и химическими методами, применение биологических методов для оценки загрязнения воды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Темы для учебных</a:t>
            </a:r>
            <a:br>
              <a:rPr sz="3400"/>
            </a:b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исследований учащихся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26920" y="1341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ая биология и генетика (влияние биотических и абиотических факторов среды на здоровье человека: наследственные заболевания, наследование признаков и составление родословных: причины развития врожденных и приобретенных патологий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экология (изучение эффективности биологических способов защиты леса, изучение возобновления и формирования леса, флористические и геоботанические исследования лесных растительных сообществ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индикация (определение по биоиндикаторам степени вредности тех или иных веществ для живой природы, механизм адаптации живых организмов к токсическим веществам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Темы для учебных</a:t>
            </a:r>
            <a:br>
              <a:rPr sz="3400"/>
            </a:b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исследований учащихся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826920" y="1700280"/>
            <a:ext cx="83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755640" y="1341360"/>
            <a:ext cx="7920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 животных (исследования позвоночных и беспозвоночных животных, фаунистика и экология различных систематических групп животных, исследование поведения животных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боэкология (исследование влияния техногенной нагрузки города на природную среду и человека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о-экология природного пространства: почитание воды и мира леса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о-экологические аспекты изучения традиционных обрядов и праздников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Темы для учебных</a:t>
            </a:r>
            <a:br>
              <a:rPr sz="3400"/>
            </a:b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исследований учащихся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но-экология мира человека: топонимика,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и будущие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традиционных промыслов и реме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науки и тех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 и радиоэлект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е виды декоративно-прикладного творчества (флористика, темари, квиллинг, декупа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ая тема в живописи (Великая отечественная война 1941-1945г.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ая культура (журналистика, правовая культур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я растений (исследования биологических и экологических особенностей дикорастущих растений, грибов и лишайников, популяционные исследования растений, изучение флоры и раститель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курс «Я познаю мир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уппы 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стичес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пиричес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т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. Определение объекта  и предмета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это определённый процесс или явление, порождающее проблемную ситу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нкретная часть объекта, внутри которой ведётся пои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ание2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берите объектную область, объект исследования, предмет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4. Выбор темы, постановка проблемного вопроса, обоснование актуальности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основать акт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начит  объяснить необходимость изучения данной темы в контексте общего процесса научного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ание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3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формулируйте примерную тему и проблемный вопрос исследования в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5. Изучение научной литературы и уточнение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изучению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пробуй найти сам»- этап самостоятельного составления библиографического списка источников по 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ние и использование различных типов чтения (Просмотровое чтение, ознакомительное, Изучающее чт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е различных приёмов фиксирования нужной информации (конспектирование, фиксирование переработанного материала, цитирование, создание спец. картоте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ание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5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метьте 3-4 направления информационных ресурсов для из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6. Выработка гипоте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ипотез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объяснения при недостаточной информаци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ь предпол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логически непротиворечи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овать ф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максимально возможно прост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ание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6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Сформулируйте предварительную гипоте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7. Определение цели и задач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исследования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, который нужно дости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характеристик явлений, не изученных ран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взаимосвязи неких явл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развития я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нового я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бщение, выявление общих закономер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лассифик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а исследования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ути и средства, которые выбираются для достижения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Не сделай за меня, а помоги мне сделать самому.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М. Монтессор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сследовательск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вязанная с решением творческой, исследовательской задачи с заранее неизвестным решением и предполагающая наличие  основных этапов, характерных для исследования в науч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7. Определение цели и задач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исследован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ути и средства, которые выбираются для достижения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о, возможные задачи (по задаваемым вопросам) можно подразделить на следующие т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енные (отвечающие на вопрос «Сколько?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енные задачи на выявление связей между явлениями («Какова связь?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ые задачи (отвечающие на вопрос «Есть ли?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ые (отвечающие на вопросы «для чего?», или «Зачем?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 выявление механизмов (отвечающие на вопрос «Как?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 выявление причин явлений (отвечающие на вопрос «Почему?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Задание 7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Наметьте цель и 3 задачи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8. Определение методов 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тод-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пособ достижения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сследования должна быть описана так, чтобы любой исследователь при желании мог повторить эти исследования и получить такие ж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Методы научного позна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84360" y="1484280"/>
            <a:ext cx="244764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4360" y="4581360"/>
            <a:ext cx="5111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пирические метод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людение, сравнение, эксперимен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684360" y="5661000"/>
            <a:ext cx="727236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ческие методы: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 визуализации данных, методы и модели теори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ов и сетевого моделирования и др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84360" y="1989000"/>
            <a:ext cx="3743280" cy="237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оретически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 синтез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ждение от абстрактного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кретному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4643280" y="1413000"/>
            <a:ext cx="4249800" cy="3311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ются характером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уемого объекта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когда не бывают произвольным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именение требует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й подготовленности.</a:t>
            </a:r>
            <a:br>
              <a:rPr sz="1800"/>
            </a:b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250920" y="5229360"/>
            <a:ext cx="2160000" cy="1008000"/>
            <a:chOff x="250920" y="5229360"/>
            <a:chExt cx="2160000" cy="1008000"/>
          </a:xfrm>
        </p:grpSpPr>
        <p:sp>
          <p:nvSpPr>
            <p:cNvPr id="209" name="Rectangle 4"/>
            <p:cNvSpPr/>
            <p:nvPr/>
          </p:nvSpPr>
          <p:spPr>
            <a:xfrm>
              <a:off x="270000" y="5229360"/>
              <a:ext cx="644040" cy="2181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250920" y="6019200"/>
              <a:ext cx="776880" cy="2181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653120" y="6019200"/>
              <a:ext cx="757440" cy="2181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1804680" y="5229360"/>
              <a:ext cx="606240" cy="2062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894960" y="5246280"/>
              <a:ext cx="909360" cy="824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4" name="AutoShape 10"/>
          <p:cNvSpPr/>
          <p:nvPr/>
        </p:nvSpPr>
        <p:spPr>
          <a:xfrm>
            <a:off x="1042920" y="1413000"/>
            <a:ext cx="7705800" cy="4537080"/>
          </a:xfrm>
          <a:prstGeom prst="wedgeRectCallout">
            <a:avLst>
              <a:gd name="adj1" fmla="val -47055"/>
              <a:gd name="adj2" fmla="val 43527"/>
            </a:avLst>
          </a:prstGeom>
          <a:solidFill>
            <a:srgbClr val="dedd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дание 8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положите, какие методы, известные вашим учащимся, они могут применить в проектируемой работе, а с чем их предстоит познакомить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9. Составление плана исследования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дание 9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Наметьте план исследования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. Проведение исследования по плану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1.Подведение итогов практической части. Оформление результатов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зис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атое перечисление основных положений и выводов исследования, или развёрнутое изложение по актуальной теме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250920" y="5229360"/>
            <a:ext cx="2160000" cy="1008000"/>
            <a:chOff x="250920" y="5229360"/>
            <a:chExt cx="2160000" cy="1008000"/>
          </a:xfrm>
        </p:grpSpPr>
        <p:sp>
          <p:nvSpPr>
            <p:cNvPr id="217" name="Rectangle 4"/>
            <p:cNvSpPr/>
            <p:nvPr/>
          </p:nvSpPr>
          <p:spPr>
            <a:xfrm>
              <a:off x="270000" y="5229360"/>
              <a:ext cx="644040" cy="2181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250920" y="6019200"/>
              <a:ext cx="776880" cy="2181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1653120" y="6019200"/>
              <a:ext cx="757440" cy="2181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1804680" y="5229360"/>
              <a:ext cx="606240" cy="2062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894960" y="5246280"/>
              <a:ext cx="909360" cy="824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2" name="AutoShape 9"/>
          <p:cNvSpPr/>
          <p:nvPr/>
        </p:nvSpPr>
        <p:spPr>
          <a:xfrm>
            <a:off x="1042920" y="1413000"/>
            <a:ext cx="7850160" cy="5040360"/>
          </a:xfrm>
          <a:prstGeom prst="wedgeRectCallout">
            <a:avLst>
              <a:gd name="adj1" fmla="val -47106"/>
              <a:gd name="adj2" fmla="val 34189"/>
            </a:avLst>
          </a:prstGeom>
          <a:solidFill>
            <a:srgbClr val="dedd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2.Формулировка выводов и направлений дальнейщих исследований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и публичная презентация результатов работы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помнить, что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выступления ограничено (7-10 минут)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до говорить о теме и литературе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работы- это не пересказ её содержания и ни как не «чтение вслух»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дан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.Наметьте процедуру защиты, представление результатов работы. Отметьте, какими доступными ресурсами это можно обеспечить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ребования к исследовательск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24" name="Picture 2" descr="F:\тит лист..jpg"/>
          <p:cNvPicPr/>
          <p:nvPr/>
        </p:nvPicPr>
        <p:blipFill>
          <a:blip r:embed="rId1"/>
          <a:stretch/>
        </p:blipFill>
        <p:spPr>
          <a:xfrm>
            <a:off x="3132000" y="1413000"/>
            <a:ext cx="3672000" cy="496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ребования к исследовательск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ы работ, прилагаемые иллюстративные материалы и тезисы докладов должны быть представлены на бумажном и электронном носителе в формате А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ём работы не должен превышать 15 – 20 страниц машинописного текста, напечатанного через 1,5 интервала шрифт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4 с полями: слева – 30 мм, справа 15 мм, сверху и снизу – 20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работы должна соответствовать общепринятой для научных трудов и содержать: титульный лист; оглавление; введение; основную часть; заключение; библиографический список; приложени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ребования к исследовательск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Требования к оформлению тез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 14пт, Times New R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строчный интервал 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о рукописное оформление отдельных фрагментов (формулы, чертёжный материал и т.п.), которое выполняется чёрной па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: не более 1 стр. («Юный исследователь»),до 5 стр. печатного текста («Хочу всё знать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ребования к исследовательск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презент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лайд на 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 = возраст самого старшего слушателя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более 10 сюж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моничное цветов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онные материалы должны иметь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Пример разработки </a:t>
            </a: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Web-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сай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еклассного учебного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мся предлагается создать Web-сайт. Им необходимо изучить основные структуры языка HTML; проанализировать программы, предназначенные для создания Web-сайтов;  провести анкетирование и на его основе определиться с тематикой создаваемого Web-сайте; определить наиболее быстрый способ создания Web-сайта; создать Web-с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ап – планирование исследовани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определение сферы исследователь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Этапы научно-исследовательск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тивация научно-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направления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жение гипотезы и постановка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ксирование и предварительная обработ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ение результатов исследования, проверка гипо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ление результат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611280" y="260280"/>
            <a:ext cx="85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нформационные ресурсы сети Интерне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, содержание, оформление Web-сайт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Web-сайта в виде  электронного справочника по информатике для учеников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и проанализировать предпочтения одноклассников в предметной области «Информатика»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различные Интернет-ресурсы по данной проблеме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ить проблемы, связанные с получением информации по данной теме в сети Интернет;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литературу по вопросу созд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йт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требования, предъявляемые к созданию Web-сайтов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ся со структурными элемен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траниц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меющиеся программные средства, предназначенные для создания Web-сайтов и выбрать оптимальное из них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 отобрать материал для наполнения содержания Web-сайта;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айт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учебное исследование и защитить его на конференции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684360" y="26028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потеза исслед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изучить предпочтения одноклассников, и различные Интернет-ресурсы, проанализировать имеющиеся программные средства, то можно созда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йт, который повысит интерес учащихся к предмету «Информатика и информационные технологии»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сравнительного анализа литературы и программных средств; метод моделирования; метод беседы и анкетирования; метод наблюдения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Диагностический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нном этапе учащимся необходимо  подготовить вопросы для анкетирования одноклассников, с целью  выявить их предпочтения по работе с электронным справочником по информатике. Учащиеся должны провести анкетирование в запланированные сроки и проанализировать полученные результаты; определить тематику учебного исследования. Необходимо создать такой Web-сайт, который бы повысил интересы учащихся к предметной области «Информатика», для этого надо изучить имеющуюся информацию в Интернет-ресурсах, и определить что еще не изучено по данной проблеме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826920" y="765000"/>
            <a:ext cx="806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огностический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нном этапе учащиеся решают, как можно реализовать запланированный Web-сай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изучают различные программные средства, предназначенные для создания Web-сайтов, такие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cromed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amweav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Microsoft FrontPage и др. Для того чтобы выбрать наиболее быстрый и эффективный способ создания Web-сайтов, учащиеся должны тщательно изучить интерфейс каждой программы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актический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одержания и наполнения Web-сайта исследователи изучают и анализируют различную литературу по конкретной тематике. Необходимо найти интересные факты и подкрепить их яркими примерами, чтобы заинтересовать потенциальных посетителей сайта. Изучив литературу, у школьников уже достаточно знаний, умений и сведений, чтобы создавать желаемый сайт. Для каждого участника учебного исследования определяется индивидуальное содержание работы. Когда каждая страница сайта создана, учащиеся совместно объединяют их в единый Web-сай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48428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общающий этап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щий в себя анализ и оценку результатов. Учащимся необходимо проверить соответствует ли исходные планы, такие как цель, задачи, гипотеза исходному результату. Если есть какие-либо недочеты или ошибки, юным исследователям необходимо вернуться на соответствующий этап работы и произвести корректировку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недренческий эта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пишут и оформляют работу, создают проект как единое целое, создают демонстрационные материалы. Деятельность учителя заключается в следующем: дает советы, демонстрирует образцы правильно оформленных работ, помогает написать вступление, библиографию, правильно оформить заключение. На конференции учащиеся представляют свою исследовательскую работу. Каждый индивидуально отчитывается. Принимает участие в обсуждении работ других учащихся. Учитель на конференции предлагает тематику других учебных исследований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90720" y="20574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нтактный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tt.82@mail.ru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Правила выбора темы</a:t>
            </a:r>
            <a:r>
              <a:rPr b="1" lang="ru-RU" sz="4200" spc="-1" strike="noStrike">
                <a:solidFill>
                  <a:srgbClr val="990033"/>
                </a:solidFill>
                <a:latin typeface="Arial Black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должна быть интересна ребёнку, увлека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должна быть выпол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должна быть оригинальной, в ней необходим элемент неожид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должна быть достаточно быстро раскрываема, и качественно выпол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должна быть из той области, где руководитель обладает исследовательским опытом и наибольшим запасом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тоже должен чувствовать себя исследов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должна быть раскрываема при имеющемся уровне материально-техническ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обенности личности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ебёнка-исследовател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следовательский интер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юбозна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лонность к твор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знавательная а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Цели исследовательской и творческ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интеллектуальных и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ннее углубленное освоение профессиональ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исследовательской культуры, навыков коллектив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ая ори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Методы активизации исследовательской активности младших школьни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971640" y="1197000"/>
            <a:ext cx="8172360" cy="525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042920" y="5229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я «Фантастическое сложение», «Копилка»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Вопрошайка», коллективный учебный диалог, коллективное моделирование, экскурсии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2843280" y="46530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916360" y="3789360"/>
            <a:ext cx="316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левая игр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людения по плану, эксперимент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ка «продолжи исследование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932360" y="242100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-исследования по самостоя-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ьно разработанному плану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нинги «Сформулируй причины и следствия ситуации», «Предложи нетрадиционные способы использо-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ния предмета» ит.д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94760" y="4799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--1 класс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133080" y="32846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2 класс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219640" y="1989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-4класс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 rot="19840800">
            <a:off x="611280" y="2276280"/>
            <a:ext cx="3671640" cy="485640"/>
          </a:xfrm>
          <a:prstGeom prst="rightArrow">
            <a:avLst>
              <a:gd name="adj1" fmla="val 62806"/>
              <a:gd name="adj2" fmla="val 1758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24" descr="j0195384"/>
          <p:cNvPicPr/>
          <p:nvPr/>
        </p:nvPicPr>
        <p:blipFill>
          <a:blip r:embed="rId1"/>
          <a:stretch/>
        </p:blipFill>
        <p:spPr>
          <a:xfrm>
            <a:off x="7348680" y="4508640"/>
            <a:ext cx="1795320" cy="18334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6"/>
          <p:cNvGrpSpPr/>
          <p:nvPr/>
        </p:nvGrpSpPr>
        <p:grpSpPr>
          <a:xfrm>
            <a:off x="308880" y="3986640"/>
            <a:ext cx="658800" cy="1398600"/>
            <a:chOff x="308880" y="3986640"/>
            <a:chExt cx="658800" cy="1398600"/>
          </a:xfrm>
        </p:grpSpPr>
        <p:grpSp>
          <p:nvGrpSpPr>
            <p:cNvPr id="121" name="Group 27"/>
            <p:cNvGrpSpPr/>
            <p:nvPr/>
          </p:nvGrpSpPr>
          <p:grpSpPr>
            <a:xfrm>
              <a:off x="639360" y="4439880"/>
              <a:ext cx="328320" cy="497880"/>
              <a:chOff x="639360" y="4439880"/>
              <a:chExt cx="328320" cy="497880"/>
            </a:xfrm>
          </p:grpSpPr>
          <p:sp>
            <p:nvSpPr>
              <p:cNvPr id="122" name="Freeform 28"/>
              <p:cNvSpPr/>
              <p:nvPr/>
            </p:nvSpPr>
            <p:spPr>
              <a:xfrm rot="1063200">
                <a:off x="668880" y="4705560"/>
                <a:ext cx="275400" cy="194760"/>
              </a:xfrm>
              <a:prstGeom prst="pie">
                <a:avLst/>
              </a:prstGeom>
              <a:solidFill>
                <a:srgbClr val="a882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 rot="1063200">
                <a:off x="703800" y="4683240"/>
                <a:ext cx="237960" cy="59400"/>
              </a:xfrm>
              <a:prstGeom prst="pie">
                <a:avLst/>
              </a:prstGeom>
              <a:solidFill>
                <a:srgbClr val="826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 rot="1063200">
                <a:off x="761400" y="4673520"/>
                <a:ext cx="21960" cy="28080"/>
              </a:xfrm>
              <a:prstGeom prst="pie">
                <a:avLst/>
              </a:pr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 rot="1063200">
                <a:off x="790200" y="4674600"/>
                <a:ext cx="16560" cy="2412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 rot="1063200">
                <a:off x="800640" y="4674960"/>
                <a:ext cx="21240" cy="2556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 rot="1063200">
                <a:off x="813960" y="4673520"/>
                <a:ext cx="26280" cy="2916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 rot="1063200">
                <a:off x="853560" y="4695120"/>
                <a:ext cx="19800" cy="14040"/>
              </a:xfrm>
              <a:prstGeom prst="pie">
                <a:avLst/>
              </a:pr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 rot="1063200">
                <a:off x="833040" y="4677120"/>
                <a:ext cx="18720" cy="2412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 rot="1063200">
                <a:off x="663480" y="4471200"/>
                <a:ext cx="237960" cy="19692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1" name="Freeform 37"/>
            <p:cNvSpPr/>
            <p:nvPr/>
          </p:nvSpPr>
          <p:spPr>
            <a:xfrm>
              <a:off x="698760" y="5282280"/>
              <a:ext cx="172080" cy="89280"/>
            </a:xfrm>
            <a:prstGeom prst="pie">
              <a:avLst/>
            </a:pr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>
              <a:off x="614880" y="4849200"/>
              <a:ext cx="200880" cy="472680"/>
            </a:xfrm>
            <a:prstGeom prst="pie">
              <a:avLst/>
            </a:pr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 rot="20919600">
              <a:off x="324000" y="5205600"/>
              <a:ext cx="135720" cy="167760"/>
            </a:xfrm>
            <a:prstGeom prst="pie">
              <a:avLst/>
            </a:pr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4" name="Freeform 40"/>
            <p:cNvSpPr/>
            <p:nvPr/>
          </p:nvSpPr>
          <p:spPr>
            <a:xfrm>
              <a:off x="348120" y="4849200"/>
              <a:ext cx="249120" cy="453600"/>
            </a:xfrm>
            <a:prstGeom prst="pie">
              <a:avLst/>
            </a:pr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>
              <a:off x="453960" y="4207680"/>
              <a:ext cx="298080" cy="708840"/>
            </a:xfrm>
            <a:prstGeom prst="pie">
              <a:avLst/>
            </a:prstGeom>
            <a:solidFill>
              <a:srgbClr val="b5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403200" y="4290480"/>
              <a:ext cx="421200" cy="547200"/>
              <a:chOff x="403200" y="4290480"/>
              <a:chExt cx="421200" cy="547200"/>
            </a:xfrm>
          </p:grpSpPr>
          <p:sp>
            <p:nvSpPr>
              <p:cNvPr id="137" name="Freeform 43"/>
              <p:cNvSpPr/>
              <p:nvPr/>
            </p:nvSpPr>
            <p:spPr>
              <a:xfrm rot="19152600">
                <a:off x="515520" y="4547160"/>
                <a:ext cx="264960" cy="231840"/>
              </a:xfrm>
              <a:prstGeom prst="pie">
                <a:avLst/>
              </a:prstGeom>
              <a:solidFill>
                <a:srgbClr val="fff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Freeform 44"/>
              <p:cNvSpPr/>
              <p:nvPr/>
            </p:nvSpPr>
            <p:spPr>
              <a:xfrm rot="19152600">
                <a:off x="517320" y="4281480"/>
                <a:ext cx="120240" cy="39420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9" name="Freeform 45"/>
            <p:cNvSpPr/>
            <p:nvPr/>
          </p:nvSpPr>
          <p:spPr>
            <a:xfrm>
              <a:off x="391320" y="4600800"/>
              <a:ext cx="4320" cy="12600"/>
            </a:xfrm>
            <a:prstGeom prst="pie">
              <a:avLst/>
            </a:prstGeom>
            <a:solidFill>
              <a:srgbClr val="f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0" name="Group 46"/>
            <p:cNvGrpSpPr/>
            <p:nvPr/>
          </p:nvGrpSpPr>
          <p:grpSpPr>
            <a:xfrm>
              <a:off x="577440" y="3986640"/>
              <a:ext cx="292680" cy="327960"/>
              <a:chOff x="577440" y="3986640"/>
              <a:chExt cx="292680" cy="327960"/>
            </a:xfrm>
          </p:grpSpPr>
          <p:sp>
            <p:nvSpPr>
              <p:cNvPr id="141" name="Freeform 47"/>
              <p:cNvSpPr/>
              <p:nvPr/>
            </p:nvSpPr>
            <p:spPr>
              <a:xfrm rot="19281000">
                <a:off x="623520" y="4141440"/>
                <a:ext cx="237600" cy="11088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Freeform 48"/>
              <p:cNvSpPr/>
              <p:nvPr/>
            </p:nvSpPr>
            <p:spPr>
              <a:xfrm rot="18838200">
                <a:off x="595080" y="4045680"/>
                <a:ext cx="226800" cy="145440"/>
              </a:xfrm>
              <a:prstGeom prst="pie">
                <a:avLst/>
              </a:prstGeom>
              <a:solidFill>
                <a:srgbClr val="a5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578E-006 L 0.17691 -0.16278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691 -0.16278 L 0.35798 -0.33041 E">
                                      <p:cBhvr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99 -0.3304 L 0.35799 -0.4148 C 0.35799 -0.45225 0.47518 -0.49826 0.57049 -0.49826 L 0.78316 -0.49826 E">
                                      <p:cBhvr>
                                        <p:cTn id="14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Методы активизации исследовательской активности старших школьни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971640" y="1197000"/>
            <a:ext cx="8172360" cy="525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42920" y="52293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я «Фантастическое сложение», «Перестроение»;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843280" y="46530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916360" y="378936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верхгенератор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Дизайнеры»,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верханалитик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932360" y="2421000"/>
            <a:ext cx="47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Мозговой штурм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проектирования Мэтчетт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 решения творческих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блемно-ориентируемый метод проектирования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«Букет проблем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 rot="19840800">
            <a:off x="611280" y="2276280"/>
            <a:ext cx="3671640" cy="485640"/>
          </a:xfrm>
          <a:prstGeom prst="rightArrow">
            <a:avLst>
              <a:gd name="adj1" fmla="val 62806"/>
              <a:gd name="adj2" fmla="val 1758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" name="Picture 12" descr="j0195384"/>
          <p:cNvPicPr/>
          <p:nvPr/>
        </p:nvPicPr>
        <p:blipFill>
          <a:blip r:embed="rId1"/>
          <a:stretch/>
        </p:blipFill>
        <p:spPr>
          <a:xfrm>
            <a:off x="7348680" y="4508640"/>
            <a:ext cx="1795320" cy="18334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3"/>
          <p:cNvGrpSpPr/>
          <p:nvPr/>
        </p:nvGrpSpPr>
        <p:grpSpPr>
          <a:xfrm>
            <a:off x="308880" y="3986640"/>
            <a:ext cx="658800" cy="1398600"/>
            <a:chOff x="308880" y="3986640"/>
            <a:chExt cx="658800" cy="1398600"/>
          </a:xfrm>
        </p:grpSpPr>
        <p:grpSp>
          <p:nvGrpSpPr>
            <p:cNvPr id="152" name="Group 14"/>
            <p:cNvGrpSpPr/>
            <p:nvPr/>
          </p:nvGrpSpPr>
          <p:grpSpPr>
            <a:xfrm>
              <a:off x="639360" y="4439880"/>
              <a:ext cx="328320" cy="497880"/>
              <a:chOff x="639360" y="4439880"/>
              <a:chExt cx="328320" cy="497880"/>
            </a:xfrm>
          </p:grpSpPr>
          <p:sp>
            <p:nvSpPr>
              <p:cNvPr id="153" name="Freeform 15"/>
              <p:cNvSpPr/>
              <p:nvPr/>
            </p:nvSpPr>
            <p:spPr>
              <a:xfrm rot="1063200">
                <a:off x="668880" y="4705560"/>
                <a:ext cx="275400" cy="194760"/>
              </a:xfrm>
              <a:prstGeom prst="pie">
                <a:avLst/>
              </a:prstGeom>
              <a:solidFill>
                <a:srgbClr val="a882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 rot="1063200">
                <a:off x="703800" y="4683240"/>
                <a:ext cx="237960" cy="59400"/>
              </a:xfrm>
              <a:prstGeom prst="pie">
                <a:avLst/>
              </a:prstGeom>
              <a:solidFill>
                <a:srgbClr val="826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 rot="1063200">
                <a:off x="761400" y="4673520"/>
                <a:ext cx="21960" cy="28080"/>
              </a:xfrm>
              <a:prstGeom prst="pie">
                <a:avLst/>
              </a:pr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" name="Freeform 18"/>
              <p:cNvSpPr/>
              <p:nvPr/>
            </p:nvSpPr>
            <p:spPr>
              <a:xfrm rot="1063200">
                <a:off x="790200" y="4674600"/>
                <a:ext cx="16560" cy="2412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" name="Freeform 19"/>
              <p:cNvSpPr/>
              <p:nvPr/>
            </p:nvSpPr>
            <p:spPr>
              <a:xfrm rot="1063200">
                <a:off x="800640" y="4674960"/>
                <a:ext cx="21240" cy="2556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" name="Freeform 20"/>
              <p:cNvSpPr/>
              <p:nvPr/>
            </p:nvSpPr>
            <p:spPr>
              <a:xfrm rot="1063200">
                <a:off x="813960" y="4673520"/>
                <a:ext cx="26280" cy="2916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" name="Freeform 21"/>
              <p:cNvSpPr/>
              <p:nvPr/>
            </p:nvSpPr>
            <p:spPr>
              <a:xfrm rot="1063200">
                <a:off x="853560" y="4695120"/>
                <a:ext cx="19800" cy="14040"/>
              </a:xfrm>
              <a:prstGeom prst="pie">
                <a:avLst/>
              </a:pr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" name="Freeform 22"/>
              <p:cNvSpPr/>
              <p:nvPr/>
            </p:nvSpPr>
            <p:spPr>
              <a:xfrm rot="1063200">
                <a:off x="833040" y="4677120"/>
                <a:ext cx="18720" cy="2412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" name="Freeform 23"/>
              <p:cNvSpPr/>
              <p:nvPr/>
            </p:nvSpPr>
            <p:spPr>
              <a:xfrm rot="1063200">
                <a:off x="663480" y="4471200"/>
                <a:ext cx="237960" cy="19692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" name="Freeform 24"/>
            <p:cNvSpPr/>
            <p:nvPr/>
          </p:nvSpPr>
          <p:spPr>
            <a:xfrm>
              <a:off x="698760" y="5282280"/>
              <a:ext cx="172080" cy="89280"/>
            </a:xfrm>
            <a:prstGeom prst="pie">
              <a:avLst/>
            </a:pr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614880" y="4849200"/>
              <a:ext cx="200880" cy="472680"/>
            </a:xfrm>
            <a:prstGeom prst="pie">
              <a:avLst/>
            </a:pr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 rot="20919600">
              <a:off x="324000" y="5205600"/>
              <a:ext cx="135720" cy="167760"/>
            </a:xfrm>
            <a:prstGeom prst="pie">
              <a:avLst/>
            </a:pr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348120" y="4849200"/>
              <a:ext cx="249120" cy="453600"/>
            </a:xfrm>
            <a:prstGeom prst="pie">
              <a:avLst/>
            </a:pr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53960" y="4207680"/>
              <a:ext cx="298080" cy="708840"/>
            </a:xfrm>
            <a:prstGeom prst="pie">
              <a:avLst/>
            </a:prstGeom>
            <a:solidFill>
              <a:srgbClr val="b5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403200" y="4290480"/>
              <a:ext cx="421200" cy="547200"/>
              <a:chOff x="403200" y="4290480"/>
              <a:chExt cx="421200" cy="547200"/>
            </a:xfrm>
          </p:grpSpPr>
          <p:sp>
            <p:nvSpPr>
              <p:cNvPr id="168" name="Freeform 30"/>
              <p:cNvSpPr/>
              <p:nvPr/>
            </p:nvSpPr>
            <p:spPr>
              <a:xfrm rot="19152600">
                <a:off x="515520" y="4547160"/>
                <a:ext cx="264960" cy="231840"/>
              </a:xfrm>
              <a:prstGeom prst="pie">
                <a:avLst/>
              </a:prstGeom>
              <a:solidFill>
                <a:srgbClr val="fff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" name="Freeform 31"/>
              <p:cNvSpPr/>
              <p:nvPr/>
            </p:nvSpPr>
            <p:spPr>
              <a:xfrm rot="19152600">
                <a:off x="517320" y="4281480"/>
                <a:ext cx="120240" cy="39420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0" name="Freeform 32"/>
            <p:cNvSpPr/>
            <p:nvPr/>
          </p:nvSpPr>
          <p:spPr>
            <a:xfrm>
              <a:off x="391320" y="4600800"/>
              <a:ext cx="4320" cy="12600"/>
            </a:xfrm>
            <a:prstGeom prst="pie">
              <a:avLst/>
            </a:prstGeom>
            <a:solidFill>
              <a:srgbClr val="f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1" name="Group 33"/>
            <p:cNvGrpSpPr/>
            <p:nvPr/>
          </p:nvGrpSpPr>
          <p:grpSpPr>
            <a:xfrm>
              <a:off x="577440" y="3986640"/>
              <a:ext cx="292680" cy="327960"/>
              <a:chOff x="577440" y="3986640"/>
              <a:chExt cx="292680" cy="327960"/>
            </a:xfrm>
          </p:grpSpPr>
          <p:sp>
            <p:nvSpPr>
              <p:cNvPr id="172" name="Freeform 34"/>
              <p:cNvSpPr/>
              <p:nvPr/>
            </p:nvSpPr>
            <p:spPr>
              <a:xfrm rot="19281000">
                <a:off x="623520" y="4141440"/>
                <a:ext cx="237600" cy="110880"/>
              </a:xfrm>
              <a:prstGeom prst="pie">
                <a:avLst/>
              </a:pr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" name="Freeform 35"/>
              <p:cNvSpPr/>
              <p:nvPr/>
            </p:nvSpPr>
            <p:spPr>
              <a:xfrm rot="18838200">
                <a:off x="595080" y="4045680"/>
                <a:ext cx="226800" cy="145440"/>
              </a:xfrm>
              <a:prstGeom prst="pie">
                <a:avLst/>
              </a:prstGeom>
              <a:solidFill>
                <a:srgbClr val="a5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578E-006 L 0.17691 -0.16278 E">
                                      <p:cBhvr>
                                        <p:cTn id="2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691 -0.16278 L 0.35798 -0.33041 E">
                                      <p:cBhvr>
                                        <p:cTn id="2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99 -0.3304 L 0.35799 -0.4148 C 0.35799 -0.45225 0.47518 -0.49826 0.57049 -0.49826 L 0.78316 -0.49826 E">
                                      <p:cBhvr>
                                        <p:cTn id="28" dur="3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оектирование исследовательской рабо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. Постановка проблемн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это реальное противоречие, требующее своего разреш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ание1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формулируйте проблемную ситу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.Определение объект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ная область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фера науки и практики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2:54:30Z</dcterms:created>
  <dc:creator>Alex</dc:creator>
  <dc:description/>
  <dc:language>en-US</dc:language>
  <cp:lastModifiedBy>*</cp:lastModifiedBy>
  <dcterms:modified xsi:type="dcterms:W3CDTF">2010-03-29T07:15:06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