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9FA1-1867-4D43-B70A-B89AE60982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982A-316B-4134-A1E4-8C30D9946A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7B1D-40B2-463B-AA4C-01AAA335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4F92-AF83-49F0-8E1B-1EBA14E3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642A-1347-40FB-AEA0-60065F7D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F951-4E7F-4BEA-8FA1-E80ECB8E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8480-4441-4E17-B9D9-7F40E926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C310-CBF9-454C-95B8-173BCB4D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685D-DF1D-4D96-9227-F3F4A8DD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0CA7-BC6A-47ED-ABF9-E9C3FAA6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7D54-337A-4E30-BADF-8018B845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9CBF-9072-4B84-96C8-BA662C39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45B3-5CD5-46D1-B76B-8D12DB43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0BDF-999E-4E82-9FE7-BE88A843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BD13-6FD7-49D8-A5E8-B560337E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ED32-6280-4023-BD75-DD5A543F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7B5D-77D5-43B3-AFEF-FE61E5C9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D5A1-6AD5-4C09-9CDF-CDD686D9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4246-76CE-46CA-8245-67A3E1A4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D2DE6-015B-407A-BFDD-5874C6BE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784B0-169B-47F2-8532-2C4D62EF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52D7C-5CCE-4091-AF15-070FC3CF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73FEE-3A0B-4E69-9956-7AF91528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BDAEE-D98D-4B4A-BEA1-E786EA34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5800-D763-404E-86AD-3E462FF8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7CAF0-2D96-487D-B0E4-A53CBCDF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83E77-5DE8-4250-B134-4FA2B508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23BC4-67DE-4EB5-9253-A881D42D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95FB6-5A55-4066-AA91-A8B2A335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CF151-1F6B-4849-ADAF-7B4F786F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1EB60-7272-4727-B7FC-42A173C6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613BD-CDC5-411E-8448-D45EB54E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5B6BB-0D43-45A0-95C0-EB8BB078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77871-A645-4547-863B-A6E633EC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2E797-FDA8-4AE6-B095-E8E7EE63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B3C2-76B8-4C6C-8B90-B2B51082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0DD61-FA35-46C8-8FDE-6702DA51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E676D-17D3-4CE6-8F83-FFCE7FDE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9E823-1536-48E4-9582-EC708FAF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D8329-388F-45AD-8811-97ED1360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84357-A9CA-4D5F-B41D-C9EC9282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ACE6E-646C-4705-AC39-14A75312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81DC2-F8AC-44C9-995C-1EA7F4CA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FA547-9622-416D-B954-4A983047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1D252-A994-450C-B7F8-2ACFB8EF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1E4F9-92C1-42DF-BD8E-2FFDEA09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EB7F-4DE8-4282-8390-E461BD78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A323C-4F26-44D8-B84E-95A642B5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2C04E-9567-4306-8B1F-BAD79684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4B774-06E2-4E63-97EE-12C80CEC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7C191-AE76-4AFA-A2A7-C7275BEE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14F92-718D-4DEB-AA79-4DA0CE54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8812E-57DB-43F3-B3CD-373590B8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3D683-B020-44D1-8F35-8C211EF0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7BAAE-2C07-43EB-9CF1-1B021799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51C7A-62CE-4701-A89C-6C9DEFCC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6ECD1-6D05-4329-900F-66E64C8C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1E06-9361-40F6-8A9C-14D9CCE9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84219-F66B-47B6-891C-F0CB38436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D4E40-76EE-4404-80A6-DBDDB00A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8D8E9-45B4-482B-B8F7-B14D8D50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78CDA-2CAC-496B-BD89-D00E298E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55B9C-E40B-48AD-8779-0B178064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BDF22-B4DC-48B7-9850-6392C7DE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60D04-0830-4C8E-A747-5B6C1C5F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43BAC-D80C-4099-9CFF-470AE5D1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18711-D2FC-4F3D-9598-DF7BB918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B85A3-256F-4166-8275-5581F9FF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2EB5-FC17-4CE5-9877-DC681396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5D8D0-7888-4979-9B48-2994867D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AC5AC-653A-4405-B395-9FAF62AC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0CF43-8E03-4504-A628-B1119690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64C2A-F5C9-448B-A138-BB01D697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7A31C-1718-42A5-B1EE-17495019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BA2E6-DE26-4F7D-9E97-BE382DE6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1F761-A758-4D81-A1B2-E48CCF04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97658-C605-4158-A939-13DEE80A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C8AEE-6B09-4FE4-BFFB-18D4E87F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8DA64-8769-48C6-93AC-69456473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98B4-2F83-4A3E-A3BF-C2D03532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DC4CD-635A-4706-8EB9-B3D13E29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07779-3D5C-4076-B775-F4DE109F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D0859-F895-4DC0-97D8-D51E02D6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92CAB-EBA9-412B-8A88-664DB1CC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DB3E2-BD96-47A5-8F21-A9719E2E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6177D-DFBC-4EAC-8959-CE5E9066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C59E8-44F4-4A9A-81B0-9F225D21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D10C4-FFCD-4764-8731-F7476F1A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9FB54-19D7-4E76-880D-AFDBAFBD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D5A75-BB7E-44F9-8317-E64410E5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9F8E-4853-414F-AF30-A8589716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0CF10-934C-46C2-B3B4-06795D94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4DE4B-107D-41FD-9A1B-20025E75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64BDE-551F-4A07-9E3B-718C03F7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5429A-305B-40E9-B955-A3BE7280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916A6-3F59-466A-B1F9-D035E345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84188-39E5-4865-B8D3-172EF8B3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A55A4-4D61-45D1-BD2A-5641F0FA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B35B-4EF5-4C92-A6E4-2BADFC0506E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DF1D-E44F-456D-B5AC-BA565865E28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8B6D-0E09-4BB6-A685-5B60616ECE9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6485-95D3-4C1C-BE90-BB9BE5FCD18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C911-9153-46D3-8481-F231BA12E6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E2D8-0937-4AE3-9C43-19B719A4E15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25ED-D30B-4082-8209-1296FBC0D6E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AB8D-9AAB-49B1-8AE5-02E8BF2484D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-60480" y="255600"/>
            <a:ext cx="9320400" cy="1811160"/>
          </a:xfrm>
          <a:prstGeom prst="rect">
            <a:avLst/>
          </a:prstGeom>
          <a:ln w="0">
            <a:noFill/>
          </a:ln>
        </p:spPr>
      </p:pic>
      <p:sp>
        <p:nvSpPr>
          <p:cNvPr id="378" name="TextBox 11"/>
          <p:cNvSpPr/>
          <p:nvPr/>
        </p:nvSpPr>
        <p:spPr>
          <a:xfrm>
            <a:off x="6035760" y="2852640"/>
            <a:ext cx="28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№ 1 г.Ворсм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нова Н.Б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TextBox 12"/>
          <p:cNvSpPr/>
          <p:nvPr/>
        </p:nvSpPr>
        <p:spPr>
          <a:xfrm>
            <a:off x="4211640" y="60339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 год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68000" y="2421000"/>
            <a:ext cx="821844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Monotype Corsiva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сентября 2013 г. утратил силу Закон РФ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0.07.1992 г. № 3266 – 1 «Об образовании»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Adobe Arabic"/>
              </a:rPr>
              <a:t>Федеральный закон от 29.12.2012 № 273-Ф3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Adobe Arabic"/>
              </a:rPr>
              <a:t>«Об образовании в Российской Федерации»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Adobe Arabic"/>
              </a:rPr>
              <a:t>(далее Закон № 273-Ф3)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610920" y="1424160"/>
            <a:ext cx="828180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а занятие педагогической деятельностью имеют лица со средним профессиональным образованием или высшим образованием, отвечающим квалификационным требованиям, указанным в квалификационных справочниках и (или) профессиональным стандартам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1 ст. 46 Закона № 273-Ф3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442360" cy="11588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C:\Users\user\Desktop\4012312_thumb.jpg"/>
          <p:cNvPicPr/>
          <p:nvPr/>
        </p:nvPicPr>
        <p:blipFill>
          <a:blip r:embed="rId2"/>
          <a:stretch/>
        </p:blipFill>
        <p:spPr>
          <a:xfrm>
            <a:off x="4027320" y="3909960"/>
            <a:ext cx="443412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 правовой статус, права и свободы педагогических работников, гарантии их реализации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. 47 Закона № 273 -Ф3)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работник имеет право на участие в управлении образовательной организацией, в том числе в коллегиальных органах управления, в порядке, установленном уставом организации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.9 ч.3.ст.47 Закона № 273-Ф3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образовательной организацией осуществляется на основе сочетания принципов единоначалия и коллегиальности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. 26 Закона № 273-Ф3)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23640" y="1052280"/>
            <a:ext cx="77770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ые права и социальные гарантии педагогических работников, в частности, право на сокращенную продолжительность рабочего времени устанавливает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5 ст.47 Закона № 273-Ф3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ам – психологам устанавливается норма часов педагогической работы за ставку заработной платы – 36 часов в неделю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.1 Приложения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 рабочего времени педагогических работников включает преподавательскую (учебную) работу, воспитательную, а так же педагогическую работ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Допускается уточнение  перечня работ, которые выполняются на соответствующей должности в конкретных организационно-педагогических условиях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1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748044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2000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214200" y="148104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ные обязанности педагога – психолога определяются должностной инструкцией, разработанной на основе «Квалификационных характеристик должностей работников образования» и утверждается руководителем образовательной организаци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Приказ Минздравсоцразвития России от 26.08.2010 № 761н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учебной нагрузки педагогического работника устанавливается исходя из количества часов по учебному плану и учебным программам, обеспеченности кадрами и др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реподавательскую работу производится дополнительная оплата соответственно получаемой ставке заработной платы в одинарном размере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23640" y="1052280"/>
            <a:ext cx="83516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е работники имеют право на отпуск сроком до одного года не реже чем каждые 10 лет непрерывной педагогической работы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.4.ч.5.ст.47 Закона № 273-Ф3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ом Минобразования России от 07.12.2000 г. №3570 утверждено Положение о порядке и условиях предоставления педагогическим работникам образовательных учреждений длительного отпуска до одного года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алее - Положение)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 1 сентября 2013  нормы Положения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аспространяются на все образовательные организации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1" descr=""/>
          <p:cNvPicPr/>
          <p:nvPr/>
        </p:nvPicPr>
        <p:blipFill>
          <a:blip r:embed="rId1"/>
          <a:stretch/>
        </p:blipFill>
        <p:spPr>
          <a:xfrm>
            <a:off x="244440" y="268200"/>
            <a:ext cx="8655120" cy="7192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C:\Users\user\Desktop\D4EEF2EEE3F0E0F4E8FF20D1E5E9F8E5EB2E20CEF1F2F0EEE220CBE0C4E8E32E20D0E0E9.jpg"/>
          <p:cNvPicPr/>
          <p:nvPr/>
        </p:nvPicPr>
        <p:blipFill>
          <a:blip r:embed="rId2"/>
          <a:stretch/>
        </p:blipFill>
        <p:spPr>
          <a:xfrm>
            <a:off x="2627280" y="3284640"/>
            <a:ext cx="36212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3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3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ж непрерывной преподавательской работы засчитываетс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работы в государственных, муниципальных образовательных учреждениях и негосударственных образовательных учреждениях, имеющих государственную аккредитацию, в должностях и на условиях, предусмотренных в приложении к Положению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педагогом-психологом в каждом учебном году на должностях учителя, педагога дополнительного образования преподавательской работы (как с занятием, так и без занятия штатной должности) в общеобразовательных и других образовательных учреждениях в объем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енее 6 часов в недел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8000" y="907560"/>
            <a:ext cx="7467480" cy="48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.10 Положения)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едагогическим работником, находящемся в длительном отпуске, в установленном порядке сохраняется место работы (должность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.11 Положения)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длительного отпуска не допускается перевод педагогического работника на другую работу, а также увольнения его по инициативе администрации, за исключением случаев, когда это происходит по причине полной ликвидации образовательного учреждения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.12 Положения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ому работнику, заболевшему в период пребывания в длительном отпуске, данный отпуск подлежит продлению на число дней нетрудоспособности, удостоверенных больничным листом, или по согласованию с администрацией образовательного учреждения переносится на другой срок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4T14:09:13Z</dcterms:created>
  <dc:creator>user</dc:creator>
  <dc:description/>
  <dc:language>en-US</dc:language>
  <cp:lastModifiedBy>Колемасов</cp:lastModifiedBy>
  <dcterms:modified xsi:type="dcterms:W3CDTF">2003-12-31T23:21:53Z</dcterms:modified>
  <cp:revision>14</cp:revision>
  <dc:subject/>
  <dc:title>ПРАВА И ОБЯЗАННОСТИ ПЕДАГОГА-ПСИХОЛОГА  ПО НОВОМУ ЗАКОНУ ОБ ОБРАЗОВАНИИ</dc:title>
</cp:coreProperties>
</file>