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12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5E8-21DF-4881-A02F-9C015956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AB4-2D70-472A-B431-4DBE893E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C472F-E7DA-4612-8874-4453C00B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845D9-66D2-4058-8FC6-D9E1E9B8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B873B-DE3D-4474-B607-1D406074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5DAED-AFA4-4423-851D-7261E6F2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2E823-0C17-4AE6-9261-70649806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774AD-21F0-495A-87A8-5CAC5393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3137D-8AF2-40BE-AEB7-1F57F574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F142C-DFE4-4158-9194-E2FE353D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8853B-61B6-4699-B402-D20B08F3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2BF-6BE8-47D6-86D0-039E6F11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4F7-593E-4143-971B-9E89742C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3517-3E72-4A61-A1FA-47D52D7E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3320-7ED5-415E-922F-A667E215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E1FA-40FC-42E8-8798-35023AA7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2572-C694-4490-BAB3-5E28DA2E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CAC7-481A-4DF1-8AC3-6549B66E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310C-4A23-4968-B0FE-7CAABCDB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D0D1-3AC1-499B-BC68-61DB934E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2F2-0735-4201-BA0E-5A80398A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6640-49EB-4BB8-8B36-E6BD1674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9C93-8CE0-4CE6-87B7-F87A5354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14C8-ED9B-4342-BE7E-642DB75D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1764-BF22-4848-9206-797CE5AD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C127-519E-4D29-A034-BB95C53C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4C98-014B-45C8-AEFE-8EAA18FA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B7B77-D09A-4F68-89D6-785391B0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3E31-B144-4BE1-8F34-5AC6A39B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85918-F6F8-4E88-8EBD-D3DE91B6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6EB36-0D3D-4134-9A96-CEC8C589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0CF-344E-49AF-B9D6-BDB258F8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E1900-5768-4C1B-AB68-17D92D11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B619-405A-4445-949D-8B1B6E7F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C50F7-49D7-4951-8B0C-51A2EA5C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EA7B-DA86-4758-BF99-53D916EA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D2116-94FB-40D4-A382-6EE2B8EB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29996-B109-483F-BA77-26862D19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4BD4-6365-4894-9E8C-72DC0F8D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B694F-D0E3-4BB8-A962-A90B75A5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EA2D-9AFC-4FDF-8521-E7B87411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4CD68-6F86-49FF-8FDF-FD5B411C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97E-B238-4A36-A5E7-EA4E3E44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C358C-01C7-4CB9-B0BD-4102EBD3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EDAEB-0163-4D3C-8922-5E9184A0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94DFD-B6EE-45EF-A5EA-A859C503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53884-A87C-4374-A008-C10F7575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42898-C97B-4424-AEAB-0CC64BC2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383FB-9E72-40AC-9059-BE03378C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140A7-946A-46AB-9ED9-9C1E2D69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89C70-BE85-4B01-9BA5-9B2E93AE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DE526-CC40-4CD4-A0FE-128552C2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BF666-8866-4981-89DD-258A7629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F07-E38D-4752-A9D6-7BBDCDEB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379B6-80A5-4E9E-B1A7-9AB7FFD9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830C0-91FE-477E-943D-B1B8393D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97DB5-B5A8-4716-99C0-BEC64E5B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27A2A-2745-44E0-BA5C-CF781AF4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9EF05-83DE-4469-A6C2-D7CC3706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0015F-48AF-4756-970E-BF90ECA5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D9D33-0BD5-4005-90B3-03CA3931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21E88-B592-4E1A-9CC7-353E1845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73D07-AA37-4B76-9FAF-0E4090CE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D5F33-8E19-461D-A35C-C0EFF596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56A-AC83-4A2B-8838-EE65044F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341CA-C682-422D-947C-3D6F9E4E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BF03D-4D29-45D4-844F-BDE6E96D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F16B8-708F-44C4-8F40-E25EB836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A3E79-BC6D-44B8-B674-46CEF414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EEDB8-C795-4276-9FDA-FAD547F8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A4050-8748-46D1-A376-FEBC6D8A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4F03D-DA0A-467E-961A-F8428690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8853C-4780-474C-8589-366B487D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76A00-B300-4FE8-A1AE-2961E61E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BE64A-78AE-45E1-AA5B-63542782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918-5C0A-4423-A5CC-73238A13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00A52-16CB-434D-B99F-696BB7D7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0DE6F-37AB-423E-AC50-9941B134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5A936-50C6-43D2-9A60-B252F999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A2680-9DCE-49C6-B490-DAED1462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65B07-9E97-4E98-B04D-8AF3CB87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1A133-6C0C-437A-B78E-18616CC4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ECE15-738B-4608-B1E6-BD71405B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7AE20-7B34-41F6-8FDB-06C697F8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6ACF3-55D0-4614-8FBC-7FAD836F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204F2-8732-4868-8900-A26ABC89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544-75AF-490B-9875-D77AC8CF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3B32E-0D21-433B-9050-11BD79C0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9EDEB-A94D-49A0-AD15-735010DE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FEE69-ADC1-4A37-ADB0-C2753AAF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4946E-F8D1-4F80-8034-9E05EA45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37463-E1DC-4F85-B0A4-67D32F0F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DBB53-4539-4DB4-908D-53322034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1CE07-7F34-43A1-8555-7AFC1929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C6EE2-DE9E-4BF0-AD4F-97920AFA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D19AC-D6A1-4CE6-80F0-008B1FEB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6B015-8D5F-4D3C-B09F-ED62E7E7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DBDA-5DE2-42EE-A864-BF2B6679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F2FCF-A4B9-425F-8508-71C850D7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48972-8A47-4FAD-9AA2-37E5A31C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5E534-EB60-4710-BC03-7B288A49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6AAE2-5404-429B-B6B9-DB0B0E48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EC64C-A5D7-4992-838A-A587A7DB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C3181-24DA-4C95-B337-6300BB7D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11A7C-87B2-4B1D-8896-DE8C16E1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579C7-E8DA-4CAD-B826-D87CA4C7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11AC1-2204-4E01-A2C5-1A99CC71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D3319-155E-4A3D-8FD2-728E5609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701C-2136-45F5-841C-F9812703AF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66D1-68B1-49FD-A53E-6693BC21198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B457-90D7-4D6C-9071-93CDBD5DD60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5CBD-E374-4E0F-B342-5F43412134A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4209-8F63-458C-BC7B-EEB6D95C9A4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2F79-DDE5-4FB1-A1C0-00FBDFBECBD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0282-84FA-4FC3-BFA1-C3127ED6F60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33CB-D9E4-41FC-AC99-303C43E6354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C12C-6272-4611-B476-611DAF1FC2F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54040" y="1463760"/>
            <a:ext cx="798048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1"/>
          <p:cNvSpPr/>
          <p:nvPr/>
        </p:nvSpPr>
        <p:spPr>
          <a:xfrm>
            <a:off x="826920" y="549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исовать (чистить зубы, причёсываться, доставать предметы и др.) другой ру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Если ребенок правша, то стоит предложить ему в качестве эксперимента порисовать левой рукой (для  левшей, наоборот, право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755640" y="51681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4848"/>
                </a:solidFill>
                <a:latin typeface="Franklin Gothic Book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484848"/>
                </a:solidFill>
                <a:latin typeface="Franklin Gothic Book"/>
                <a:ea typeface="Times New Roman"/>
              </a:rPr>
              <a:t>"Колечко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4848"/>
                </a:solidFill>
                <a:latin typeface="Franklin Gothic Book"/>
                <a:ea typeface="Times New Roman"/>
              </a:rPr>
              <a:t>Поочередно и очень быстро перебираем пальцы рук, соединяя в кольцо с большим пальцем указательный, средний, безымянный, мизинец. Сначала можно каждой рукой отдельно, потом одновременно двумя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C:\Users\Администратор\Desktop\картинки\картины с детьми\0_a37e0_cfd0591_orig.jpg"/>
          <p:cNvPicPr/>
          <p:nvPr/>
        </p:nvPicPr>
        <p:blipFill>
          <a:blip r:embed="rId1"/>
          <a:stretch/>
        </p:blipFill>
        <p:spPr>
          <a:xfrm>
            <a:off x="684360" y="2060640"/>
            <a:ext cx="3878280" cy="283536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5076720" y="2708280"/>
            <a:ext cx="37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дновременные движения двумя руками (игра на музыкальных инструментах) стимулирует работу обоих полуша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1258920" y="4428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Гармоничное взаимодействие полуш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1332000" y="495000"/>
            <a:ext cx="62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азделение полушарий головного мозга приводит к снижению творческих способностей.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Таким образом, для развития творческих способностей важно не только тренировать свой мозг и правую его половину. Скорее для творчества важно наладить совместную работу двух полушарий. Люди, у которых развиты оба полушария, меньше устают и имеют более высокую работоспособность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C:\Program Files (x86)\Microsoft Office\MEDIA\CAGCAT10\j0300840.wmf"/>
          <p:cNvPicPr/>
          <p:nvPr/>
        </p:nvPicPr>
        <p:blipFill>
          <a:blip r:embed="rId1"/>
          <a:stretch/>
        </p:blipFill>
        <p:spPr>
          <a:xfrm>
            <a:off x="2700360" y="3429000"/>
            <a:ext cx="33843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3"/>
          <p:cNvSpPr/>
          <p:nvPr/>
        </p:nvSpPr>
        <p:spPr>
          <a:xfrm>
            <a:off x="826920" y="32400"/>
            <a:ext cx="7417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Как устроен 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Известно,  человеческий мозг состоит из двух полушарий – правого и левого. Левое полушарие – аналитическое, оно отвечает за нашу речь, способность к чтению и письму, с помощью него мы запоминаем даты и числа, математические символы. Правое полушарие  обрабатывает информацию как бы целиком, в образах, оно позволяет нам мечтать, фантазировать, сочинять истории, оно мыслит творчески и позволяет решать проблему целиком, интуитивно, не раскладывая на эта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Рисунок 1" descr="функции правого и левого полушария мозга"/>
          <p:cNvPicPr/>
          <p:nvPr/>
        </p:nvPicPr>
        <p:blipFill>
          <a:blip r:embed="rId1"/>
          <a:stretch/>
        </p:blipFill>
        <p:spPr>
          <a:xfrm>
            <a:off x="1979640" y="2565360"/>
            <a:ext cx="493236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530280" y="122400"/>
            <a:ext cx="8315280" cy="2303280"/>
          </a:xfrm>
          <a:prstGeom prst="rect">
            <a:avLst/>
          </a:prstGeom>
          <a:ln w="0">
            <a:noFill/>
          </a:ln>
        </p:spPr>
      </p:pic>
      <p:pic>
        <p:nvPicPr>
          <p:cNvPr id="403" name="Работа+мозга+%28мега+улыбает%29.mp4" descr=""/>
          <p:cNvPicPr/>
          <p:nvPr/>
        </p:nvPicPr>
        <p:blipFill>
          <a:blip r:embed="rId2"/>
          <a:stretch/>
        </p:blipFill>
        <p:spPr>
          <a:xfrm>
            <a:off x="2092320" y="2133720"/>
            <a:ext cx="4800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1"/>
          <p:cNvSpPr/>
          <p:nvPr/>
        </p:nvSpPr>
        <p:spPr>
          <a:xfrm>
            <a:off x="755640" y="907920"/>
            <a:ext cx="770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Итак, на картинке вы видите силуэт вращающейся фиг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1-й этап. Психологическая настрой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сихологическая настройка вашего мозга длится примерно 2 м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2-й этап. Собственно тест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Если фигура устойчиво вращается только по часовой стрелке — значит, у вас доминирует левое полушарие, преобладает левополушарная деятельность мозга. А это логика, счёт, умение говорить и излагать мыс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Вращение только против часовой стрелки — значит у вас доминирует правое полушарие, и преобладает преимущественно правополушарная деятельность — эйдетика, интуиция, образное мышление, музыкальность, чувство ориентировки в пространстве и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Если же фигура попеременно вращается то в одну, то в другую сторону — это признак амбидекстрии, то есть работы и правого, и левого полушария мозга поперемен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У некоторых такое переключение вращения силуэта происходит при наклоне головы вправо, затем влево, и наоборо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У других - смена направления вращений отмечается при концентрации взгляда на лице, затем его расфокусировка, и наоборо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Или, вариант, перевод взгляда примерно на 15 град. влево-вниз - вращается влево. Перевод взгляда на 15 град. вправо-вниз - вращается вправ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Иногда - полезно рукой прикрыть нижнюю часть туловища вращающейся девушки - лучше получ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Таким образом, нами предлагается игровой тест на право-левополушарность, удобный при работе с деть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684360" y="-39600"/>
            <a:ext cx="77752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Как устроен детский моз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Как мы уже говорили, дети изначально </a:t>
            </a:r>
            <a:r>
              <a:rPr b="0" lang="ru-RU" sz="1600" spc="-1" strike="noStrike" u="sng">
                <a:solidFill>
                  <a:srgbClr val="333333"/>
                </a:solidFill>
                <a:uFillTx/>
                <a:latin typeface="Franklin Gothic Book"/>
                <a:ea typeface="Times New Roman"/>
              </a:rPr>
              <a:t>правополушарны.</a:t>
            </a:r>
            <a:r>
              <a:rPr b="0" lang="ru-RU" sz="16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 Примерно до 2-х лет у ребенка доминирует правое полушарие, поэтому дети такие любознательные  - им хочется все исследовать, потрогать, попробовать. Затем в работу включается левое полушарие – сначала развивается речь, затем умение писать, читать, считать. В это время очень важно соблюсти баланс в развитии ребенка:  обучая раннему чтению, письму, счету (развитие левого полушария), не следует забывать про развитие творческих способностей (правое полушарие). В противном случае левое полушарие становится доминирующим и просто блокирует работу правого, таким образом, человек уже не может полностью раскрыться и реализовать все возможности, которые были изначально заложены природ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539640" y="299880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84848"/>
                </a:solidFill>
                <a:latin typeface="Franklin Gothic Book"/>
                <a:ea typeface="Times New Roman"/>
              </a:rPr>
              <a:t>Значит необходимо заниматься не только развитием интеллекта ребенка, но и его эмоциональным и физическим развит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C:\Users\Администратор\Desktop\картинки\картины с детьми\animali-domestici-coi-bambini.jpg"/>
          <p:cNvPicPr/>
          <p:nvPr/>
        </p:nvPicPr>
        <p:blipFill>
          <a:blip r:embed="rId1"/>
          <a:stretch/>
        </p:blipFill>
        <p:spPr>
          <a:xfrm>
            <a:off x="2195640" y="3716280"/>
            <a:ext cx="424476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539640" y="54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Вот несколько упражнений, выполнение которых стимулирует работу правого полуша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539640" y="938880"/>
            <a:ext cx="813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Рисование воображаемых предме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Прежде, чем что-то нарисовать, предложите ребенку пофантазировать. Желательно представить что-то такое, чего он не видел в действительности: сказочное животное или фантастический цветок; свою будущую профессию или даже свое имя. Обсудите с ним цвет, запах, вкус предмета, какой он на ощупь, какие звуки издает. Только после того, как воображение ребенка «разыграется», предложить ему нарисовать воображаемую вещ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http://www.segodnya.ua/img/ui/_a9784152ab753856a0b8f1935b4435e6.jpg"/>
          <p:cNvPicPr/>
          <p:nvPr/>
        </p:nvPicPr>
        <p:blipFill>
          <a:blip r:embed="rId1"/>
          <a:stretch/>
        </p:blipFill>
        <p:spPr>
          <a:xfrm>
            <a:off x="2268360" y="2781360"/>
            <a:ext cx="46198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302680" cy="115272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119" descr="http://testoteka.narod.ru/int/articles/01.bmp"/>
          <p:cNvPicPr/>
          <p:nvPr/>
        </p:nvPicPr>
        <p:blipFill>
          <a:blip r:embed="rId2"/>
          <a:stretch/>
        </p:blipFill>
        <p:spPr>
          <a:xfrm>
            <a:off x="611280" y="1052640"/>
            <a:ext cx="8208720" cy="37447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120" descr="http://testoteka.narod.ru/0.png"/>
          <p:cNvPicPr/>
          <p:nvPr/>
        </p:nvPicPr>
        <p:blipFill>
          <a:blip r:embed="rId3"/>
          <a:stretch/>
        </p:blipFill>
        <p:spPr>
          <a:xfrm>
            <a:off x="0" y="0"/>
            <a:ext cx="285840" cy="9540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3"/>
          <p:cNvSpPr/>
          <p:nvPr/>
        </p:nvSpPr>
        <p:spPr>
          <a:xfrm flipV="1" rot="10800000">
            <a:off x="899640" y="554544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Вот так можно привести в гармонию работу полушарий моз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7"/>
          <p:cNvSpPr/>
          <p:nvPr/>
        </p:nvSpPr>
        <p:spPr>
          <a:xfrm>
            <a:off x="900000" y="522936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авое 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лушарие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мозга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 - распознает цвета, левое - чит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250920" y="291960"/>
            <a:ext cx="8532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Зеркальное рис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Берется чистый лист бумаги и два карандаша – по одному в каждую руку. Предложите ребенку рисовать одновременно двумя руками зеркально-симметричные рисунки (или буквы, если ребенок уже с ними знаком). При выполнении этого упражнения задействованы оба полушария, что улучшает эффективность работ всего моз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Пример зеркально-симметричных рису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Рисунок 5" descr="http://i.u-mama.ru/files/i/img/news2/000000001_6633.jpg"/>
          <p:cNvPicPr/>
          <p:nvPr/>
        </p:nvPicPr>
        <p:blipFill>
          <a:blip r:embed="rId1"/>
          <a:stretch/>
        </p:blipFill>
        <p:spPr>
          <a:xfrm>
            <a:off x="900000" y="2637000"/>
            <a:ext cx="7378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5372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Рисование на цветной бума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Предлагайте ребенку несколько разноцветных листов, малыш сам должен выбрать, на каком фоне он хочет порисовать. Сам процесс выбора цветного листа уже будоражит воображение, активирует работу с образами и ассоциациями, т.е. «включает» правое полушар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Белый зверек на черном фоне. Черный цвет для детей не мрачный, а интересный, так как выбирают дети по контрас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Franklin Gothic Boo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6" descr="http://i.u-mama.ru/files/i/img/news2/000000001_6634.jpg"/>
          <p:cNvPicPr/>
          <p:nvPr/>
        </p:nvPicPr>
        <p:blipFill>
          <a:blip r:embed="rId1"/>
          <a:stretch/>
        </p:blipFill>
        <p:spPr>
          <a:xfrm>
            <a:off x="2987640" y="3068640"/>
            <a:ext cx="3219480" cy="33717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>
            <a:off x="4464720" y="3706200"/>
            <a:ext cx="21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33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0:07:02Z</dcterms:created>
  <dc:creator>XTreme.ws</dc:creator>
  <dc:description/>
  <dc:language>en-US</dc:language>
  <cp:lastModifiedBy>XTreme.ws</cp:lastModifiedBy>
  <dcterms:modified xsi:type="dcterms:W3CDTF">2015-03-01T21:49:21Z</dcterms:modified>
  <cp:revision>58</cp:revision>
  <dc:subject/>
  <dc:title>Правое и левое полушария и их функции в творчестве</dc:title>
</cp:coreProperties>
</file>