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42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5.jpeg" ContentType="image/jpeg"/>
  <Override PartName="/ppt/media/image50.png" ContentType="image/pn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51.png" ContentType="image/pn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9.jpeg" ContentType="image/jpeg"/>
  <Override PartName="/ppt/media/image5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BCE-3D59-4C3C-A5D8-2307FE86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652-1AC3-4BA3-8C1D-2D1C7824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430531-AD4D-41DC-8C63-357A2DA9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11CD5C-8477-4F42-B4B2-BDA18D34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49C6A0-0CBE-4C8E-AE34-C1D5A4C0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524832-D907-4D8A-8BEB-AFB62B5F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07A61D-C8EA-46C3-A9E2-03467135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BF5B87-8DD8-482F-850A-4AD4CCBC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099772-831A-4E5B-8324-CA9CEEDF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0D9943-1A21-4FE6-ABDF-3D542D01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7F0687-7AE8-47C9-B66C-8C040D5F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F9C-7935-4E46-A155-655316EB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DCF7-0171-49BD-8BDF-AC809741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7E6BA-6491-4C54-BCB7-5EAFCB01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38ACF-E447-47A0-AF3D-97EA7ED7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44EB5-9DDB-47E4-8239-8BE6887E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8C718-6770-4134-A9D8-07ADD2C5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F9C91-D6C7-4C13-A142-5ED83A01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E4EFF-C422-4357-9507-D715309F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6DB61-7E74-4CD0-9012-CEE98A3A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470-C68B-4E75-BB1C-6648C8DB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818B9-5472-4DF3-BD12-DD8F435C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B19B8-26D1-4823-9501-4D099789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C1248-7FE4-4E85-BAE4-D4E5F803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47EDB-8BD8-4A9D-A80B-83FF3EA1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1D90C-FE31-4BDF-8D3C-B579EBB4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C2A01-DF0E-4CEB-B837-ACB310A5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420B7-37B1-4A5C-AD82-FF52B531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F9C3E-E1A4-4A6F-B2A6-48116F8A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2CD98-8FD5-41C9-8B12-33C5EC0F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18119-FE16-4441-B66C-D0287349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90C-43C9-4CB2-A4D5-A713C63C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A4C41-2CE8-4756-AF80-5B371DA6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44BDE-A20A-41DA-A0ED-C9DE4246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E016E-2DE3-4811-8BA5-00D5A193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BAC1D-228C-4F73-AA4D-71FC79FD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11DFD-4791-4C66-B27C-059796EE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BEA20-866C-4A02-BA14-29B5324B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70044-5C9E-4ADE-B68F-97E33DB4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00DFDE-BD40-4381-BE00-5B1ABB99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DFD3AB-D09B-4C00-91DD-FE2B4BDC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4FDD9E-BD5E-4D6D-8739-36473313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4686-D110-4CCE-B6DD-3C459051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BAE8F-CC47-4CC3-BD91-3E0886A1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473560-D516-46A8-A053-8ED2720D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FFEBA9-8DA4-4795-8E74-1154FAA9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F4BDC3-D4BE-4690-BB77-28C48DB5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F94463-87CC-40C1-9667-800C5307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4AE10-0878-40AC-B0C1-F1632446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0AADB-6E49-4FC3-8C3F-72C4D757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3F1F4-1693-45DC-B8BB-A78604CC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82A5F-1D5A-4D14-8BF5-3C2D0F7B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CB915-0453-4E62-A873-456BC1DE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6245-6BC3-4BBF-AFCA-83C7B344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12A21-7059-4467-A4AB-F0617300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1E23F-B4F7-4849-8D47-9332F439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05C21-DECB-4D73-B9E9-B9C49FE9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0877E-5CB8-49C7-BC7D-98360C08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F9AE4-475B-4D9E-9AE7-0B5B7E8B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6370A-D85A-4813-AFFE-3BFC7F96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7CDB2-D552-4321-8A85-724FCFEB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94F08-22E1-4C95-8D1E-52BE13CC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218FE-6A35-40E2-9159-DCAD7D0C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6BC79-A6A4-4EDA-BF06-C29C3587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1C2-0A0C-43B0-B0AD-CC339CE5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3B1DB-5C3B-4ADF-98D9-7BFADEC0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85D9A-A228-4B1A-ACEE-F7C76368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5556D-374D-4961-B428-795BB446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B4D3C-3ED5-49D4-BCA3-803860C8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3EDC6-172A-45AF-898D-168E32BF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26750-DA9F-4190-B872-1BD87B68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1E39D-0F3D-4F68-B42A-907C3B3F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67615-C629-468C-974A-A1556162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D1FED-7B92-4FE6-A4F7-963CB0BC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00087-E0F4-4B7C-A74E-0CBD6A59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B6F-B528-4C5C-823A-6039C35A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08A64-0FEB-428A-9962-06824973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1ACE4-D827-461E-B987-3855E95B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31D99-2E43-421D-ABCC-6AE2D2AE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9F500-E17A-4EF5-80DB-D9864FA3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1D8CD-4C52-4D35-AB39-D39FC561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BED2A-C904-4A96-8E13-6CD890D3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188D6-BAD3-410F-8EF1-C545CF78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33129-2E1C-4028-B30A-785D7233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12721-22A6-41E3-BC0C-5C86779C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AB48A-D78F-4C4D-8F93-F4E04FB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73A-7D46-460C-84F3-C9511FDB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01703-94F0-4EB7-A2D7-268667A7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1FC7B-3F7F-47AC-BAD4-7F0676D8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5DA1F-2565-4AFF-AAC7-E029D446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DB1E0-89AE-44D5-A643-49F9BF7E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AFF7A-E923-4D5C-8252-8B4FDDB3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BB3CF6-C3B0-408C-83E9-B2C05E52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226E21-CCCE-4C7F-8E99-73B3B266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48E0DF-6D58-45CA-9D51-4468B773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525019-8580-440C-9907-DF301C15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6F82E3-1D49-4383-B857-74C14233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4B3-1B85-4B91-9675-EFDB51E2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938793-CD8F-4F27-B9F1-446F0369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48946A-9AC5-4A48-8D66-46F51729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42F39C-C217-423E-8F8C-CA5E4A2F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DC0411-0614-479D-9B49-4846A80B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36716B-6BDF-406F-9668-2A8AD389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86F42C-C144-40AB-9156-1079964C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D8E491-C828-4C8D-AA5D-BC8C6152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8D7631-AFB9-4714-A66A-2B33CD58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A29484-BC76-4CB6-9829-B6EAD752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B3FADF-C4C5-4D4E-9E81-FA20B7B7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A08A-A961-4174-8BD4-06427ED8CAB4}" type="slidenum">
              <a:rPr b="0" lang="ru-R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F8DC-39E2-400E-BEFF-4DB5EB43F628}" type="slidenum">
              <a:rPr b="0" lang="ru-R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324D-1DD4-421F-8FA6-72F8017C89B3}" type="slidenum">
              <a:rPr b="0" lang="ru-R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13E6-A752-4585-BB44-F319CE734B93}" type="slidenum">
              <a:rPr b="0" lang="ru-R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CE1C-26F0-45DC-AC5D-EC20E480EB08}" type="slidenum">
              <a:rPr b="0" lang="ru-R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7D36-7253-4C6D-BD32-373A9173EFB5}" type="slidenum">
              <a:rPr b="0" lang="ru-R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AC96-849C-49C7-98EC-D0FD7F304EF4}" type="slidenum">
              <a:rPr b="0" lang="ru-R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22CD-8AC7-4160-AC91-4066E2F4859F}" type="slidenum">
              <a:rPr b="0" lang="ru-R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96BA-8456-43C6-BD58-85234D257B53}" type="slidenum">
              <a:rPr b="0" lang="ru-R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2962440" y="281160"/>
            <a:ext cx="6168960" cy="209052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8" descr="виноград.jpg"/>
          <p:cNvPicPr/>
          <p:nvPr/>
        </p:nvPicPr>
        <p:blipFill>
          <a:blip r:embed="rId2"/>
          <a:stretch/>
        </p:blipFill>
        <p:spPr>
          <a:xfrm>
            <a:off x="6429240" y="3214800"/>
            <a:ext cx="2025720" cy="296208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10" descr="церковь2.jpg"/>
          <p:cNvPicPr/>
          <p:nvPr/>
        </p:nvPicPr>
        <p:blipFill>
          <a:blip r:embed="rId3"/>
          <a:stretch/>
        </p:blipFill>
        <p:spPr>
          <a:xfrm>
            <a:off x="214200" y="571680"/>
            <a:ext cx="2659320" cy="190944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1" descr="белка.jpg"/>
          <p:cNvPicPr/>
          <p:nvPr/>
        </p:nvPicPr>
        <p:blipFill>
          <a:blip r:embed="rId4"/>
          <a:stretch/>
        </p:blipFill>
        <p:spPr>
          <a:xfrm>
            <a:off x="3643200" y="3286080"/>
            <a:ext cx="2073240" cy="292896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13" descr="пет.jpg"/>
          <p:cNvPicPr/>
          <p:nvPr/>
        </p:nvPicPr>
        <p:blipFill>
          <a:blip r:embed="rId5"/>
          <a:stretch/>
        </p:blipFill>
        <p:spPr>
          <a:xfrm>
            <a:off x="928800" y="3357720"/>
            <a:ext cx="2095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Рисунок 3" descr=""/>
          <p:cNvPicPr/>
          <p:nvPr/>
        </p:nvPicPr>
        <p:blipFill>
          <a:blip r:embed="rId1"/>
          <a:stretch/>
        </p:blipFill>
        <p:spPr>
          <a:xfrm>
            <a:off x="642960" y="1285920"/>
            <a:ext cx="3060720" cy="302400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19" descr=""/>
          <p:cNvPicPr/>
          <p:nvPr/>
        </p:nvPicPr>
        <p:blipFill>
          <a:blip r:embed="rId2"/>
          <a:stretch/>
        </p:blipFill>
        <p:spPr>
          <a:xfrm>
            <a:off x="5572080" y="1357200"/>
            <a:ext cx="2843280" cy="3095640"/>
          </a:xfrm>
          <a:prstGeom prst="rect">
            <a:avLst/>
          </a:prstGeom>
          <a:ln w="0">
            <a:noFill/>
          </a:ln>
        </p:spPr>
      </p:pic>
      <p:sp>
        <p:nvSpPr>
          <p:cNvPr id="452" name="TextBox 3"/>
          <p:cNvSpPr/>
          <p:nvPr/>
        </p:nvSpPr>
        <p:spPr>
          <a:xfrm>
            <a:off x="1332000" y="69228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акие бывают угл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2052720" y="249228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ямой уг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9"/>
          <p:cNvSpPr/>
          <p:nvPr/>
        </p:nvSpPr>
        <p:spPr>
          <a:xfrm>
            <a:off x="6588720" y="458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рый  уг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Рисунок 6" descr="кошка11.jpg"/>
          <p:cNvPicPr/>
          <p:nvPr/>
        </p:nvPicPr>
        <p:blipFill>
          <a:blip r:embed="rId3"/>
          <a:stretch/>
        </p:blipFill>
        <p:spPr>
          <a:xfrm>
            <a:off x="857160" y="4643280"/>
            <a:ext cx="1506600" cy="17859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7" descr="корабль2.jpg"/>
          <p:cNvPicPr/>
          <p:nvPr/>
        </p:nvPicPr>
        <p:blipFill>
          <a:blip r:embed="rId4"/>
          <a:stretch/>
        </p:blipFill>
        <p:spPr>
          <a:xfrm>
            <a:off x="2571840" y="4714920"/>
            <a:ext cx="1160280" cy="174924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8" descr="васил.jpg"/>
          <p:cNvPicPr/>
          <p:nvPr/>
        </p:nvPicPr>
        <p:blipFill>
          <a:blip r:embed="rId5"/>
          <a:stretch/>
        </p:blipFill>
        <p:spPr>
          <a:xfrm>
            <a:off x="4071960" y="4714920"/>
            <a:ext cx="1076400" cy="164772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9" descr="дом.jpg"/>
          <p:cNvPicPr/>
          <p:nvPr/>
        </p:nvPicPr>
        <p:blipFill>
          <a:blip r:embed="rId6"/>
          <a:stretch/>
        </p:blipFill>
        <p:spPr>
          <a:xfrm>
            <a:off x="5429160" y="4786200"/>
            <a:ext cx="12096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Рисунок 1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7201080" cy="3529080"/>
          </a:xfrm>
          <a:prstGeom prst="rect">
            <a:avLst/>
          </a:prstGeom>
          <a:ln w="0">
            <a:noFill/>
          </a:ln>
        </p:spPr>
      </p:pic>
      <p:sp>
        <p:nvSpPr>
          <p:cNvPr id="460" name="TextBox 3"/>
          <p:cNvSpPr/>
          <p:nvPr/>
        </p:nvSpPr>
        <p:spPr>
          <a:xfrm>
            <a:off x="1413720" y="227664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упой угол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4"/>
          <p:cNvSpPr/>
          <p:nvPr/>
        </p:nvSpPr>
        <p:spPr>
          <a:xfrm>
            <a:off x="5733360" y="4365720"/>
            <a:ext cx="22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носторонний уг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Рисунок 5" descr="рыбы.jpg"/>
          <p:cNvPicPr/>
          <p:nvPr/>
        </p:nvPicPr>
        <p:blipFill>
          <a:blip r:embed="rId2"/>
          <a:stretch/>
        </p:blipFill>
        <p:spPr>
          <a:xfrm>
            <a:off x="857160" y="4286160"/>
            <a:ext cx="31863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396720" y="249120"/>
            <a:ext cx="8595000" cy="11653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245555_html_416b6950"/>
          <p:cNvPicPr/>
          <p:nvPr/>
        </p:nvPicPr>
        <p:blipFill>
          <a:blip r:embed="rId2"/>
          <a:stretch/>
        </p:blipFill>
        <p:spPr>
          <a:xfrm>
            <a:off x="571680" y="1714680"/>
            <a:ext cx="4978080" cy="3274920"/>
          </a:xfrm>
          <a:prstGeom prst="rect">
            <a:avLst/>
          </a:prstGeom>
          <a:ln w="0">
            <a:noFill/>
          </a:ln>
        </p:spPr>
      </p:pic>
      <p:pic>
        <p:nvPicPr>
          <p:cNvPr id="465" name="Рисунок 3" descr="вишня.jpg"/>
          <p:cNvPicPr/>
          <p:nvPr/>
        </p:nvPicPr>
        <p:blipFill>
          <a:blip r:embed="rId3"/>
          <a:stretch/>
        </p:blipFill>
        <p:spPr>
          <a:xfrm>
            <a:off x="5643720" y="4143240"/>
            <a:ext cx="3151080" cy="2292480"/>
          </a:xfrm>
          <a:prstGeom prst="rect">
            <a:avLst/>
          </a:prstGeom>
          <a:ln w="0">
            <a:noFill/>
          </a:ln>
        </p:spPr>
      </p:pic>
      <p:pic>
        <p:nvPicPr>
          <p:cNvPr id="466" name="Рисунок 4" descr="крош.jpg"/>
          <p:cNvPicPr/>
          <p:nvPr/>
        </p:nvPicPr>
        <p:blipFill>
          <a:blip r:embed="rId4"/>
          <a:stretch/>
        </p:blipFill>
        <p:spPr>
          <a:xfrm>
            <a:off x="6286680" y="1643040"/>
            <a:ext cx="19126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" descr="245555_html_m7c60e45b"/>
          <p:cNvPicPr/>
          <p:nvPr/>
        </p:nvPicPr>
        <p:blipFill>
          <a:blip r:embed="rId2"/>
          <a:stretch/>
        </p:blipFill>
        <p:spPr>
          <a:xfrm>
            <a:off x="1071720" y="1428840"/>
            <a:ext cx="7215120" cy="321444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3" descr="снеж1.jpg"/>
          <p:cNvPicPr/>
          <p:nvPr/>
        </p:nvPicPr>
        <p:blipFill>
          <a:blip r:embed="rId3"/>
          <a:stretch/>
        </p:blipFill>
        <p:spPr>
          <a:xfrm>
            <a:off x="3000240" y="4643280"/>
            <a:ext cx="1611360" cy="2057400"/>
          </a:xfrm>
          <a:prstGeom prst="rect">
            <a:avLst/>
          </a:prstGeom>
          <a:ln w="0">
            <a:noFill/>
          </a:ln>
        </p:spPr>
      </p:pic>
      <p:pic>
        <p:nvPicPr>
          <p:cNvPr id="470" name="Рисунок 4" descr="цветы3.jpg"/>
          <p:cNvPicPr/>
          <p:nvPr/>
        </p:nvPicPr>
        <p:blipFill>
          <a:blip r:embed="rId4"/>
          <a:stretch/>
        </p:blipFill>
        <p:spPr>
          <a:xfrm>
            <a:off x="1285920" y="4714920"/>
            <a:ext cx="1500120" cy="1973160"/>
          </a:xfrm>
          <a:prstGeom prst="rect">
            <a:avLst/>
          </a:prstGeom>
          <a:ln w="0">
            <a:noFill/>
          </a:ln>
        </p:spPr>
      </p:pic>
      <p:pic>
        <p:nvPicPr>
          <p:cNvPr id="471" name="Рисунок 5" descr="кошки2.jpg"/>
          <p:cNvPicPr/>
          <p:nvPr/>
        </p:nvPicPr>
        <p:blipFill>
          <a:blip r:embed="rId5"/>
          <a:stretch/>
        </p:blipFill>
        <p:spPr>
          <a:xfrm>
            <a:off x="5072040" y="4714920"/>
            <a:ext cx="2751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245555_html_m2d3f5f83"/>
          <p:cNvPicPr/>
          <p:nvPr/>
        </p:nvPicPr>
        <p:blipFill>
          <a:blip r:embed="rId2"/>
          <a:stretch/>
        </p:blipFill>
        <p:spPr>
          <a:xfrm>
            <a:off x="571680" y="1643040"/>
            <a:ext cx="4686120" cy="268596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3" descr="елка.jpg"/>
          <p:cNvPicPr/>
          <p:nvPr/>
        </p:nvPicPr>
        <p:blipFill>
          <a:blip r:embed="rId3"/>
          <a:stretch/>
        </p:blipFill>
        <p:spPr>
          <a:xfrm>
            <a:off x="5357880" y="2500200"/>
            <a:ext cx="300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"/>
          <p:cNvSpPr/>
          <p:nvPr/>
        </p:nvSpPr>
        <p:spPr>
          <a:xfrm>
            <a:off x="1042920" y="1478880"/>
            <a:ext cx="684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 выполнении работы будьте осторожны </a:t>
            </a:r>
            <a:r>
              <a:rPr b="0" lang="ru-RU" sz="2800" spc="-1" strike="noStrike" u="sng">
                <a:solidFill>
                  <a:srgbClr val="c0504d"/>
                </a:solidFill>
                <a:uFillTx/>
                <a:latin typeface="Times New Roman"/>
                <a:ea typeface="Calibri"/>
              </a:rPr>
              <a:t>с игло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 оставляйте ее на стол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калывайте в игольниц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 берите в 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колку рисунка выполняйте на пеноплас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Times New Roman"/>
                <a:ea typeface="Calibri"/>
              </a:rPr>
              <a:t>Ножниц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не оставляйте на краю стола, будьте с ними осторожны, кладите на стол сомкнутыми лезвиями, кольцами к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Box 2"/>
          <p:cNvSpPr/>
          <p:nvPr/>
        </p:nvSpPr>
        <p:spPr>
          <a:xfrm>
            <a:off x="539640" y="620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и работе обязательно соблюдаем технику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"/>
          <p:cNvSpPr/>
          <p:nvPr/>
        </p:nvSpPr>
        <p:spPr>
          <a:xfrm>
            <a:off x="928800" y="1073160"/>
            <a:ext cx="74293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«Благодаря восприятию прекрасного в природе и искусстве человек открывает прекрасное в самом себе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В.А. Сухомлинск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9"/>
          <p:cNvSpPr/>
          <p:nvPr/>
        </p:nvSpPr>
        <p:spPr>
          <a:xfrm>
            <a:off x="2340000" y="260280"/>
            <a:ext cx="47530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36d5"/>
                </a:solidFill>
                <a:latin typeface="Arial"/>
              </a:rPr>
              <a:t>Изонить –изображение нитью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.е  графический рисунок, выполненный нитями, натянутыми в определённом порядке на твёрдом фо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Рисунок 7" descr="лягуш.jpg"/>
          <p:cNvPicPr/>
          <p:nvPr/>
        </p:nvPicPr>
        <p:blipFill>
          <a:blip r:embed="rId1"/>
          <a:stretch/>
        </p:blipFill>
        <p:spPr>
          <a:xfrm>
            <a:off x="714240" y="3786120"/>
            <a:ext cx="3529080" cy="23576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0" descr="лошадь.jpg"/>
          <p:cNvPicPr/>
          <p:nvPr/>
        </p:nvPicPr>
        <p:blipFill>
          <a:blip r:embed="rId2"/>
          <a:stretch/>
        </p:blipFill>
        <p:spPr>
          <a:xfrm>
            <a:off x="571680" y="500040"/>
            <a:ext cx="2293920" cy="288144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11" descr="птички.jpg"/>
          <p:cNvPicPr/>
          <p:nvPr/>
        </p:nvPicPr>
        <p:blipFill>
          <a:blip r:embed="rId3"/>
          <a:stretch/>
        </p:blipFill>
        <p:spPr>
          <a:xfrm>
            <a:off x="7072200" y="571680"/>
            <a:ext cx="1801800" cy="278604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13" descr="лебедь.jpg"/>
          <p:cNvPicPr/>
          <p:nvPr/>
        </p:nvPicPr>
        <p:blipFill>
          <a:blip r:embed="rId4"/>
          <a:stretch/>
        </p:blipFill>
        <p:spPr>
          <a:xfrm>
            <a:off x="4786200" y="3857760"/>
            <a:ext cx="327348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5"/>
          <p:cNvSpPr/>
          <p:nvPr/>
        </p:nvSpPr>
        <p:spPr>
          <a:xfrm>
            <a:off x="539640" y="-67320"/>
            <a:ext cx="61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 помощью этой технологии можно создавать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еликолепные   открытк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обложки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акладки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декоративные панн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орнаменты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Рисунок 4" descr="пальма.jpg"/>
          <p:cNvPicPr/>
          <p:nvPr/>
        </p:nvPicPr>
        <p:blipFill>
          <a:blip r:embed="rId1"/>
          <a:stretch/>
        </p:blipFill>
        <p:spPr>
          <a:xfrm>
            <a:off x="2786040" y="4214880"/>
            <a:ext cx="1344600" cy="214308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5" descr="цветы.jpg"/>
          <p:cNvPicPr/>
          <p:nvPr/>
        </p:nvPicPr>
        <p:blipFill>
          <a:blip r:embed="rId2"/>
          <a:stretch/>
        </p:blipFill>
        <p:spPr>
          <a:xfrm>
            <a:off x="714240" y="4214880"/>
            <a:ext cx="1567080" cy="21430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6" descr="корабль.jpg"/>
          <p:cNvPicPr/>
          <p:nvPr/>
        </p:nvPicPr>
        <p:blipFill>
          <a:blip r:embed="rId3"/>
          <a:stretch/>
        </p:blipFill>
        <p:spPr>
          <a:xfrm>
            <a:off x="6286680" y="1071720"/>
            <a:ext cx="2197080" cy="292896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7" descr="арбуз.jpg"/>
          <p:cNvPicPr/>
          <p:nvPr/>
        </p:nvPicPr>
        <p:blipFill>
          <a:blip r:embed="rId4"/>
          <a:stretch/>
        </p:blipFill>
        <p:spPr>
          <a:xfrm>
            <a:off x="4643280" y="4214880"/>
            <a:ext cx="1428840" cy="208440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9" descr="ромашки.jpg"/>
          <p:cNvPicPr/>
          <p:nvPr/>
        </p:nvPicPr>
        <p:blipFill>
          <a:blip r:embed="rId5"/>
          <a:stretch/>
        </p:blipFill>
        <p:spPr>
          <a:xfrm>
            <a:off x="6429240" y="4214880"/>
            <a:ext cx="1608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3"/>
          <p:cNvSpPr/>
          <p:nvPr/>
        </p:nvSpPr>
        <p:spPr>
          <a:xfrm>
            <a:off x="2340000" y="2602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стория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изони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3" descr="C:\Documents and Settings\Хозяин\Мои документы\Новая папка\izonit8[1].jpg"/>
          <p:cNvPicPr/>
          <p:nvPr/>
        </p:nvPicPr>
        <p:blipFill>
          <a:blip r:embed="rId1"/>
          <a:stretch/>
        </p:blipFill>
        <p:spPr>
          <a:xfrm>
            <a:off x="285840" y="928800"/>
            <a:ext cx="177624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12" name="Rectangle 8"/>
          <p:cNvSpPr/>
          <p:nvPr/>
        </p:nvSpPr>
        <p:spPr>
          <a:xfrm>
            <a:off x="2481840" y="1381680"/>
            <a:ext cx="45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ый способ переплетения нито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думал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4139640" y="169956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глийские тка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2195640" y="249192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и в определённой последова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________________ и натягивали на н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_________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2"/>
          <p:cNvSpPr/>
          <p:nvPr/>
        </p:nvSpPr>
        <p:spPr>
          <a:xfrm>
            <a:off x="2339640" y="278064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бивали гвозд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2556000" y="30679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2269080" y="335736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зультате получались ажурные кружевные издел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торые использовались для ___________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5653800" y="385992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крашения бы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25" descr="i"/>
          <p:cNvPicPr/>
          <p:nvPr/>
        </p:nvPicPr>
        <p:blipFill>
          <a:blip r:embed="rId2"/>
          <a:stretch/>
        </p:blipFill>
        <p:spPr>
          <a:xfrm>
            <a:off x="6429240" y="4429080"/>
            <a:ext cx="1551240" cy="2016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6" descr="i"/>
          <p:cNvPicPr/>
          <p:nvPr/>
        </p:nvPicPr>
        <p:blipFill>
          <a:blip r:embed="rId3"/>
          <a:stretch/>
        </p:blipFill>
        <p:spPr>
          <a:xfrm>
            <a:off x="3214800" y="4572000"/>
            <a:ext cx="2447640" cy="185436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14" descr="церковь.jpg"/>
          <p:cNvPicPr/>
          <p:nvPr/>
        </p:nvPicPr>
        <p:blipFill>
          <a:blip r:embed="rId4"/>
          <a:stretch/>
        </p:blipFill>
        <p:spPr>
          <a:xfrm>
            <a:off x="428760" y="4000680"/>
            <a:ext cx="16858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СТ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Для освоения техники  изонити  нужно знать следующие приёмы: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заполнение угла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заполнение окружности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и тот и другой приёмы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и заполнении угла по лицевой стороне нити протягиваются: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от одной стороны угла к другой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располагаются строго по сторонам угла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в любой последовательности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и заполнении окружности по лицевой стороне: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нить повторяет линию окружности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получается рисунок в виде звезды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получается любой другой рисунок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и работе в технике  изонить  разметку нужно делать: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на лицевой стороне картона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на изнаночной стороне картона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не нужно делать совсем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 . При заполнении угла проколы нужно делать: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о всех полученных точках разметки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в точках разметки через одну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во всех точках кроме вершины угл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ри заполнении окружности проколы нужно делать: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о всех полученных точках разметки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в точках разметки через одну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в центре окружности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Если необходимо удлинить нить, то: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нужно закрепить нить на изнаночной стороне и ввести новую с узелком на конце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привязать к концу старой нити новую и работать дальше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и тот и другой приёмы.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1"/>
          <p:cNvSpPr/>
          <p:nvPr/>
        </p:nvSpPr>
        <p:spPr>
          <a:xfrm>
            <a:off x="1835280" y="476280"/>
            <a:ext cx="596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ля работы вам потребу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атери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4" descr="Картинка 12 из 35918"/>
          <p:cNvPicPr/>
          <p:nvPr/>
        </p:nvPicPr>
        <p:blipFill>
          <a:blip r:embed="rId1"/>
          <a:stretch/>
        </p:blipFill>
        <p:spPr>
          <a:xfrm>
            <a:off x="468360" y="19890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Картинка 83 из 10352"/>
          <p:cNvPicPr/>
          <p:nvPr/>
        </p:nvPicPr>
        <p:blipFill>
          <a:blip r:embed="rId2"/>
          <a:stretch/>
        </p:blipFill>
        <p:spPr>
          <a:xfrm>
            <a:off x="3132000" y="2276640"/>
            <a:ext cx="1440000" cy="133488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324000" y="3573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Цветной картон                Бархатная бумага             Швейные ни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6" descr="http://im2-tub.yandex.net/i?id=359719993-61-72"/>
          <p:cNvPicPr/>
          <p:nvPr/>
        </p:nvPicPr>
        <p:blipFill>
          <a:blip r:embed="rId3"/>
          <a:stretch/>
        </p:blipFill>
        <p:spPr>
          <a:xfrm>
            <a:off x="5651640" y="2205000"/>
            <a:ext cx="1598400" cy="12556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Картинка 12 из 58303"/>
          <p:cNvPicPr/>
          <p:nvPr/>
        </p:nvPicPr>
        <p:blipFill>
          <a:blip r:embed="rId4"/>
          <a:stretch/>
        </p:blipFill>
        <p:spPr>
          <a:xfrm>
            <a:off x="1332000" y="4437000"/>
            <a:ext cx="1584360" cy="1155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Картинка 72 из 114650"/>
          <p:cNvPicPr/>
          <p:nvPr/>
        </p:nvPicPr>
        <p:blipFill>
          <a:blip r:embed="rId5"/>
          <a:srcRect l="8509" t="11339" r="4971" b="11169"/>
          <a:stretch/>
        </p:blipFill>
        <p:spPr>
          <a:xfrm>
            <a:off x="4932360" y="4653000"/>
            <a:ext cx="1440000" cy="96840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8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душечки для наколки рисунка                  Скотч для закрепления ни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2"/>
          <p:cNvSpPr/>
          <p:nvPr/>
        </p:nvSpPr>
        <p:spPr>
          <a:xfrm>
            <a:off x="2709360" y="40464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нструмен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4" descr="http://www.palaris.org/photo/91720.big.jpg"/>
          <p:cNvPicPr/>
          <p:nvPr/>
        </p:nvPicPr>
        <p:blipFill>
          <a:blip r:embed="rId1"/>
          <a:stretch/>
        </p:blipFill>
        <p:spPr>
          <a:xfrm>
            <a:off x="468360" y="1125360"/>
            <a:ext cx="2016000" cy="1862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http://im0-tub.yandex.net/i?id=563650562-70-72"/>
          <p:cNvPicPr/>
          <p:nvPr/>
        </p:nvPicPr>
        <p:blipFill>
          <a:blip r:embed="rId2"/>
          <a:stretch/>
        </p:blipFill>
        <p:spPr>
          <a:xfrm>
            <a:off x="2843280" y="1125360"/>
            <a:ext cx="2070000" cy="1656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Картинка 56 из 124670"/>
          <p:cNvPicPr/>
          <p:nvPr/>
        </p:nvPicPr>
        <p:blipFill>
          <a:blip r:embed="rId3"/>
          <a:srcRect l="0" t="19438" r="0" b="15759"/>
          <a:stretch/>
        </p:blipFill>
        <p:spPr>
          <a:xfrm>
            <a:off x="5364000" y="981000"/>
            <a:ext cx="2953080" cy="19130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6"/>
          <p:cNvSpPr/>
          <p:nvPr/>
        </p:nvSpPr>
        <p:spPr>
          <a:xfrm>
            <a:off x="915480" y="2997360"/>
            <a:ext cx="70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арандаш                      Резинка                           Линей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im7-tub.yandex.net/i?id=93561930-06-72"/>
          <p:cNvPicPr/>
          <p:nvPr/>
        </p:nvPicPr>
        <p:blipFill>
          <a:blip r:embed="rId4"/>
          <a:stretch/>
        </p:blipFill>
        <p:spPr>
          <a:xfrm>
            <a:off x="5651640" y="3860640"/>
            <a:ext cx="2089080" cy="1514520"/>
          </a:xfrm>
          <a:prstGeom prst="rect">
            <a:avLst/>
          </a:prstGeom>
          <a:ln w="0">
            <a:noFill/>
          </a:ln>
        </p:spPr>
      </p:pic>
      <p:sp>
        <p:nvSpPr>
          <p:cNvPr id="437" name="TextBox 9"/>
          <p:cNvSpPr/>
          <p:nvPr/>
        </p:nvSpPr>
        <p:spPr>
          <a:xfrm>
            <a:off x="468360" y="5445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ожницы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г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Box 10"/>
          <p:cNvSpPr/>
          <p:nvPr/>
        </p:nvSpPr>
        <p:spPr>
          <a:xfrm>
            <a:off x="1497600" y="609300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У вас есть весь материал и инструмен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4" descr="http://im6-tub.yandex.net/i?id=62381608-04-72"/>
          <p:cNvPicPr/>
          <p:nvPr/>
        </p:nvPicPr>
        <p:blipFill>
          <a:blip r:embed="rId5"/>
          <a:stretch/>
        </p:blipFill>
        <p:spPr>
          <a:xfrm>
            <a:off x="1187280" y="3789360"/>
            <a:ext cx="194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3"/>
          <p:cNvSpPr/>
          <p:nvPr/>
        </p:nvSpPr>
        <p:spPr>
          <a:xfrm>
            <a:off x="2714760" y="260280"/>
            <a:ext cx="39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актическ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179280" y="979560"/>
            <a:ext cx="878544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зметка угл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зьмите картон изнаночной стороной ввер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чертите на изнаночной стороне картона любой уго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делите его стороны на равное количество отрез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 изнаночной стороне карандашом  обозначьте  каждую  точку, присвоив ей но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ершина угла — точка 1, первая точка от точки 1 на нижней стороне угла—точка2, затем 3, 4 и так далее до 9. На верхней стороне угла крайняя точка — точка 1, потом 2, 3 и так далее до 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Рисунок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943760" cy="46087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2"/>
          <p:cNvSpPr/>
          <p:nvPr/>
        </p:nvSpPr>
        <p:spPr>
          <a:xfrm>
            <a:off x="1332000" y="3333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остроение и деление уг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3"/>
          <p:cNvSpPr/>
          <p:nvPr/>
        </p:nvSpPr>
        <p:spPr>
          <a:xfrm>
            <a:off x="7885080" y="378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7524720" y="40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5"/>
          <p:cNvSpPr/>
          <p:nvPr/>
        </p:nvSpPr>
        <p:spPr>
          <a:xfrm>
            <a:off x="7093080" y="429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6"/>
          <p:cNvSpPr/>
          <p:nvPr/>
        </p:nvSpPr>
        <p:spPr>
          <a:xfrm>
            <a:off x="6732720" y="450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7"/>
          <p:cNvSpPr/>
          <p:nvPr/>
        </p:nvSpPr>
        <p:spPr>
          <a:xfrm>
            <a:off x="637236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Box 13"/>
          <p:cNvSpPr/>
          <p:nvPr/>
        </p:nvSpPr>
        <p:spPr>
          <a:xfrm>
            <a:off x="5364000" y="6237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       3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0:52:48Z</dcterms:created>
  <dc:creator>Computer</dc:creator>
  <dc:description/>
  <dc:language>en-US</dc:language>
  <cp:lastModifiedBy>Лена</cp:lastModifiedBy>
  <dcterms:modified xsi:type="dcterms:W3CDTF">2015-03-02T19:26:00Z</dcterms:modified>
  <cp:revision>93</cp:revision>
  <dc:subject/>
  <dc:title>Вышивка  в технике «Изонить»</dc:title>
</cp:coreProperties>
</file>