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72675" cy="684053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688680" y="742680"/>
            <a:ext cx="543060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3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232-D7AD-4AC8-BD10-B9E392AE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9040" y="743040"/>
            <a:ext cx="5430600" cy="3725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3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8A94-AB8E-498E-B384-4B1D5625F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4769-4536-4B16-9FE6-740F0B7BB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887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720" y="3571920"/>
            <a:ext cx="887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C7F9-3212-4F06-983E-10EB9D309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672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1424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AFC6-FE0B-4C20-BE24-AB7E9B151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7320" y="110664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67920" y="110664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6720" y="357192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7320" y="357192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67920" y="357192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4991-6BE3-46D4-95A6-E1ADC52DC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1000" y="82080"/>
            <a:ext cx="961884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672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6057-6D46-4745-8A6B-AE35E29E0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1424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6720" y="3571920"/>
            <a:ext cx="887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887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6720" y="3571920"/>
            <a:ext cx="887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72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1424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7320" y="110664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67920" y="110664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6720" y="357192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7320" y="357192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67920" y="3571920"/>
            <a:ext cx="2857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B120-0D30-4680-8E91-12B99D17B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AD48-D604-470E-8011-76CAF1D64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7667-0F53-4F63-9095-5E4B4BCF9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000" y="82080"/>
            <a:ext cx="961884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CD3B-3F32-4357-ADEB-ADCB71450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672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3BFF-CEEE-49F2-BEB4-B2534A304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14240" y="357192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F9AE-C801-481E-ACCA-C02B15CB3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672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14240" y="1106640"/>
            <a:ext cx="4330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6720" y="3571920"/>
            <a:ext cx="887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D69D-BAC0-4F8A-9C80-D894BA5A1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969480" cy="7221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6040">
              <a:spcAft>
                <a:spcPts val="1125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28600"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228600"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90760" indent="-228600"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90760" indent="-228600">
              <a:spcAft>
                <a:spcPts val="1125"/>
              </a:spcAft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90760" indent="-228600">
              <a:spcAft>
                <a:spcPts val="1125"/>
              </a:spcAft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73680" y="6508440"/>
            <a:ext cx="5986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B79-F2AF-4BFE-AA79-AC91CD0373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1058760" y="6508800"/>
            <a:ext cx="8913960" cy="25200"/>
          </a:xfrm>
          <a:prstGeom prst="line">
            <a:avLst/>
          </a:prstGeom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0" descr="HJ-clean"/>
          <p:cNvPicPr/>
          <p:nvPr/>
        </p:nvPicPr>
        <p:blipFill>
          <a:blip r:embed="rId2"/>
          <a:srcRect l="916" t="2490" r="649" b="1494"/>
          <a:stretch/>
        </p:blipFill>
        <p:spPr>
          <a:xfrm>
            <a:off x="154080" y="6431040"/>
            <a:ext cx="928440" cy="3459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c0c0c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969480" cy="7221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1058760" y="6508800"/>
            <a:ext cx="8913960" cy="25200"/>
          </a:xfrm>
          <a:prstGeom prst="line">
            <a:avLst/>
          </a:prstGeom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HJ-clean"/>
          <p:cNvPicPr/>
          <p:nvPr/>
        </p:nvPicPr>
        <p:blipFill>
          <a:blip r:embed="rId2"/>
          <a:srcRect l="916" t="2490" r="649" b="1494"/>
          <a:stretch/>
        </p:blipFill>
        <p:spPr>
          <a:xfrm>
            <a:off x="154080" y="6431040"/>
            <a:ext cx="928440" cy="3459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c0c0c0"/>
            </a:outerShdw>
          </a:effectLst>
        </p:spPr>
      </p:pic>
      <p:sp>
        <p:nvSpPr>
          <p:cNvPr id="45" name="Rectangle 2"/>
          <p:cNvSpPr/>
          <p:nvPr/>
        </p:nvSpPr>
        <p:spPr>
          <a:xfrm>
            <a:off x="0" y="1981080"/>
            <a:ext cx="9969480" cy="4859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6040">
              <a:spcAft>
                <a:spcPts val="1125"/>
              </a:spcAft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28600"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228600"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90760" indent="-228600"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90760" indent="-228600">
              <a:spcAft>
                <a:spcPts val="1125"/>
              </a:spcAft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90760" indent="-228600">
              <a:spcAft>
                <a:spcPts val="1125"/>
              </a:spcAft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241360" y="6041880"/>
            <a:ext cx="1579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7920" y="2584440"/>
            <a:ext cx="863784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PMingLiU"/>
              </a:rPr>
              <a:t>Прикладное плавание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800"/>
            </a:br>
            <a:br>
              <a:rPr sz="36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PMingLiU"/>
              </a:rPr>
              <a:t>Тольятти 2011 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tpcC_small"/>
          <p:cNvPicPr/>
          <p:nvPr/>
        </p:nvPicPr>
        <p:blipFill>
          <a:blip r:embed="rId1"/>
          <a:stretch/>
        </p:blipFill>
        <p:spPr>
          <a:xfrm>
            <a:off x="4356000" y="735120"/>
            <a:ext cx="819360" cy="7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165400" y="882720"/>
            <a:ext cx="1011240" cy="89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0"/>
            <a:ext cx="997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90960" y="1251360"/>
            <a:ext cx="147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ФГОУ СПО ТПК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Номер слайда 6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91E-ECA8-45B2-B01E-B7CABED312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:\Users\Администратор\Desktop\фото\ныряние.jpg"/>
          <p:cNvPicPr/>
          <p:nvPr/>
        </p:nvPicPr>
        <p:blipFill>
          <a:blip r:embed="rId1"/>
          <a:stretch/>
        </p:blipFill>
        <p:spPr>
          <a:xfrm>
            <a:off x="625320" y="1162080"/>
            <a:ext cx="3176640" cy="4763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731120" y="3645000"/>
            <a:ext cx="282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ыряние в глубину и в длин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Номер слайда 5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8E5A-E045-4A47-A9F9-A65E446462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C:\Users\Администратор\Desktop\фото\DSCF0904.JPG"/>
          <p:cNvPicPr/>
          <p:nvPr/>
        </p:nvPicPr>
        <p:blipFill>
          <a:blip r:embed="rId1"/>
          <a:stretch/>
        </p:blipFill>
        <p:spPr>
          <a:xfrm>
            <a:off x="241200" y="96840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Users\Администратор\Desktop\фото\005.gif"/>
          <p:cNvPicPr/>
          <p:nvPr/>
        </p:nvPicPr>
        <p:blipFill>
          <a:blip r:embed="rId2"/>
          <a:stretch/>
        </p:blipFill>
        <p:spPr>
          <a:xfrm>
            <a:off x="4238640" y="1103400"/>
            <a:ext cx="5200560" cy="1819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Администратор\Desktop\фото\007.gif"/>
          <p:cNvPicPr/>
          <p:nvPr/>
        </p:nvPicPr>
        <p:blipFill>
          <a:blip r:embed="rId3"/>
          <a:stretch/>
        </p:blipFill>
        <p:spPr>
          <a:xfrm>
            <a:off x="438120" y="3957480"/>
            <a:ext cx="3468600" cy="26193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5869440" y="430704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азание помощи тонущем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. Обучение прикладному плавани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2154-D462-4E76-B4C1-1FA88489EB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21000" y="1300320"/>
            <a:ext cx="6721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учение нырянию в длину и глубин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я для формирования навыка правильного дых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я в погружении в вод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я в изменении глубины погружения и направлении движе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жнения в технике передвижения под водо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учение спасанию утопающи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66720" y="1106640"/>
            <a:ext cx="88740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spcAft>
                <a:spcPts val="41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59F8-0D9F-4F09-8655-096FB7B8B5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6720" y="1082520"/>
            <a:ext cx="8874000" cy="19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вая направленность и основные задачи прикладного пла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и организация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прикладному пла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128-9091-4D6C-BF96-7CE21FA83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32360" y="3581280"/>
            <a:ext cx="3264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Введени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0600" y="1574640"/>
            <a:ext cx="5294520" cy="11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рс на перестройку и социально-экономическое преобразование страны ставит неотложные задачи и по коренному улучшению физической подготовки населения. Это определяется интересами нашего государства, его социальными задач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65280" y="817200"/>
            <a:ext cx="14130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Aft>
                <a:spcPts val="125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6180120" y="901800"/>
            <a:ext cx="3263760" cy="2178000"/>
          </a:xfrm>
          <a:prstGeom prst="rect">
            <a:avLst/>
          </a:prstGeom>
          <a:ln w="0">
            <a:noFill/>
          </a:ln>
        </p:spPr>
      </p:pic>
      <p:sp>
        <p:nvSpPr>
          <p:cNvPr id="105" name="Номер слайда 8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AFD3-C693-44C0-83F3-9D6A805DB2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80960" y="3271680"/>
            <a:ext cx="5462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5206"/>
                </a:solidFill>
                <a:latin typeface="Arial"/>
              </a:rPr>
              <a:t>Одним из слабых разделов Физического воспитания населения является плавательная подготовленность. Низкая плавательная подготовленность молодежи, в том числе учащихся ССУЗов, приводит к возникновению большого числа несчастных случаев на воде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685800" y="5005440"/>
            <a:ext cx="5197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-за слабой организации обучения плаванию допризывной и призывной молодежи в армию и на флот ежегодно приходит молодое пополнение, значительная часть которого не умеет плавать или плавает слабо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6159600" y="3392640"/>
            <a:ext cx="3357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не позволяет командирам решать сложные учебно-боевые задачи, связанные с форсированием водных преград, десантированием на воду, т.е. снижает качество боевой подготовки войск. Кроме того, большое число профессий, связанных с трудовой деятельностью на воде (реках, озерах, морях), предъявляют высокие требования к плавательной подготовленности человек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Целевая  направленность и основные задачи прикладного плаван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14360" y="1298520"/>
            <a:ext cx="530064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8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3509-8BF7-4DA7-A4EF-6002870E9C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93840" y="1079640"/>
            <a:ext cx="3263760" cy="244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0"/>
          <p:cNvSpPr/>
          <p:nvPr/>
        </p:nvSpPr>
        <p:spPr>
          <a:xfrm>
            <a:off x="3995640" y="1768320"/>
            <a:ext cx="505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икладном плавании перед студентом ставятся различные цели и задачи в зависимости от его плавательной подготовленност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2622600" y="410364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прикладного плав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умение своевременно оказать помощь пострадавш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12"/>
          <p:cNvSpPr/>
          <p:nvPr/>
        </p:nvSpPr>
        <p:spPr>
          <a:xfrm>
            <a:off x="8024760" y="2346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13"/>
          <p:cNvSpPr/>
          <p:nvPr/>
        </p:nvSpPr>
        <p:spPr>
          <a:xfrm>
            <a:off x="8072280" y="237024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альтернативный процесс 14"/>
          <p:cNvSpPr/>
          <p:nvPr/>
        </p:nvSpPr>
        <p:spPr>
          <a:xfrm>
            <a:off x="4524480" y="2406600"/>
            <a:ext cx="914400" cy="612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395280" y="4078440"/>
            <a:ext cx="826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5748480" y="1739880"/>
            <a:ext cx="326376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457200" y="950760"/>
            <a:ext cx="48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1240" y="4764240"/>
            <a:ext cx="63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ть быстро плавать в экстремальных условия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ырять в глубину и в длин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риентироваться под вод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Содержание и организация занятий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Номер слайда 6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10A-2862-4F19-ABDA-614F0505AF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Администратор\Desktop\фото\brass.jpg"/>
          <p:cNvPicPr/>
          <p:nvPr/>
        </p:nvPicPr>
        <p:blipFill>
          <a:blip r:embed="rId1"/>
          <a:stretch/>
        </p:blipFill>
        <p:spPr>
          <a:xfrm>
            <a:off x="493560" y="1846440"/>
            <a:ext cx="4017960" cy="2847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5092920" y="3284640"/>
            <a:ext cx="42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ВАНИЕ БРАССОМ НА ГРУДИ И НА СПИН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2BA9-009A-4DBC-BFB6-F4B5433F39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69920" y="3357720"/>
            <a:ext cx="33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ды вниз ногами и вниз голово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ыжок с шагом вниз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:\Users\Администратор\Desktop\фото\DSCF0955.JPG"/>
          <p:cNvPicPr/>
          <p:nvPr/>
        </p:nvPicPr>
        <p:blipFill>
          <a:blip r:embed="rId1"/>
          <a:stretch/>
        </p:blipFill>
        <p:spPr>
          <a:xfrm>
            <a:off x="782640" y="1204920"/>
            <a:ext cx="46260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1000" y="82440"/>
            <a:ext cx="96188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6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FF7-CC31-4B92-B6CE-746B6D14D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:\Users\Администратор\Desktop\фото\DSCF0947.JPG"/>
          <p:cNvPicPr/>
          <p:nvPr/>
        </p:nvPicPr>
        <p:blipFill>
          <a:blip r:embed="rId1"/>
          <a:stretch/>
        </p:blipFill>
        <p:spPr>
          <a:xfrm>
            <a:off x="477720" y="1515960"/>
            <a:ext cx="4708800" cy="3637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6137640" y="3560760"/>
            <a:ext cx="19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товый прыжо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1000" y="82080"/>
            <a:ext cx="9618840" cy="51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9374040" y="6508800"/>
            <a:ext cx="598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2EB-DE1F-475E-847C-80906CD58D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:\Users\Администратор\Desktop\фото\DSCF0897.JPG"/>
          <p:cNvPicPr/>
          <p:nvPr/>
        </p:nvPicPr>
        <p:blipFill>
          <a:blip r:embed="rId1"/>
          <a:stretch/>
        </p:blipFill>
        <p:spPr>
          <a:xfrm>
            <a:off x="458640" y="1900080"/>
            <a:ext cx="4110120" cy="3083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6489720" y="33210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орот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01:06Z</dcterms:created>
  <dc:creator>Paul Sternlieb</dc:creator>
  <dc:description/>
  <dc:language>en-US</dc:language>
  <cp:lastModifiedBy>Я</cp:lastModifiedBy>
  <cp:lastPrinted>2006-06-20T19:53:33Z</cp:lastPrinted>
  <dcterms:modified xsi:type="dcterms:W3CDTF">2015-03-02T12:57:04Z</dcterms:modified>
  <cp:revision>3056</cp:revision>
  <dc:subject/>
  <dc:title>Heinz Europe Strategic Planning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Heinz Europe Strategic Planning Process</vt:lpwstr>
  </property>
  <property fmtid="{D5CDD505-2E9C-101B-9397-08002B2CF9AE}" pid="7" name="docid">
    <vt:lpwstr/>
  </property>
</Properties>
</file>