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800B-827F-4C86-BEBB-3A2D787E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6A04-727F-485E-9032-0AEA93C9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BAE3-CF61-48C2-81AA-8541B771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27B6-FCE7-44F4-81C3-4D82A490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BA7F-8590-44D2-A1E6-769065E1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AFFF-61F1-4F3F-8706-87865C68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7637-E0C6-49DC-8D23-56B1CE16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1193-75BC-471C-B6EA-A0BD5804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D2F9-6115-44D4-941E-B2D2EA96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26F8-E9E3-44DF-A75B-1C452D0D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6A30-9F1B-4588-A70B-5327886A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5752-5AAA-40ED-9589-D9750167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E0DA-FD40-4BB7-A639-50FA2B4915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Презентация </a:t>
            </a:r>
            <a:br>
              <a:rPr sz="138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втор: Иванова Л.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ЦО при И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амарской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7643880" y="5572080"/>
            <a:ext cx="614160" cy="642960"/>
          </a:xfrm>
          <a:custGeom>
            <a:avLst/>
            <a:gdLst>
              <a:gd name="textAreaLeft" fmla="*/ 39600 w 614160"/>
              <a:gd name="textAreaRight" fmla="*/ 574560 w 614160"/>
              <a:gd name="textAreaTop" fmla="*/ 39600 h 642960"/>
              <a:gd name="textAreaBottom" fmla="*/ 603360 h 642960"/>
            </a:gdLst>
            <a:ahLst/>
            <a:rect l="textAreaLeft" t="textAreaTop" r="textAreaRight" b="textAreaBottom"/>
            <a:pathLst>
              <a:path w="21600" h="22612">
                <a:moveTo>
                  <a:pt x="0" y="0"/>
                </a:moveTo>
                <a:lnTo>
                  <a:pt x="21600" y="0"/>
                </a:lnTo>
                <a:lnTo>
                  <a:pt x="21600" y="22612"/>
                </a:lnTo>
                <a:lnTo>
                  <a:pt x="0" y="22612"/>
                </a:lnTo>
                <a:close/>
              </a:path>
              <a:path fill="lightenLess" w="21600" h="22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12">
                <a:moveTo>
                  <a:pt x="21600" y="0"/>
                </a:moveTo>
                <a:lnTo>
                  <a:pt x="21600" y="22612"/>
                </a:lnTo>
                <a:lnTo>
                  <a:pt x="20200" y="21212"/>
                </a:lnTo>
                <a:lnTo>
                  <a:pt x="20200" y="1400"/>
                </a:lnTo>
                <a:close/>
              </a:path>
              <a:path fill="darkenLess" w="21600" h="22612">
                <a:moveTo>
                  <a:pt x="21600" y="22612"/>
                </a:moveTo>
                <a:lnTo>
                  <a:pt x="0" y="22612"/>
                </a:lnTo>
                <a:lnTo>
                  <a:pt x="1400" y="21212"/>
                </a:lnTo>
                <a:lnTo>
                  <a:pt x="20200" y="21212"/>
                </a:lnTo>
                <a:close/>
              </a:path>
              <a:path fill="lighten" w="21600" h="22612">
                <a:moveTo>
                  <a:pt x="0" y="22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12"/>
                </a:lnTo>
                <a:close/>
              </a:path>
              <a:path fill="darken" w="21600" h="22612">
                <a:moveTo>
                  <a:pt x="3794" y="4300"/>
                </a:moveTo>
                <a:lnTo>
                  <a:pt x="17806" y="11306"/>
                </a:lnTo>
                <a:lnTo>
                  <a:pt x="3794" y="18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ихи А.С.Пушкина о дружб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рузья мои, прекрасен наш союз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, как душа, неразделим и вечен, —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колебим, свободен и беспечен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астался он под сенью дружных муз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да бы нас ни бросила судьбин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счастие куда б ни повело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те же мы: нам целый мир чужбина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ечество нам Царское Село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Озаглавьте текст и перескажите его сжато от третьего ли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5714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Расскажите об одном из стихотворений А.С.Пушкина, посвященных дружб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ложение №1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14920" y="1600200"/>
            <a:ext cx="36432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од уро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комство с текс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еседа по текс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ление пла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зыковой анализ текс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сказ текста излож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стилистики текс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ие своего текс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полнение  творческого задания (ответ на вопрос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ведение итогов уро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5" descr="тройка.jpg"/>
          <p:cNvPicPr/>
          <p:nvPr/>
        </p:nvPicPr>
        <p:blipFill>
          <a:blip r:embed="rId1"/>
          <a:stretch/>
        </p:blipFill>
        <p:spPr>
          <a:xfrm>
            <a:off x="457200" y="1714680"/>
            <a:ext cx="4038480" cy="392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.С.Пушкин в Михайловском. </a:t>
            </a:r>
            <a:br>
              <a:rPr sz="29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ды ссылки 1824-1826.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14" descr="Пушкин.jpg"/>
          <p:cNvPicPr/>
          <p:nvPr/>
        </p:nvPicPr>
        <p:blipFill>
          <a:blip r:embed="rId1"/>
          <a:stretch/>
        </p:blipFill>
        <p:spPr>
          <a:xfrm>
            <a:off x="1123920" y="1600200"/>
            <a:ext cx="270504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648320" y="150012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 августа 1824 года Пушкин приехал в имение Михайловское, куда он был сослан по распоряжению императора Александра Перво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рисутствии псковского губернатора коллежский секретарь Александр Пушкин дал подписку о том, что он обязуется жить безотлучно в поместье родителя своего, вести себя благонравно, не заниматься никакими неприличными сочинениями и суждениями, предосудительными и вредными общественной жизни, и не распространять оных никуда”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3008160" cy="507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642600"/>
            <a:ext cx="30081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лгие часы длинных зимних вечеров проводил поэт в обществе своей старой няни Арины Родионов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яня знала много старинных сказаний, умела сказывать удивительные сказки, пела русские народные песн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ушкин называл Арину Родионовну единственной своей подруг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13" descr="няня.jpg"/>
          <p:cNvPicPr/>
          <p:nvPr/>
        </p:nvPicPr>
        <p:blipFill>
          <a:blip r:embed="rId1"/>
          <a:stretch/>
        </p:blipFill>
        <p:spPr>
          <a:xfrm>
            <a:off x="3935520" y="272880"/>
            <a:ext cx="4390920" cy="544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просы и задания к тексту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00040" y="2000160"/>
          <a:ext cx="8229600" cy="2367000"/>
        </p:xfrm>
        <a:graphic>
          <a:graphicData uri="http://schemas.openxmlformats.org/drawingml/2006/table">
            <a:tbl>
              <a:tblPr/>
              <a:tblGrid>
                <a:gridCol w="614520"/>
                <a:gridCol w="4871880"/>
                <a:gridCol w="274320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вопрос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ы учащих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чьего лица ведется повествовани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еделите основную мысль текс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еделите  тему текста изложения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 можно озаглавить текс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10" descr="Пущин.jpg"/>
          <p:cNvPicPr/>
          <p:nvPr/>
        </p:nvPicPr>
        <p:blipFill>
          <a:blip r:embed="rId1"/>
          <a:stretch/>
        </p:blipFill>
        <p:spPr>
          <a:xfrm>
            <a:off x="646200" y="1600200"/>
            <a:ext cx="366084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648320" y="16178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цейский друг Пушкина И. И. Пущин, один из членов декабристского общества, решил навестить ссыльного товарища. Знакомые и даже родной дядя Пушкина Василий Львович предостерегали Пущина от свидания с поэтом, который находился под политическим и духовным надзором. Но в январский день 1825 года кибитка Пущина, прыгая на ухабах, подъезжала к Михайловском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12" descr="АСП и няня.jpg"/>
          <p:cNvPicPr/>
          <p:nvPr/>
        </p:nvPicPr>
        <p:blipFill>
          <a:blip r:embed="rId1"/>
          <a:stretch/>
        </p:blipFill>
        <p:spPr>
          <a:xfrm>
            <a:off x="457200" y="1071720"/>
            <a:ext cx="4329000" cy="4814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5286240" y="1071720"/>
            <a:ext cx="340056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ната Александра была возле крыльца, с окном на двор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 всем поэтический беспорядок, везде разбросаны исписанные листы бумаги, всюду валялись обкусанные, обожженные  кусочки перь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еда пошла привольнее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14" descr="комната .jpg"/>
          <p:cNvPicPr/>
          <p:nvPr/>
        </p:nvPicPr>
        <p:blipFill>
          <a:blip r:embed="rId1"/>
          <a:stretch/>
        </p:blipFill>
        <p:spPr>
          <a:xfrm>
            <a:off x="1000080" y="1285920"/>
            <a:ext cx="7286760" cy="45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И.И. Пущину».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й первый друг, мой друг бесценный!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я судьбу благословил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гда мой двор уединенный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чальным снегом занесенный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вой колокольчик огласи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лю святое провиденье: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а голос мой душе твоей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арует то же утешенье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а озарит он заточенье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ом лицейских ясных дней. (А.С.Пушкин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бовь Юрьевна</dc:creator>
  <dc:description/>
  <dc:language>en-US</dc:language>
  <cp:lastModifiedBy>DNA7 X86</cp:lastModifiedBy>
  <dcterms:modified xsi:type="dcterms:W3CDTF">2012-10-07T16:49:41Z</dcterms:modified>
  <cp:revision>54</cp:revision>
  <dc:subject/>
  <dc:title>Презентация  Изложение  «Дорога домой».</dc:title>
</cp:coreProperties>
</file>