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92C-BFA1-4D7A-8E2A-BD05A7E2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C03-5586-4453-82A5-A11F90FE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4CD-9A50-41DE-BEFA-AD22FAC3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AD8-B573-4FEB-ADFD-B44D23B7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59F9-4CBA-47EA-B2CC-762271DD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F699-20DC-4D07-BAC8-258F97A8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F3F3-274A-4C32-93F6-88A9D274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8B9A-48FF-4F45-AF41-99EFF228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E4B4-AB1B-4D6F-A6FB-74FE8840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4DCB-7FE8-4DC2-9894-5C1D3597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8F68-4518-432C-ACAA-93FF1EB2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F5A-8B8A-4696-BD29-1389391C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3166-F6CC-4F2E-972A-F161D4F5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5D6F-E322-4668-A01D-ECAE4C76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03F5-3FB0-4033-BF84-9035C9E1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7941-FB14-4728-B382-3EDE8877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B371-BFE7-40B0-8CF6-05E3A897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646-E853-4FB2-BBBA-1706922B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873-F8F9-43E4-BAA4-D095DB97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AD9-3858-48A3-858F-FD0B3DC2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A7E-0A74-46D1-9DCC-DD484139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853-763F-47CE-8FCD-F632C114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01C-AF51-41C9-ADEB-342239CC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4A9-7F68-40C6-B7AC-864700EF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A0F8-1238-4F48-B2A5-A097A4A906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84DF-8F51-40ED-8512-6FA18EF08C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0"/>
            <a:ext cx="723924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Arial"/>
              </a:rPr>
              <a:t>Сервировка праздничного сто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5280" y="5734080"/>
            <a:ext cx="9072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Verdana"/>
              </a:rPr>
              <a:t>Выполнила учитель МОУ «СОШ № 21» города Магнитогорска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Verdana"/>
              </a:rPr>
              <a:t>Волкова Лариса Александровна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4" descr="7"/>
          <p:cNvPicPr/>
          <p:nvPr/>
        </p:nvPicPr>
        <p:blipFill>
          <a:blip r:embed="rId1"/>
          <a:stretch/>
        </p:blipFill>
        <p:spPr>
          <a:xfrm>
            <a:off x="2124000" y="1557360"/>
            <a:ext cx="5616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</a:rPr>
              <a:t>                   </a:t>
            </a:r>
            <a:r>
              <a:rPr b="0" lang="ru-RU" sz="3200" spc="-1" strike="noStrike">
                <a:solidFill>
                  <a:srgbClr val="ff9900"/>
                </a:solidFill>
                <a:latin typeface="Verdana"/>
              </a:rPr>
              <a:t>«Лилия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3" descr="16"/>
          <p:cNvPicPr/>
          <p:nvPr/>
        </p:nvPicPr>
        <p:blipFill>
          <a:blip r:embed="rId1"/>
          <a:stretch/>
        </p:blipFill>
        <p:spPr>
          <a:xfrm>
            <a:off x="1042920" y="1197000"/>
            <a:ext cx="3144960" cy="2809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17"/>
          <p:cNvPicPr/>
          <p:nvPr/>
        </p:nvPicPr>
        <p:blipFill>
          <a:blip r:embed="rId2"/>
          <a:stretch/>
        </p:blipFill>
        <p:spPr>
          <a:xfrm>
            <a:off x="5003640" y="1197000"/>
            <a:ext cx="3667320" cy="2724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332000" y="4437000"/>
            <a:ext cx="67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1. Cалфетку сложите по диагонал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2. Совместите левый и правый углы с вершиной треугольни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3. Сложите салфетку пополам по горизонтальной ос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4. Отогните вершину верхнего треугольни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71640" y="549360"/>
            <a:ext cx="7711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0" lang="ru-RU" sz="3400" spc="-1" strike="noStrike">
                <a:solidFill>
                  <a:srgbClr val="ff9900"/>
                </a:solidFill>
                <a:latin typeface="Times New Roman"/>
              </a:rPr>
              <a:t>Диагональные складки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00000" y="1773360"/>
            <a:ext cx="302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Сложите салфетку в четыре раза, один угол скатайте вниз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Проделайте то же ещё с двумя угла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Оставшийся угол закатайте к центру ввер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5" descr="kras_stol_64"/>
          <p:cNvPicPr/>
          <p:nvPr/>
        </p:nvPicPr>
        <p:blipFill>
          <a:blip r:embed="rId1"/>
          <a:srcRect l="0" t="0" r="47757" b="0"/>
          <a:stretch/>
        </p:blipFill>
        <p:spPr>
          <a:xfrm>
            <a:off x="4021200" y="1413000"/>
            <a:ext cx="3529080" cy="3927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kras_stol_64"/>
          <p:cNvPicPr/>
          <p:nvPr/>
        </p:nvPicPr>
        <p:blipFill>
          <a:blip r:embed="rId2"/>
          <a:srcRect l="81940" t="0" r="-918" b="0"/>
          <a:stretch/>
        </p:blipFill>
        <p:spPr>
          <a:xfrm>
            <a:off x="7596360" y="1413000"/>
            <a:ext cx="129672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«Шлейф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Picture 3" descr="14"/>
          <p:cNvPicPr/>
          <p:nvPr/>
        </p:nvPicPr>
        <p:blipFill>
          <a:blip r:embed="rId1"/>
          <a:stretch/>
        </p:blipFill>
        <p:spPr>
          <a:xfrm>
            <a:off x="5364000" y="907920"/>
            <a:ext cx="3311640" cy="247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15"/>
          <p:cNvPicPr/>
          <p:nvPr/>
        </p:nvPicPr>
        <p:blipFill>
          <a:blip r:embed="rId2"/>
          <a:stretch/>
        </p:blipFill>
        <p:spPr>
          <a:xfrm>
            <a:off x="1187280" y="981000"/>
            <a:ext cx="3362400" cy="2344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900000" y="3718080"/>
            <a:ext cx="784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1. Cалфетку сложите по диагонал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2. Совместите левый и правый углы треугольника с его вершиной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3. Сложите фигуру относительно горизонтальной оси попола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4. Правый угол соедините с левым сзади салфетки и заложите один в другой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5. Фигуру поверните. Смотрящие вверх острые углы оттяните соответственно вправо и влев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Поставьте салфетку вертикальн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«Джонк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3" descr="18"/>
          <p:cNvPicPr/>
          <p:nvPr/>
        </p:nvPicPr>
        <p:blipFill>
          <a:blip r:embed="rId1"/>
          <a:stretch/>
        </p:blipFill>
        <p:spPr>
          <a:xfrm>
            <a:off x="1332000" y="1125360"/>
            <a:ext cx="3384360" cy="237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19"/>
          <p:cNvPicPr/>
          <p:nvPr/>
        </p:nvPicPr>
        <p:blipFill>
          <a:blip r:embed="rId2"/>
          <a:stretch/>
        </p:blipFill>
        <p:spPr>
          <a:xfrm>
            <a:off x="5364000" y="3284640"/>
            <a:ext cx="3648240" cy="273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20"/>
          <p:cNvPicPr/>
          <p:nvPr/>
        </p:nvPicPr>
        <p:blipFill>
          <a:blip r:embed="rId3"/>
          <a:stretch/>
        </p:blipFill>
        <p:spPr>
          <a:xfrm>
            <a:off x="5364000" y="620640"/>
            <a:ext cx="3638880" cy="2714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108000" y="3357720"/>
            <a:ext cx="54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1. Салфетку сложите пополам (сгиб справа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2. Прямоугольник сложите еще раз попола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3. Нижнюю половину согните по диагонали вверх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4. Левый угол загните вперед. Правый угол так же загните вперед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5. Оба выступающих угла подогните назад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6. Сложите салфетку по продольной оси назад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7. Придерживая рукой отогнутые углы, выдергиваем по очереди края салфетки «паруса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«Артишок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3" descr="21"/>
          <p:cNvPicPr/>
          <p:nvPr/>
        </p:nvPicPr>
        <p:blipFill>
          <a:blip r:embed="rId1"/>
          <a:stretch/>
        </p:blipFill>
        <p:spPr>
          <a:xfrm>
            <a:off x="1332000" y="1073160"/>
            <a:ext cx="3311280" cy="2462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22"/>
          <p:cNvPicPr/>
          <p:nvPr/>
        </p:nvPicPr>
        <p:blipFill>
          <a:blip r:embed="rId2"/>
          <a:stretch/>
        </p:blipFill>
        <p:spPr>
          <a:xfrm>
            <a:off x="5940360" y="1052640"/>
            <a:ext cx="3049560" cy="4392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324000" y="3860640"/>
            <a:ext cx="568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1. Салфетку положите изнаночной стороной вверх. Все ее четыре угла загните к центр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2. Еще раз загните к центру все угл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3. Переверните салфетк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4. Опять загните к центру все угл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5. Вытяните кончик салфетки, оказавшийся внутри четырехугольник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6. Вытяните остальные кончик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7. Оставшиеся четыре уголка вытяните из под сложенной фигур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«Веер в кольце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3" descr="23"/>
          <p:cNvPicPr/>
          <p:nvPr/>
        </p:nvPicPr>
        <p:blipFill>
          <a:blip r:embed="rId1"/>
          <a:stretch/>
        </p:blipFill>
        <p:spPr>
          <a:xfrm>
            <a:off x="1042920" y="1484280"/>
            <a:ext cx="3672000" cy="2422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24"/>
          <p:cNvPicPr/>
          <p:nvPr/>
        </p:nvPicPr>
        <p:blipFill>
          <a:blip r:embed="rId2"/>
          <a:stretch/>
        </p:blipFill>
        <p:spPr>
          <a:xfrm>
            <a:off x="5580000" y="1268280"/>
            <a:ext cx="3313080" cy="4608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395280" y="4149720"/>
            <a:ext cx="525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1. Исходно салфетка в расправленном виде лежит лицевой стороной вниз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2. Сложите салфетку «гармошкой» (2а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3. Согните ее в середине попола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4. Заправьте салфетку в кольцо (либо поставьте в бокал) и расправьте «веер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«Колонн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3" descr="25"/>
          <p:cNvPicPr/>
          <p:nvPr/>
        </p:nvPicPr>
        <p:blipFill>
          <a:blip r:embed="rId1"/>
          <a:stretch/>
        </p:blipFill>
        <p:spPr>
          <a:xfrm>
            <a:off x="971640" y="1413000"/>
            <a:ext cx="2857320" cy="4943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26"/>
          <p:cNvPicPr/>
          <p:nvPr/>
        </p:nvPicPr>
        <p:blipFill>
          <a:blip r:embed="rId2"/>
          <a:stretch/>
        </p:blipFill>
        <p:spPr>
          <a:xfrm>
            <a:off x="5076720" y="1125360"/>
            <a:ext cx="3672000" cy="27385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4140360" y="407664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1. Исходно салфетка сложена по диагонал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2. Основание отогните вверх, потом назад примерно на 2-3 с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3. Начиная слева, скатайте салфетку в трубочку. Остающийся край заложите в нижний отогнутый край салфет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f9900"/>
                </a:solidFill>
                <a:latin typeface="Verdana"/>
              </a:rPr>
              <a:t>«Шатер кручёный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27"/>
          <p:cNvPicPr/>
          <p:nvPr/>
        </p:nvPicPr>
        <p:blipFill>
          <a:blip r:embed="rId1"/>
          <a:stretch/>
        </p:blipFill>
        <p:spPr>
          <a:xfrm>
            <a:off x="1332000" y="1052640"/>
            <a:ext cx="2592360" cy="273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28"/>
          <p:cNvPicPr/>
          <p:nvPr/>
        </p:nvPicPr>
        <p:blipFill>
          <a:blip r:embed="rId2"/>
          <a:stretch/>
        </p:blipFill>
        <p:spPr>
          <a:xfrm>
            <a:off x="5724360" y="260280"/>
            <a:ext cx="2975040" cy="3753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1042920" y="407664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1. Исходно салфетка сложена пополам (сгиб вверху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2. Нижний левый угол салфетки совместите с правой нижней ее частью, чтобы сверху получился равнобедренный треугольник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3. Правый угол переложите вправ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4. Повторите действие п.2 нижний правый угол переложите влев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5. Правую половинку треугольника загните влев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6. Салфетку скатайте слева направ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99"/>
                </a:solidFill>
                <a:latin typeface="Arial"/>
              </a:rPr>
              <a:t>7. Придайте салфетке вертикальное положение, полностью ее не разворачива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           </a:t>
            </a: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«Горизонтальное саше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3" descr="29"/>
          <p:cNvPicPr/>
          <p:nvPr/>
        </p:nvPicPr>
        <p:blipFill>
          <a:blip r:embed="rId1"/>
          <a:stretch/>
        </p:blipFill>
        <p:spPr>
          <a:xfrm>
            <a:off x="1116000" y="1341360"/>
            <a:ext cx="3240000" cy="2138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30"/>
          <p:cNvPicPr/>
          <p:nvPr/>
        </p:nvPicPr>
        <p:blipFill>
          <a:blip r:embed="rId2"/>
          <a:stretch/>
        </p:blipFill>
        <p:spPr>
          <a:xfrm>
            <a:off x="5219640" y="1197000"/>
            <a:ext cx="34783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1042920" y="4365720"/>
            <a:ext cx="655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1. Исходно салфетка сложена вдвое лицевой стороной внутрь (сгиб внизу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2. Отогните треть верхнего слоя вниз, чтобы образовалась центральная склад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3. Переверните противоположной стороной к себе. Загните стороны, чтобы они соприкасались в центр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Arial"/>
              </a:rPr>
              <a:t>Сложите так же еще раз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Посуда и прибо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1. На равном расстоянии друг от друга в 2 см  от края стола ставят мелкие большие тарелки (по количеству собравшихся). На мелкую тарелку ставят закусочную, а с левой стороны можно поставить пирожковую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2. Справа от мелкой тарелки кладут нож (лезвием к тарелке) и ложку, с левой стороны - вилку (и ложки и вилку - выпуклой стороной вниз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3. Закусочные и рыбные приборы добавляют в особо парадных случаях. Закусочную и рыбную вилку кладут рядом со столовой с левой стороны, закусочный и рыбный нож рядом со столовым - справ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4. На противоположных сторонах стола размещают хлебницы с    тонкими ломтиками черного и белого хлеб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5. Ко всем блюдам с закусками подают общие приборы - лопатки, ложки, щипцы, вилк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6. Графины с напитками ставят в разных местах стола, ближе к центру. Сервировку стола заканчивают расстановкой приборов со специям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9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9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9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9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з ист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087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800" spc="-1" strike="noStrike">
                <a:solidFill>
                  <a:srgbClr val="ffcc99"/>
                </a:solidFill>
                <a:latin typeface="Verdana"/>
              </a:rPr>
              <a:t>Карл Великий, живший с 744 по 814 год, возродил традиции греков и римлян и превратил застолье в пышный ритуал. Во время еды он слушал музыку или ему читали вслух. Свои праздники Карл Великий устраивал с большим размахом.   Зал украшали коврами, еду подавали на золотых блюдах. Мясо за столом ели с помощью маленьких ножей, поскольку ложек было мало. О развлечении гостей заботились многочисленные певцы, шуты и танцовщицы. После праздника, прощаясь с гостями, Карл преподносил им богатые подарк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10" descr="33"/>
          <p:cNvPicPr/>
          <p:nvPr/>
        </p:nvPicPr>
        <p:blipFill>
          <a:blip r:embed="rId1"/>
          <a:stretch/>
        </p:blipFill>
        <p:spPr>
          <a:xfrm>
            <a:off x="2484360" y="3429000"/>
            <a:ext cx="4392720" cy="32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2920" y="-243000"/>
            <a:ext cx="72802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Пример сервировк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16"/>
          <p:cNvPicPr/>
          <p:nvPr/>
        </p:nvPicPr>
        <p:blipFill>
          <a:blip r:embed="rId1"/>
          <a:stretch/>
        </p:blipFill>
        <p:spPr>
          <a:xfrm>
            <a:off x="1619280" y="1197000"/>
            <a:ext cx="6337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55640" y="188640"/>
            <a:ext cx="792792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Цветы и фрук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На праздничном столе хорошо выглядят фрукты. Ваза для фруктов может быть дорогой, нарядной. Но такая ваза не должна быть выше уровня цветов.       Цветы и фрукты — общее украшение стол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4" descr="50"/>
          <p:cNvPicPr/>
          <p:nvPr/>
        </p:nvPicPr>
        <p:blipFill>
          <a:blip r:embed="rId1"/>
          <a:stretch/>
        </p:blipFill>
        <p:spPr>
          <a:xfrm>
            <a:off x="6443640" y="3213000"/>
            <a:ext cx="2533680" cy="3378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51"/>
          <p:cNvPicPr/>
          <p:nvPr/>
        </p:nvPicPr>
        <p:blipFill>
          <a:blip r:embed="rId2"/>
          <a:stretch/>
        </p:blipFill>
        <p:spPr>
          <a:xfrm>
            <a:off x="108000" y="393372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52"/>
          <p:cNvPicPr/>
          <p:nvPr/>
        </p:nvPicPr>
        <p:blipFill>
          <a:blip r:embed="rId3"/>
          <a:stretch/>
        </p:blipFill>
        <p:spPr>
          <a:xfrm>
            <a:off x="2916360" y="2349360"/>
            <a:ext cx="3384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26920" y="549360"/>
            <a:ext cx="785664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Свеч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На особые торжества, такие как Рождество, пасха, свадьба, принято украшать стол свечами, которые ставят в металлические или стеклянные подсвечники. Свечи можно включать и в цветочную композицию. Главное, чтобы они сочетались с общей сервировкой стол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63"/>
          <p:cNvPicPr/>
          <p:nvPr/>
        </p:nvPicPr>
        <p:blipFill>
          <a:blip r:embed="rId1"/>
          <a:stretch/>
        </p:blipFill>
        <p:spPr>
          <a:xfrm>
            <a:off x="5651640" y="2924280"/>
            <a:ext cx="3286080" cy="3821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56"/>
          <p:cNvPicPr/>
          <p:nvPr/>
        </p:nvPicPr>
        <p:blipFill>
          <a:blip r:embed="rId2"/>
          <a:stretch/>
        </p:blipFill>
        <p:spPr>
          <a:xfrm>
            <a:off x="324000" y="3573360"/>
            <a:ext cx="476856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799920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ff9900"/>
                </a:solidFill>
                <a:latin typeface="Verdana"/>
              </a:rPr>
              <a:t>Что должно включать в себя праздничное  мен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ffcc99"/>
                </a:solidFill>
                <a:latin typeface="Verdana"/>
              </a:rPr>
              <a:t>Большое место на праздничном столе отводится разнообразным холодным закускам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ffcc99"/>
                </a:solidFill>
                <a:latin typeface="Verdana"/>
              </a:rPr>
              <a:t>Очень небольшие порции супа или бульона с пирожком уместны в меню праздничных обедов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ffcc99"/>
                </a:solidFill>
                <a:latin typeface="Verdana"/>
              </a:rPr>
              <a:t>Главным как для обеда, так и для ужина следует считать жареное или тушеное блюдо из мяса или птицы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ffcc99"/>
                </a:solidFill>
                <a:latin typeface="Verdana"/>
              </a:rPr>
              <a:t>Завершают стол десертные блюда. Приятным добавлением к еде после некоторого перерыва послужит чашка кофе или чая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ffcc99"/>
                </a:solidFill>
                <a:latin typeface="Verdana"/>
              </a:rPr>
              <a:t>Особое место в меню праздничного стола принадлежит напиткам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ffcc99"/>
                </a:solidFill>
                <a:latin typeface="Verdana"/>
              </a:rPr>
              <a:t>Меню праздничного ужина отличается от обеденного не только тем, что в него не входят супы. В особо парадных случаях на ужин подают два вторых горячих блюда! Набор закусок к праздничному ужину, как правило, разнообразнее. 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Положение приборов – еда прерва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4" descr="File0231"/>
          <p:cNvPicPr/>
          <p:nvPr/>
        </p:nvPicPr>
        <p:blipFill>
          <a:blip r:embed="rId1"/>
          <a:stretch/>
        </p:blipFill>
        <p:spPr>
          <a:xfrm>
            <a:off x="1042920" y="1484280"/>
            <a:ext cx="7939080" cy="3917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9-20"/>
          <p:cNvPicPr/>
          <p:nvPr/>
        </p:nvPicPr>
        <p:blipFill>
          <a:blip r:embed="rId2"/>
          <a:stretch/>
        </p:blipFill>
        <p:spPr>
          <a:xfrm>
            <a:off x="108000" y="4869000"/>
            <a:ext cx="141768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Положение приборов – еда оконче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File0230"/>
          <p:cNvPicPr/>
          <p:nvPr/>
        </p:nvPicPr>
        <p:blipFill>
          <a:blip r:embed="rId1"/>
          <a:stretch/>
        </p:blipFill>
        <p:spPr>
          <a:xfrm>
            <a:off x="1116000" y="1484280"/>
            <a:ext cx="7799400" cy="4232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9-20"/>
          <p:cNvPicPr/>
          <p:nvPr/>
        </p:nvPicPr>
        <p:blipFill>
          <a:blip r:embed="rId2"/>
          <a:stretch/>
        </p:blipFill>
        <p:spPr>
          <a:xfrm>
            <a:off x="108000" y="4869000"/>
            <a:ext cx="141768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8002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Правила поведения за столо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1. Не опаздывай, будучи приглашённым на обед, завтрак, ужин, ча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2. Не садись за стол, пока не сядут дамы или пока хозяин или хозяйка не пригласят занять мест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3. Не сиди слишком близко к столу или слишком далеко от нег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4. Салфетку следует класть на колен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5. Не ешь суп с конца ложк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6. Не сгибайся над тарелкой. Держись по возможности прям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7. Если хочешь достать что-либо, не тянись через тарелку другого. Не бери хлеб вилкой, бери руко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2500" spc="-1" strike="noStrike">
                <a:solidFill>
                  <a:srgbClr val="ffcc99"/>
                </a:solidFill>
                <a:latin typeface="Verdana"/>
              </a:rPr>
              <a:t>8. Не ешь слишком быстро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2500" spc="-1" strike="noStrike">
                <a:solidFill>
                  <a:srgbClr val="ffcc99"/>
                </a:solidFill>
                <a:latin typeface="Verdana"/>
              </a:rPr>
              <a:t>9. Не наполняй рот большим количеством пищи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2500" spc="-1" strike="noStrike">
                <a:solidFill>
                  <a:srgbClr val="ffcc99"/>
                </a:solidFill>
                <a:latin typeface="Verdana"/>
              </a:rPr>
              <a:t>10. Не расставляй локти. Локти должны быть прижаты к бокам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2500" spc="-1" strike="noStrike">
                <a:solidFill>
                  <a:srgbClr val="ffcc99"/>
                </a:solidFill>
                <a:latin typeface="Verdana"/>
              </a:rPr>
              <a:t>11. Не ставь локти на стол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2500" spc="-1" strike="noStrike">
                <a:solidFill>
                  <a:srgbClr val="ffcc99"/>
                </a:solidFill>
                <a:latin typeface="Verdana"/>
              </a:rPr>
              <a:t>12. Не поднимай стакан или бокал слишком высоко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2500" spc="-1" strike="noStrike">
                <a:solidFill>
                  <a:srgbClr val="ffcc99"/>
                </a:solidFill>
                <a:latin typeface="Verdana"/>
              </a:rPr>
              <a:t>13. Не ешь ложкой то, что можно есть вилкой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2500" spc="-1" strike="noStrike">
                <a:solidFill>
                  <a:srgbClr val="ffcc99"/>
                </a:solidFill>
                <a:latin typeface="Verdana"/>
              </a:rPr>
              <a:t>14. Не старайся зачерпнуть последнюю ложку супа, съесть последний кусочек мяса и т. д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4000" y="620280"/>
            <a:ext cx="8002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15. Не играй салфеткой, вилкой и другими столовыми принадлежностя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16. Не поворачивайся спиной к другому, если намерен поговорить с соседом. Не разговаривай с другим через соседа. Не разговаривай с полным рто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17. Не откидывайся и не разваливайся на стул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cc99"/>
                </a:solidFill>
                <a:latin typeface="Verdana"/>
              </a:rPr>
              <a:t>18. Старайся всегда быть спокойны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6438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С XI века к трапезам начали допускать и женщин; поведение гостей во время застолий сразу же стало более цивилизованным. За столом сидели парами и пользовались одним кубком и блюдом на двоих. Стол украшала скатерть, о которую, однако, можно было вытирать руки. Тому, как вести себя за столом, учили особые правила: рекомендовалось не вытирать жирные пальцы о праздничную одежду, есть и пить не спеш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Важной принадлежностью стола была роскошно украшенная солонка. Она всегда была закрыта и охранялась, поскольку все боялись возможных попыток отравления: господствовало мнение, что в соли яд нельзя обнаружи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Picture 5" descr="9-20"/>
          <p:cNvPicPr/>
          <p:nvPr/>
        </p:nvPicPr>
        <p:blipFill>
          <a:blip r:embed="rId1"/>
          <a:stretch/>
        </p:blipFill>
        <p:spPr>
          <a:xfrm>
            <a:off x="250920" y="4437000"/>
            <a:ext cx="163512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403280" y="1557360"/>
            <a:ext cx="3889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Кульминацией праздничного застолья был жареный павлин, лебедь или фазан, которого вносили, украсив его собственным же оперение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Picture 6" descr="35"/>
          <p:cNvPicPr/>
          <p:nvPr/>
        </p:nvPicPr>
        <p:blipFill>
          <a:blip r:embed="rId1"/>
          <a:stretch/>
        </p:blipFill>
        <p:spPr>
          <a:xfrm>
            <a:off x="5651640" y="1484280"/>
            <a:ext cx="3047760" cy="504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9-20"/>
          <p:cNvPicPr/>
          <p:nvPr/>
        </p:nvPicPr>
        <p:blipFill>
          <a:blip r:embed="rId2"/>
          <a:stretch/>
        </p:blipFill>
        <p:spPr>
          <a:xfrm>
            <a:off x="250920" y="4508640"/>
            <a:ext cx="163512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4608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cc99"/>
                </a:solidFill>
                <a:latin typeface="Verdana"/>
              </a:rPr>
              <a:t>      </a:t>
            </a:r>
            <a:r>
              <a:rPr b="0" lang="ru-RU" sz="1900" spc="-1" strike="noStrike">
                <a:solidFill>
                  <a:srgbClr val="ffcc99"/>
                </a:solidFill>
                <a:latin typeface="Verdana"/>
              </a:rPr>
              <a:t>Культура застолий играла все большую роль. Рыцарь должен был знать очень многое, чтобы достойно вести себя за столом. Правилами хорошего тона запрещалось разговаривать с полным ртом и выхватывать у соседа из-под носа лучший кусок. Дамы должны были хорошо поесть заранее, дабы на пиру с чистой душой и без внутренних терзаний предлагать рыцарям лучшие куски мяса. Строго соблюдался порядок рассаживания гостей; в торце широкого стола сидел хозяин дома, за особыми столами - его семья и почётные гости. Остальные гости сидели на простых скамьях вдоль стен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8" descr="34"/>
          <p:cNvPicPr/>
          <p:nvPr/>
        </p:nvPicPr>
        <p:blipFill>
          <a:blip r:embed="rId1"/>
          <a:stretch/>
        </p:blipFill>
        <p:spPr>
          <a:xfrm>
            <a:off x="5148360" y="836640"/>
            <a:ext cx="382104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69800" y="475920"/>
            <a:ext cx="7313400" cy="54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9900"/>
                </a:solidFill>
                <a:latin typeface="Verdana"/>
              </a:rPr>
              <a:t>Современный дизайн в оформлении праздничного  стол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4" descr="18"/>
          <p:cNvPicPr/>
          <p:nvPr/>
        </p:nvPicPr>
        <p:blipFill>
          <a:blip r:embed="rId1"/>
          <a:stretch/>
        </p:blipFill>
        <p:spPr>
          <a:xfrm>
            <a:off x="1547640" y="1844640"/>
            <a:ext cx="6696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403280" y="620640"/>
            <a:ext cx="7561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2100" spc="-1" strike="noStrike">
                <a:solidFill>
                  <a:srgbClr val="ffcc99"/>
                </a:solidFill>
                <a:latin typeface="Verdana"/>
              </a:rPr>
              <a:t>Роль пищи не ограничивается тем, что она является средством для обеспечения жизненно необходимых потребностей человека. Пища способна давать нам и эстетическое наслаждение своим видом, вкусом, ароматом. Если же наслаждение вызвано еще и одновременным общением с друзьями, близкими и интересными нам людьми, оно становится праздником. Недаром все торжественные случаи в нашей жизни, как правило, отмечаются праздничным столом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cc99"/>
                </a:solidFill>
                <a:latin typeface="Verdana"/>
              </a:rPr>
              <a:t>        </a:t>
            </a:r>
            <a:r>
              <a:rPr b="0" lang="ru-RU" sz="2100" spc="-1" strike="noStrike">
                <a:solidFill>
                  <a:srgbClr val="ffcc99"/>
                </a:solidFill>
                <a:latin typeface="Verdana"/>
              </a:rPr>
              <a:t>Праздничный стол - всегда приятное событие, хотя и хлопотное, и утомительное для тех, кто его готовит. Подготовить праздничный стол далеко не простое дело. Оно требует мастерства, чувства меры, такта, изящества и многого другого, без чего невозможно создать здоровую праздничную обстановку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7" descr="9-20"/>
          <p:cNvPicPr/>
          <p:nvPr/>
        </p:nvPicPr>
        <p:blipFill>
          <a:blip r:embed="rId1"/>
          <a:stretch/>
        </p:blipFill>
        <p:spPr>
          <a:xfrm>
            <a:off x="108000" y="4437000"/>
            <a:ext cx="1689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333360"/>
            <a:ext cx="7927920" cy="56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Оформление праздничного стола должно соответствовать событию, которому оно посвящаетс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4" descr="30"/>
          <p:cNvPicPr/>
          <p:nvPr/>
        </p:nvPicPr>
        <p:blipFill>
          <a:blip r:embed="rId1"/>
          <a:stretch/>
        </p:blipFill>
        <p:spPr>
          <a:xfrm>
            <a:off x="2700360" y="1198440"/>
            <a:ext cx="4319640" cy="2874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31"/>
          <p:cNvPicPr/>
          <p:nvPr/>
        </p:nvPicPr>
        <p:blipFill>
          <a:blip r:embed="rId2"/>
          <a:stretch/>
        </p:blipFill>
        <p:spPr>
          <a:xfrm>
            <a:off x="468360" y="427500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32"/>
          <p:cNvPicPr/>
          <p:nvPr/>
        </p:nvPicPr>
        <p:blipFill>
          <a:blip r:embed="rId3"/>
          <a:stretch/>
        </p:blipFill>
        <p:spPr>
          <a:xfrm>
            <a:off x="5508720" y="4292640"/>
            <a:ext cx="31957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1280" y="188640"/>
            <a:ext cx="842472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ru-RU" sz="2900" spc="-1" strike="noStrike">
                <a:solidFill>
                  <a:srgbClr val="ff9900"/>
                </a:solidFill>
                <a:latin typeface="Verdana"/>
              </a:rPr>
              <a:t>Скатерти и салфетки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Они должны хорошо сочетаться с интерьером зала и сервировкой стола. Современный дизайн позволяет использовать две скатерти. Нижняя является связующим элементом с интерьером зала. Сверху её закрывают белой скатертью (или наоборот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ffcc99"/>
                </a:solidFill>
                <a:latin typeface="Verdana"/>
              </a:rPr>
              <a:t>Для украшения стола используют салфетки в тон скатерти или сочетающиеся по цвету с основным элементом украшения стола (гирлянды или букетики цветов, свечи и т.д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3"/>
          <p:cNvPicPr/>
          <p:nvPr/>
        </p:nvPicPr>
        <p:blipFill>
          <a:blip r:embed="rId1"/>
          <a:stretch/>
        </p:blipFill>
        <p:spPr>
          <a:xfrm>
            <a:off x="4716360" y="353700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9-20"/>
          <p:cNvPicPr/>
          <p:nvPr/>
        </p:nvPicPr>
        <p:blipFill>
          <a:blip r:embed="rId2"/>
          <a:stretch/>
        </p:blipFill>
        <p:spPr>
          <a:xfrm>
            <a:off x="250920" y="4437000"/>
            <a:ext cx="168912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9-20"/>
          <p:cNvPicPr/>
          <p:nvPr/>
        </p:nvPicPr>
        <p:blipFill>
          <a:blip r:embed="rId3"/>
          <a:stretch/>
        </p:blipFill>
        <p:spPr>
          <a:xfrm>
            <a:off x="250920" y="4437000"/>
            <a:ext cx="1689120" cy="2232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9-20"/>
          <p:cNvPicPr/>
          <p:nvPr/>
        </p:nvPicPr>
        <p:blipFill>
          <a:blip r:embed="rId4"/>
          <a:stretch/>
        </p:blipFill>
        <p:spPr>
          <a:xfrm>
            <a:off x="250920" y="4437000"/>
            <a:ext cx="1689120" cy="223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9-20"/>
          <p:cNvPicPr/>
          <p:nvPr/>
        </p:nvPicPr>
        <p:blipFill>
          <a:blip r:embed="rId5"/>
          <a:stretch/>
        </p:blipFill>
        <p:spPr>
          <a:xfrm>
            <a:off x="250920" y="4437000"/>
            <a:ext cx="1689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7:07:05Z</dcterms:created>
  <dc:creator>Customer</dc:creator>
  <dc:description/>
  <dc:language>en-US</dc:language>
  <cp:lastModifiedBy>Лариса</cp:lastModifiedBy>
  <dcterms:modified xsi:type="dcterms:W3CDTF">2015-02-22T05:56:48Z</dcterms:modified>
  <cp:revision>10</cp:revision>
  <dc:subject/>
  <dc:title>Слайд 1</dc:title>
</cp:coreProperties>
</file>