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26.jpeg" ContentType="image/jpeg"/>
  <Override PartName="/ppt/media/image35.png" ContentType="image/png"/>
  <Override PartName="/ppt/media/image8.jpeg" ContentType="image/jpeg"/>
  <Override PartName="/ppt/media/image10.jpeg" ContentType="image/jpeg"/>
  <Override PartName="/ppt/media/image7.gif" ContentType="image/gif"/>
  <Override PartName="/ppt/media/image37.gif" ContentType="image/gif"/>
  <Override PartName="/ppt/media/image29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33.gif" ContentType="image/gif"/>
  <Override PartName="/ppt/media/image18.jpeg" ContentType="image/jpeg"/>
  <Override PartName="/ppt/media/image34.gif" ContentType="image/gif"/>
  <Override PartName="/ppt/media/image38.jpeg" ContentType="image/jpeg"/>
  <Override PartName="/ppt/media/image5.gif" ContentType="image/gif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6;&#1088;&#1090;" TargetMode="External"/><Relationship Id="rId2" Type="http://schemas.openxmlformats.org/officeDocument/2006/relationships/hyperlink" Target="http://ru.wikipedia.org/wiki/&#1056;&#1091;&#1083;&#1077;&#1090;" TargetMode="External"/><Relationship Id="rId3" Type="http://schemas.openxmlformats.org/officeDocument/2006/relationships/hyperlink" Target="http://ru.wikipedia.org/wiki/&#1055;&#1080;&#1088;&#1086;&#1078;&#1085;&#1086;&#1077;" TargetMode="External"/><Relationship Id="rId4" Type="http://schemas.openxmlformats.org/officeDocument/2006/relationships/hyperlink" Target="http://ru.wikipedia.org/wiki/&#1044;&#1088;&#1086;&#1078;&#1078;&#1077;&#1074;&#1086;&#1077;_&#1090;&#1077;&#1089;&#1090;&#1086;" TargetMode="External"/><Relationship Id="rId5" Type="http://schemas.openxmlformats.org/officeDocument/2006/relationships/hyperlink" Target="http://ru.wikipedia.org/wiki/&#1047;&#1072;&#1074;&#1072;&#1088;&#1085;&#1086;&#1077;_&#1090;&#1077;&#1089;&#1090;&#1086;" TargetMode="External"/><Relationship Id="rId6" Type="http://schemas.openxmlformats.org/officeDocument/2006/relationships/hyperlink" Target="http://ru.wikipedia.org/wiki/&#1055;&#1080;&#1088;&#1086;&#1078;&#1085;&#1086;&#1077;" TargetMode="External"/><Relationship Id="rId7" Type="http://schemas.openxmlformats.org/officeDocument/2006/relationships/hyperlink" Target="http://ru.wikipedia.org/w/index.php?title=&#1050;&#1080;&#1089;&#1083;&#1086;&#1077;_&#1090;&#1077;&#1089;&#1090;&#1086;&amp;action=edit&amp;redlink=1" TargetMode="External"/><Relationship Id="rId8" Type="http://schemas.openxmlformats.org/officeDocument/2006/relationships/hyperlink" Target="http://ru.wikipedia.org/wiki/&#1055;&#1077;&#1089;&#1086;&#1095;&#1085;&#1086;&#1077;_&#1090;&#1077;&#1089;&#1090;&#1086;" TargetMode="External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d76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Творческий проект по технологи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435640" y="3715920"/>
            <a:ext cx="302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stellar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stellar"/>
              </a:rPr>
              <a:t>Балдуева Анна,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stellar"/>
              </a:rPr>
              <a:t>ученица 9-б класс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stellar"/>
              </a:rPr>
              <a:t>                                                          </a:t>
            </a:r>
            <a:r>
              <a:rPr b="1" lang="ru-RU" sz="1800" spc="-1" strike="noStrike">
                <a:solidFill>
                  <a:srgbClr val="cc0000"/>
                </a:solidFill>
                <a:latin typeface="Castellar"/>
              </a:rPr>
              <a:t>Учитель: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stellar"/>
              </a:rPr>
              <a:t>Волкова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stellar"/>
              </a:rPr>
              <a:t>Лариса Александровна</a:t>
            </a:r>
            <a:r>
              <a:rPr b="0" lang="ru-RU" sz="1800" spc="-1" strike="noStrike">
                <a:solidFill>
                  <a:srgbClr val="ff0000"/>
                </a:solidFill>
                <a:latin typeface="Castella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24000" y="3789360"/>
            <a:ext cx="5545080" cy="2381400"/>
          </a:xfrm>
          <a:prstGeom prst="rect">
            <a:avLst/>
          </a:prstGeom>
          <a:ln w="0">
            <a:noFill/>
          </a:ln>
        </p:spPr>
      </p:pic>
      <p:sp>
        <p:nvSpPr>
          <p:cNvPr id="60" name="WordArt 7"/>
          <p:cNvSpPr txBox="1"/>
          <p:nvPr/>
        </p:nvSpPr>
        <p:spPr>
          <a:xfrm>
            <a:off x="971640" y="1700280"/>
            <a:ext cx="633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зготовление печенья из песочного теста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286160" y="600084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гнитогорск,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42037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Narrow"/>
              </a:rPr>
              <a:t>Виды тест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379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-300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stellar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stellar"/>
              </a:rPr>
              <a:t>Бисквитное тесто — используется преимущественно при приготовлении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Castellar"/>
                <a:hlinkClick r:id="rId1"/>
              </a:rPr>
              <a:t>тортов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stellar"/>
              </a:rPr>
              <a:t>  ,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Castellar"/>
                <a:hlinkClick r:id="rId2"/>
              </a:rPr>
              <a:t>рулетов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stellar"/>
              </a:rPr>
              <a:t>   и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Castellar"/>
                <a:hlinkClick r:id="rId3"/>
              </a:rPr>
              <a:t>пирожных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stellar"/>
              </a:rPr>
              <a:t>  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-300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stellar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Castellar"/>
                <a:hlinkClick r:id="rId4"/>
              </a:rPr>
              <a:t>Дрожжевое тесто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astellar"/>
              </a:rPr>
              <a:t> 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stellar"/>
              </a:rPr>
              <a:t> — используется при изготовлении многих видов 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-300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stellar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Castellar"/>
                <a:hlinkClick r:id="rId5"/>
              </a:rPr>
              <a:t>Заварное тесто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astellar"/>
              </a:rPr>
              <a:t> 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stellar"/>
              </a:rPr>
              <a:t> — используется при изготовлении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Castellar"/>
                <a:hlinkClick r:id="rId6"/>
              </a:rPr>
              <a:t>пирожных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stellar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-300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stellar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Castellar"/>
                <a:hlinkClick r:id="rId7"/>
              </a:rPr>
              <a:t>Кислое тесто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stellar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-300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stellar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Castellar"/>
                <a:hlinkClick r:id="rId8"/>
              </a:rPr>
              <a:t>Песочное тесто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astellar"/>
              </a:rPr>
              <a:t> 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stellar"/>
              </a:rPr>
              <a:t> — используется при изготовлении основ для печенья  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-300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stellar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astellar"/>
              </a:rPr>
              <a:t>Пресное тесто 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stellar"/>
              </a:rPr>
              <a:t> — используется при изготовлении пельменей  , пиццы 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-300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stellar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astellar"/>
              </a:rPr>
              <a:t>Сдобное тесто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stellar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-300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stellar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astellar"/>
              </a:rPr>
              <a:t>Слоёное тесто 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stellar"/>
              </a:rPr>
              <a:t> — используется при изготовлении слоек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-300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stellar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astellar"/>
              </a:rPr>
              <a:t>Хлебное тесто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9"/>
          <a:stretch/>
        </p:blipFill>
        <p:spPr>
          <a:xfrm>
            <a:off x="4284720" y="1643040"/>
            <a:ext cx="417492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51120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mic"/>
              </a:rPr>
              <a:t>Изготовление печенья «Персики»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96000" y="765000"/>
            <a:ext cx="26827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stellar"/>
              </a:rPr>
              <a:t>Ингредиенты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189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Маргарин молочный- 250г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189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Яйца – 2 шт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189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Сахар – 200г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189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Сметана -2 ст.л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189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Мука -3-4 стакана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189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Сода -1/2 ч.л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189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stellar"/>
              </a:rPr>
              <a:t>Для крема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189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Масло сливочное -180г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189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Сгущенное молоко – 100г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189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stellar"/>
              </a:rPr>
              <a:t>Для декорирования печенья: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189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Сок моркови -50г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189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Сок свёклы -20г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189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Сахар – 100г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189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39640" y="1674720"/>
            <a:ext cx="5112000" cy="39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618920" y="620640"/>
            <a:ext cx="6057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astellar"/>
              </a:rPr>
              <a:t>1.</a:t>
            </a:r>
            <a:r>
              <a:rPr b="0" lang="ru-RU" sz="2000" spc="-1" strike="noStrike">
                <a:solidFill>
                  <a:srgbClr val="3333cc"/>
                </a:solidFill>
                <a:latin typeface="Castellar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astellar"/>
              </a:rPr>
              <a:t>В</a:t>
            </a:r>
            <a:r>
              <a:rPr b="0" lang="ru-RU" sz="2000" spc="-1" strike="noStrike">
                <a:solidFill>
                  <a:srgbClr val="3333cc"/>
                </a:solidFill>
                <a:latin typeface="Castellar"/>
              </a:rPr>
              <a:t> глубокой кастрюле или чашке разогреть маргарин. Дать ему немного остыть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4032000" cy="432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374472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403280" y="549000"/>
            <a:ext cx="651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Castellar"/>
              </a:rPr>
              <a:t>2</a:t>
            </a:r>
            <a:r>
              <a:rPr b="0" lang="ru-RU" sz="2000" spc="-1" strike="noStrike">
                <a:solidFill>
                  <a:srgbClr val="3333cc"/>
                </a:solidFill>
                <a:latin typeface="Castellar"/>
              </a:rPr>
              <a:t>. В остывший маргарин положить </a:t>
            </a:r>
            <a:r>
              <a:rPr b="1" lang="ru-RU" sz="2000" spc="-1" strike="noStrike">
                <a:solidFill>
                  <a:srgbClr val="3333cc"/>
                </a:solidFill>
                <a:latin typeface="Castellar"/>
              </a:rPr>
              <a:t>2</a:t>
            </a:r>
            <a:r>
              <a:rPr b="0" lang="ru-RU" sz="2000" spc="-1" strike="noStrike">
                <a:solidFill>
                  <a:srgbClr val="3333cc"/>
                </a:solidFill>
                <a:latin typeface="Castellar"/>
              </a:rPr>
              <a:t> ст. л. сметаны, желтки, предварительно  отделив их от белк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743280" cy="453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37450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64000" y="1699920"/>
            <a:ext cx="261792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Castellar"/>
              </a:rPr>
              <a:t>3.</a:t>
            </a:r>
            <a:r>
              <a:rPr b="0" lang="ru-RU" sz="2000" spc="-1" strike="noStrike">
                <a:solidFill>
                  <a:srgbClr val="3333cc"/>
                </a:solidFill>
                <a:latin typeface="Castellar"/>
              </a:rPr>
              <a:t> Белки со стаканом сахара взбить в густую пену и аккуратно выложить в тесто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Castellar"/>
              </a:rPr>
              <a:t>    </a:t>
            </a:r>
            <a:r>
              <a:rPr b="0" lang="ru-RU" sz="2000" spc="-1" strike="noStrike">
                <a:solidFill>
                  <a:srgbClr val="3333cc"/>
                </a:solidFill>
                <a:latin typeface="Castellar"/>
              </a:rPr>
              <a:t>Снова всё хорошо перемешать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4248000" cy="54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6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89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1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2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3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94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d76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858920" y="620280"/>
            <a:ext cx="374508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Monotype Corsiva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astellar"/>
              </a:rPr>
              <a:t>.</a:t>
            </a:r>
            <a:r>
              <a:rPr b="0" lang="ru-RU" sz="2000" spc="-1" strike="noStrike">
                <a:solidFill>
                  <a:srgbClr val="3333cc"/>
                </a:solidFill>
                <a:latin typeface="Castellar"/>
              </a:rPr>
              <a:t> Добавить просеянную муку и замесить тесто. Оно должно быть эластичным и хорошо отлипать от рук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4103640" cy="561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003640" y="3213000"/>
            <a:ext cx="345600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76"/>
            </a:gs>
            <a:gs pos="50000">
              <a:srgbClr val="ffccff"/>
            </a:gs>
            <a:gs pos="100000">
              <a:srgbClr val="76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379404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astellar"/>
              </a:rPr>
              <a:t>5</a:t>
            </a:r>
            <a:r>
              <a:rPr b="0" lang="en-US" sz="2000" spc="-1" strike="noStrike">
                <a:solidFill>
                  <a:srgbClr val="3333cc"/>
                </a:solidFill>
                <a:latin typeface="Castellar"/>
              </a:rPr>
              <a:t>.</a:t>
            </a:r>
            <a:r>
              <a:rPr b="0" lang="ru-RU" sz="2000" spc="-1" strike="noStrike">
                <a:solidFill>
                  <a:srgbClr val="3333cc"/>
                </a:solidFill>
                <a:latin typeface="Castellar"/>
              </a:rPr>
              <a:t> Готовое тесто разделить, положить в пищевую фольгу</a:t>
            </a:r>
            <a:r>
              <a:rPr b="0" lang="en-US" sz="2000" spc="-1" strike="noStrike">
                <a:solidFill>
                  <a:srgbClr val="3333cc"/>
                </a:solidFill>
                <a:latin typeface="Castellar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Castellar"/>
              </a:rPr>
              <a:t>или пакет и убрать в холодильную камеру на 30 мину</a:t>
            </a:r>
            <a:r>
              <a:rPr b="0" lang="en-US" sz="2000" spc="-1" strike="noStrike">
                <a:solidFill>
                  <a:srgbClr val="3333cc"/>
                </a:solidFill>
                <a:latin typeface="Castellar"/>
              </a:rPr>
              <a:t>. </a:t>
            </a:r>
            <a:r>
              <a:rPr b="0" lang="ru-RU" sz="2000" spc="-1" strike="noStrike">
                <a:solidFill>
                  <a:srgbClr val="3333cc"/>
                </a:solidFill>
                <a:latin typeface="Castellar"/>
              </a:rPr>
              <a:t>Я обычно готовлю тесто для печенья с запасом</a:t>
            </a:r>
            <a:r>
              <a:rPr b="0" lang="en-US" sz="2000" spc="-1" strike="noStrike">
                <a:solidFill>
                  <a:srgbClr val="3333cc"/>
                </a:solidFill>
                <a:latin typeface="Castellar"/>
              </a:rPr>
              <a:t> и </a:t>
            </a:r>
            <a:r>
              <a:rPr b="0" lang="ru-RU" sz="2000" spc="-1" strike="noStrike">
                <a:solidFill>
                  <a:srgbClr val="3333cc"/>
                </a:solidFill>
                <a:latin typeface="Castellar"/>
              </a:rPr>
              <a:t>оставшееся тесто оставляю в морозилке</a:t>
            </a:r>
            <a:r>
              <a:rPr b="0" lang="en-US" sz="2000" spc="-1" strike="noStrike">
                <a:solidFill>
                  <a:srgbClr val="3333cc"/>
                </a:solidFill>
                <a:latin typeface="Castellar"/>
              </a:rPr>
              <a:t>.</a:t>
            </a:r>
            <a:r>
              <a:rPr b="0" lang="ru-RU" sz="2000" spc="-1" strike="noStrike">
                <a:solidFill>
                  <a:srgbClr val="3333cc"/>
                </a:solidFill>
                <a:latin typeface="Castellar"/>
              </a:rPr>
              <a:t> Оно может храниться там 2-3 месяца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Castellar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Castellar"/>
              </a:rPr>
              <a:t>В любой момент можно достать готовое тесто, оттаять при комнатной температуре</a:t>
            </a:r>
            <a:r>
              <a:rPr b="0" lang="en-US" sz="2000" spc="-1" strike="noStrike">
                <a:solidFill>
                  <a:srgbClr val="3333cc"/>
                </a:solidFill>
                <a:latin typeface="Castellar"/>
              </a:rPr>
              <a:t> и </a:t>
            </a:r>
            <a:r>
              <a:rPr b="0" lang="ru-RU" sz="2000" spc="-1" strike="noStrike">
                <a:solidFill>
                  <a:srgbClr val="3333cc"/>
                </a:solidFill>
                <a:latin typeface="Castellar"/>
              </a:rPr>
              <a:t>испечь печенье или торт</a:t>
            </a:r>
            <a:r>
              <a:rPr b="0" lang="en-US" sz="2000" spc="-1" strike="noStrike">
                <a:solidFill>
                  <a:srgbClr val="3333cc"/>
                </a:solidFill>
                <a:latin typeface="Castellar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716360" y="836640"/>
            <a:ext cx="374328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47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427640" y="549360"/>
            <a:ext cx="4014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2000" spc="-1" strike="noStrike">
                <a:solidFill>
                  <a:srgbClr val="3333cc"/>
                </a:solidFill>
                <a:latin typeface="Castellar"/>
              </a:rPr>
              <a:t>6.</a:t>
            </a:r>
            <a:r>
              <a:rPr b="0" lang="ru-RU" sz="2000" spc="-1" strike="noStrike">
                <a:solidFill>
                  <a:srgbClr val="3333cc"/>
                </a:solidFill>
                <a:latin typeface="Castellar"/>
              </a:rPr>
              <a:t> Далее тесто скатать в валик, нарезать на кусочки, каждому придать форму шарика, выложить на противень. Выпекать при температуре </a:t>
            </a:r>
            <a:r>
              <a:rPr b="1" lang="ru-RU" sz="2000" spc="-1" strike="noStrike">
                <a:solidFill>
                  <a:srgbClr val="3333cc"/>
                </a:solidFill>
                <a:latin typeface="Castellar"/>
              </a:rPr>
              <a:t>220</a:t>
            </a:r>
            <a:r>
              <a:rPr b="0" lang="ru-RU" sz="2000" spc="-1" strike="noStrike">
                <a:solidFill>
                  <a:srgbClr val="3333cc"/>
                </a:solidFill>
                <a:latin typeface="Castellar"/>
              </a:rPr>
              <a:t> градусов 10мин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15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3600360" cy="532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388764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6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6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6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6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47"/>
            </a:gs>
            <a:gs pos="50000">
              <a:srgbClr val="ccff99"/>
            </a:gs>
            <a:gs pos="100000">
              <a:srgbClr val="5e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4103640" cy="5400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5219640" y="1484280"/>
            <a:ext cx="32194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Monotype Corsiva"/>
              </a:rPr>
              <a:t>7. Печенье вынуть из духовки, дать ему остыть. Острым ножом вырезать серединку ( её можно перемолоть, добавить порошок какао, сливочного масла, орешков, придать форму колбаски и поставить на 40мин. в холодильник – вот и ещё одно печенье!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428840" y="2133720"/>
            <a:ext cx="6572160" cy="4086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900000" y="836640"/>
            <a:ext cx="7272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Castellar"/>
              </a:rPr>
              <a:t>8</a:t>
            </a:r>
            <a:r>
              <a:rPr b="0" lang="ru-RU" sz="2000" spc="-1" strike="noStrike">
                <a:solidFill>
                  <a:srgbClr val="3333cc"/>
                </a:solidFill>
                <a:latin typeface="Castellar"/>
              </a:rPr>
              <a:t>. Серединку печенья заполнить кремом. Им же склеить две половинки будущего перс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Обоснование возникшей проблемы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50920" y="1268280"/>
            <a:ext cx="568944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"/>
              </a:rPr>
              <a:t>              </a:t>
            </a:r>
            <a:r>
              <a:rPr b="0" lang="ru-RU" sz="2200" spc="-1" strike="noStrike">
                <a:solidFill>
                  <a:srgbClr val="000000"/>
                </a:solidFill>
                <a:latin typeface="Castellar"/>
              </a:rPr>
              <a:t>Темой своего проекта выбрала выпечку – печенье из песочного теста. Техника приготовления  такого разнообразия печенья, которое я представляю в своём проекте, требует от меня достаточных усилий и времени, однако, положительно влияет на нервную систему,  следовательно, и на здоровье, поскольку результат не только вкусен, но и эстетичен. И поэтому я остановилась на этом виде работ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stellar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astellar"/>
              </a:rPr>
              <a:t>Мои изделия из песочного теста будут служить украшением любого стола, будь то чаепитие за круглым столом или семейный праздник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867280" y="3789360"/>
            <a:ext cx="3060720" cy="27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68480" y="1980720"/>
            <a:ext cx="379404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ru-RU" sz="2000" spc="-1" strike="noStrike">
                <a:solidFill>
                  <a:srgbClr val="3333cc"/>
                </a:solidFill>
                <a:latin typeface="Castellar"/>
              </a:rPr>
              <a:t>Крем следует приготовить заранее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Castellar"/>
              </a:rPr>
              <a:t>          </a:t>
            </a:r>
            <a:r>
              <a:rPr b="1" lang="ru-RU" sz="2000" spc="-1" strike="noStrike">
                <a:solidFill>
                  <a:srgbClr val="3333cc"/>
                </a:solidFill>
                <a:latin typeface="Castellar"/>
              </a:rPr>
              <a:t>Смешать сливочное масло со сгущенным молоком и хорошо взбить венчиком. Поставить в холодильник на 30мин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Castellar"/>
              </a:rPr>
              <a:t>Заранее следует приготовить в небольших количествах сок моркови и сок свёклы для декорирования печень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3024360" cy="3344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3024000" cy="3384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2700360" y="4149720"/>
            <a:ext cx="35272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3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787640" y="1483920"/>
            <a:ext cx="379404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2000" spc="-1" strike="noStrike">
                <a:solidFill>
                  <a:srgbClr val="3333cc"/>
                </a:solidFill>
                <a:latin typeface="Castellar"/>
              </a:rPr>
              <a:t>9. Печенье, заполненное кремом, задекорировать под персики. Для этого нам понадобится 2 кисточки для разных видов соков. Каждое печенье выкрасить сначала морковным соком, потом немного добавить бордовых «красок» сока свёклы. Обвалять в сахаре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4248000" cy="532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7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76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31640" y="620640"/>
            <a:ext cx="67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Castellar"/>
              </a:rPr>
              <a:t>Печенье готово. Красиво уложите его на блюдо и поставьте на 30 мин. в холодильник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57200" y="3962520"/>
            <a:ext cx="4014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3272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d76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219640" y="2421000"/>
            <a:ext cx="273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Monotype Corsiva"/>
              </a:rPr>
              <a:t>Приятного аппетита!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2" name="Picture 7" descr="SP_A1007"/>
          <p:cNvPicPr/>
          <p:nvPr/>
        </p:nvPicPr>
        <p:blipFill>
          <a:blip r:embed="rId1"/>
          <a:stretch/>
        </p:blipFill>
        <p:spPr>
          <a:xfrm>
            <a:off x="755640" y="692280"/>
            <a:ext cx="4176720" cy="5473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6659640" y="4508640"/>
            <a:ext cx="2276280" cy="21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5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7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9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хника безопасности и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нитарно-гигиенические требования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нешний вид должен соответствовать работе с продуктами на кухне: волосы необходимо убрать под косынку, надеть фартук, ногти обстричь, тщательно вымыть руки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бочий стол, разделочные доски, скалка, формочки для печенья должны быть чистыми. Все виды работ выполнять в отдельной посуде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сторожного обращения требуют режущие и колющие предметы  (нож, тёрка) и механические детали мясорубки и блендера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ледует избегать ожогов при разогревании в кастрюле на плите масла (например, сливочного), приготовлении на паровой бане крема.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stellar"/>
              </a:rPr>
              <a:t>Себестоимость изделия без учёта затрат на производств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9640" y="1700280"/>
          <a:ext cx="7993080" cy="4465440"/>
        </p:xfrm>
        <a:graphic>
          <a:graphicData uri="http://schemas.openxmlformats.org/drawingml/2006/table">
            <a:tbl>
              <a:tblPr/>
              <a:tblGrid>
                <a:gridCol w="646200"/>
                <a:gridCol w="2833560"/>
                <a:gridCol w="1449360"/>
                <a:gridCol w="1562400"/>
                <a:gridCol w="1501560"/>
              </a:tblGrid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1 единиц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пес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гар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ш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 сливоч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шт=180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та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ущённое моло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руб=300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ш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свёк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 готового издел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г.500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готового издел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руб 50коп=1кг.500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ру.30коп=1к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я - пирожного «Персик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7126200" cy="4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Экологическое обоснование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stellar"/>
              </a:rPr>
              <a:t>Изготовление печенья - это экологически чистое производство: масло, сметана, яйца «подарены» соседскими Бурёнкой и Пеструшкой. Да и сама техника изготовления практически безотходная, не выделяются вредные вещества, не загрязняется атмосфера, нет опасности для здоровья человек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stellar"/>
              </a:rPr>
              <a:t>Я довольна своей работой. Надеюсь услышать комплименты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547640" y="3213000"/>
            <a:ext cx="633744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-main-pic" descr="Картинка 257 из 6449"/>
          <p:cNvPicPr/>
          <p:nvPr/>
        </p:nvPicPr>
        <p:blipFill>
          <a:blip r:embed="rId1"/>
          <a:stretch/>
        </p:blipFill>
        <p:spPr>
          <a:xfrm>
            <a:off x="684360" y="549360"/>
            <a:ext cx="5182920" cy="14396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5"/>
          <p:cNvSpPr txBox="1"/>
          <p:nvPr/>
        </p:nvSpPr>
        <p:spPr>
          <a:xfrm>
            <a:off x="6084720" y="692280"/>
            <a:ext cx="239580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т Анны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2" name="Picture 4" descr="Картинка 282 из 6449"/>
          <p:cNvPicPr/>
          <p:nvPr/>
        </p:nvPicPr>
        <p:blipFill>
          <a:blip r:embed="rId2"/>
          <a:stretch/>
        </p:blipFill>
        <p:spPr>
          <a:xfrm>
            <a:off x="684360" y="2060640"/>
            <a:ext cx="4679640" cy="43084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-636120" y="-805680"/>
            <a:ext cx="201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ламный  логоти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-569880" y="28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40360" y="2290680"/>
            <a:ext cx="25066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зготовитель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ОО «Сластёна»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Юридический адрес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елябинская область, г.Магнитогорск, ул.Планерная 2-а, факс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w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chenj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i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n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@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ande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тензии не принимаютс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качество отвечаю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0" descr=""/>
          <p:cNvPicPr/>
          <p:nvPr/>
        </p:nvPicPr>
        <p:blipFill>
          <a:blip r:embed="rId3"/>
          <a:stretch/>
        </p:blipFill>
        <p:spPr>
          <a:xfrm>
            <a:off x="6300720" y="5445000"/>
            <a:ext cx="15620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getImage?photoId=431742352107&amp;photoType=0"/>
          <p:cNvPicPr/>
          <p:nvPr/>
        </p:nvPicPr>
        <p:blipFill>
          <a:blip r:embed="rId2"/>
          <a:stretch/>
        </p:blipFill>
        <p:spPr>
          <a:xfrm>
            <a:off x="4067280" y="476280"/>
            <a:ext cx="4346640" cy="58690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560" y="1981080"/>
            <a:ext cx="338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Monotype Corsiva"/>
              </a:rPr>
              <a:t>Сюрприз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Monotype Corsiva"/>
              </a:rPr>
              <a:t>от «шеф-повара»: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Monotype Corsiva"/>
              </a:rPr>
              <a:t>печенье «Розы»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79640" y="900000"/>
            <a:ext cx="397044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stellar"/>
              </a:rPr>
              <a:t>От меня требуется нечто оригинальное. Я учусь готовить и уже сама могу приготовить  себе и маме лёгкий салат из овощей, винегрет, тушёную капусту, несложные блюда из картофеля. Умею испечь пирог (пирожки) из дрожжевого теста  с яблоками, ягодами.  Но мне бы хотелось освоить выпечку печенья. В этом году я научилась делать песочное тесто. Пожалуй, я остановлюсь на новом для меня виде выпечки  – печенье из песочного тест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319640" cy="4896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3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Narrow"/>
              </a:rPr>
              <a:t>Определение конкретной иде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5e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755640" y="1413000"/>
            <a:ext cx="597708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Мои изделия должны бы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- вкусными, как говорят, таять во рт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- красивыми, радовать глаз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stellar"/>
              </a:rPr>
              <a:t>- недороги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971640" y="476280"/>
            <a:ext cx="71992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ыявление основных параметров и огранич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780000" y="3780000"/>
            <a:ext cx="475272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6560" y="1196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stellar"/>
              </a:rPr>
              <a:t>1. Подробнее познакомиться с историей выпечки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stellar"/>
              </a:rPr>
              <a:t>2. Освоить новую для меня технику работы с песочным тестом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stellar"/>
              </a:rPr>
              <a:t>3. Совершенствовать навыки в технологии приготовления изделий из песочного теста – печенья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stellar"/>
              </a:rPr>
              <a:t>4. Расширить свой кругозор в кулинарии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1403280" y="620640"/>
            <a:ext cx="59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Цели и задачи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440000" y="3959280"/>
            <a:ext cx="6076800" cy="23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065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Narrow"/>
              </a:rPr>
              <a:t>Разработка идей и вариантов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80000" y="1628280"/>
            <a:ext cx="266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ариант № 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то может быть лучше и вкусней блинчиков со сметаной  или сгущёнкой. Хороши блинчики-конвертики с мясом и творогом!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538956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ddddd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579640" y="1341000"/>
            <a:ext cx="27370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ариант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№ 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ирожки из дрожжевого теста с начинкой. Начинка может быть разнообразной: яблоки, мясо, капуста, картошка, любой джем и др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4897440" cy="47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63640" y="836640"/>
            <a:ext cx="2808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ариант № 3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ыпечка всегда присутствует на столе, будь то батон хлеба или пирожки с начинкой. Изделия из  теста дают волю фантазии. Например, печенье, приготовленное из песочного теста. Оно может быть разнообразной формы, с различными вкусовыми добавками: ванилью, корицей и др.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03280" y="1017720"/>
            <a:ext cx="4711680" cy="46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d76"/>
            </a:gs>
            <a:gs pos="50000">
              <a:srgbClr val="ccecff"/>
            </a:gs>
            <a:gs pos="100000">
              <a:srgbClr val="5e6d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7564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Narrow"/>
              </a:rPr>
              <a:t>Анализ идей и выбор оптимального вариант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2496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Мне нравятся все предложенные варианты. Но дл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157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выполнения их не требуется особой фантазии. Хотя делать блины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157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это искусство, и не каждая хозяйка может этим похвастаться. У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157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моей мамы всегда получаются отменные блинчики. Я тоже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157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стараюсь от неё не отставать.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157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Да и пироги (пирожки) из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157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дрожжевого теста  с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157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яблоками  и ягодами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157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на нашей кухне частые гости.</a:t>
            </a:r>
            <a:r>
              <a:rPr b="0" lang="ru-RU" sz="1600" spc="-1" strike="noStrike">
                <a:solidFill>
                  <a:srgbClr val="000000"/>
                </a:solidFill>
                <a:latin typeface="Castel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157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Однако, иногда так хочется</a:t>
            </a:r>
            <a:r>
              <a:rPr b="1" lang="en-US" sz="1600" spc="-1" strike="noStrike">
                <a:solidFill>
                  <a:srgbClr val="000000"/>
                </a:solidFill>
                <a:latin typeface="Castel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157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удивить</a:t>
            </a:r>
            <a:r>
              <a:rPr b="1" lang="en-US" sz="16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гостей!</a:t>
            </a:r>
            <a:r>
              <a:rPr b="1" lang="en-US" sz="1600" spc="-1" strike="noStrike">
                <a:solidFill>
                  <a:srgbClr val="000000"/>
                </a:solidFill>
                <a:latin typeface="Castel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157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Поэтому</a:t>
            </a:r>
            <a:r>
              <a:rPr b="1" lang="en-US" sz="1600" spc="-1" strike="noStrike">
                <a:solidFill>
                  <a:srgbClr val="000000"/>
                </a:solidFill>
                <a:latin typeface="Castellar"/>
              </a:rPr>
              <a:t> я </a:t>
            </a: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выбрала</a:t>
            </a:r>
            <a:r>
              <a:rPr b="1" lang="en-US" sz="16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изделия</a:t>
            </a:r>
            <a:r>
              <a:rPr b="1" lang="en-US" sz="16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из</a:t>
            </a:r>
            <a:r>
              <a:rPr b="1" lang="en-US" sz="1600" spc="-1" strike="noStrike">
                <a:solidFill>
                  <a:srgbClr val="000000"/>
                </a:solidFill>
                <a:latin typeface="Castel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157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Песочного теста</a:t>
            </a:r>
            <a:r>
              <a:rPr b="1" lang="en-US" sz="1600" spc="-1" strike="noStrike">
                <a:solidFill>
                  <a:srgbClr val="000000"/>
                </a:solidFill>
                <a:latin typeface="Castellar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печень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157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«Фигурное» и «Персики»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157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995640" y="2852640"/>
            <a:ext cx="460872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4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4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6:40:11Z</dcterms:created>
  <dc:creator>NN</dc:creator>
  <dc:description/>
  <dc:language>en-US</dc:language>
  <cp:lastModifiedBy>Лариса</cp:lastModifiedBy>
  <dcterms:modified xsi:type="dcterms:W3CDTF">2015-03-02T17:45:07Z</dcterms:modified>
  <cp:revision>389</cp:revision>
  <dc:subject/>
  <dc:title>Творческий проект по технологии. Изготовление печенья из песочного теста.</dc:title>
</cp:coreProperties>
</file>