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4EE9-66E4-4744-A66B-1E42204765F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A2A9-FEEB-473B-9FD9-A46329D6301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8654-4C68-4894-A5CC-FD6B9462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594-DDFA-486A-BD2B-34DE3A90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B063-2F2E-4327-870F-63E8B69B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1E88-4578-42B4-9F2A-FF26B7A1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05D4-0881-4B46-A100-39E342FA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24AB-8FF6-40B6-B90A-3B9CC4B4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9E50-2E17-47E8-9D78-BA00846F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5A45-B6AA-464F-B1FF-B5564ED9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9659-F648-4FB7-94B0-16C16A4D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14BB-E372-4818-AF6F-FD2656F3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5A86-6BB8-4972-9FBA-BF6028B0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A35-3EF9-4EE7-B6CC-E6494424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FE3C-986F-4C88-8C60-0136554E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0994-3BB8-4AD8-AA82-3EE0DBDE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9EEE-CF49-4B46-B52B-8841EE69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331F-BDC9-4B52-BCED-B261EDCF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5FFC-074F-4ABC-8491-FB554182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1AF-7804-4B6F-9CD4-74AF8C47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F73-1CF5-448D-B3AE-B7FFF481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056-8700-415E-855D-F57971AA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BE4C-5BE0-4D8A-B870-1D07C3D3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6195-7D87-4155-86A5-3C7BA2CE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6B8-E2E0-4C6E-BF66-628702AE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4EB2-C2CF-454E-8CB8-91B67947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втор: Некрасова Елена Геннадьев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96BD-2AFD-426B-95CF-2F80166999E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втор: Некрасова Елена Геннадьев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DDF4-BBCD-4D23-9740-6A15A3690C2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ДОКЛАД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6666"/>
                </a:solidFill>
                <a:latin typeface="Verdana"/>
              </a:rPr>
              <a:t>УСИЛЕНИЕ РОЛИ ТЕХНОЛОГИЧЕСКОЙ ПОДГОТОВКИ В ОБЕСПЕЧЕНИИ СОЦИАЛИЗАЦИИ,   САМОРЕАЛИЗАЦИИ И РАЗВИТИИ УЧАЩИХСЯ ОБРАЗОВАТЕЛЬНЫХ УЧРЕЖДЕНИЙ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втор: Некрасова Елена Геннадьев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7B58-70E3-4B65-81B0-B86DAAD88D0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40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42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ипы проектов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79280" y="765000"/>
          <a:ext cx="8964720" cy="6166080"/>
        </p:xfrm>
        <a:graphic>
          <a:graphicData uri="http://schemas.openxmlformats.org/drawingml/2006/table">
            <a:tbl>
              <a:tblPr/>
              <a:tblGrid>
                <a:gridCol w="2816280"/>
                <a:gridCol w="2832120"/>
                <a:gridCol w="3316320"/>
              </a:tblGrid>
              <a:tr h="182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скурсионны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мотр подсолнухов миссис Мерф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 u="sng">
                          <a:solidFill>
                            <a:srgbClr val="006666"/>
                          </a:solidFill>
                          <a:uFillTx/>
                          <a:latin typeface="Verdana"/>
                        </a:rPr>
                        <a:t>Цель: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знать, почему она «сажает свои подсолнухи в задней части двора, а не в полисаднике вместе с другими цветами?»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удовы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емятся выразить различного рода мысли в конкретной форм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 u="sng">
                          <a:solidFill>
                            <a:srgbClr val="006666"/>
                          </a:solidFill>
                          <a:uFillTx/>
                          <a:latin typeface="Verdana"/>
                        </a:rPr>
                        <a:t>Цель: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мастерить кроличью ловушку, приготовить какао для школьного завтрака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овы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здник масленицы, Пасхи мороженного, кукол, игра в магазин, «в сыщиков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 u="sng">
                          <a:solidFill>
                            <a:srgbClr val="006666"/>
                          </a:solidFill>
                          <a:uFillTx/>
                          <a:latin typeface="Verdana"/>
                        </a:rPr>
                        <a:t>Цель:</a:t>
                      </a:r>
                      <a:r>
                        <a:rPr b="0" lang="ru-RU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славление церковных событий, исторических героев и т. д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ы рассказыван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ссказы детей о различных историях, пение песен, слушание рассказов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 u="sng">
                          <a:solidFill>
                            <a:srgbClr val="006666"/>
                          </a:solidFill>
                          <a:uFillTx/>
                          <a:latin typeface="Verdana"/>
                        </a:rPr>
                        <a:t>Цель: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изложение содержан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втор: Некрасова Елена Геннадьев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1213-CDB4-4F7D-B309-D6FFEB53E8F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40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Diagram 7"/>
          <p:cNvGrpSpPr/>
          <p:nvPr/>
        </p:nvGrpSpPr>
        <p:grpSpPr>
          <a:xfrm>
            <a:off x="970920" y="836640"/>
            <a:ext cx="7130160" cy="5760360"/>
            <a:chOff x="970920" y="836640"/>
            <a:chExt cx="7130160" cy="5760360"/>
          </a:xfrm>
        </p:grpSpPr>
        <p:sp>
          <p:nvSpPr>
            <p:cNvPr id="170" name="_s5124"/>
            <p:cNvSpPr/>
            <p:nvPr/>
          </p:nvSpPr>
          <p:spPr>
            <a:xfrm flipV="1">
              <a:off x="3923280" y="836640"/>
              <a:ext cx="1153080" cy="783360"/>
            </a:xfrm>
            <a:custGeom>
              <a:avLst/>
              <a:gdLst>
                <a:gd name="textAreaLeft" fmla="*/ 380880 w 1153080"/>
                <a:gd name="textAreaRight" fmla="*/ 772200 w 1153080"/>
                <a:gd name="textAreaTop" fmla="*/ 258840 h 783360"/>
                <a:gd name="textAreaBottom" fmla="*/ 52452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901" y="21600"/>
                  </a:lnTo>
                  <a:lnTo>
                    <a:pt x="9699" y="21600"/>
                  </a:lnTo>
                  <a:close/>
                </a:path>
              </a:pathLst>
            </a:custGeom>
            <a:solidFill>
              <a:srgbClr val="33cccc"/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ahoma"/>
                </a:rPr>
                <a:t>Цель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6666"/>
                  </a:solidFill>
                  <a:latin typeface="Tahoma"/>
                </a:rPr>
                <a:t>заняти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_s5125"/>
            <p:cNvSpPr/>
            <p:nvPr/>
          </p:nvSpPr>
          <p:spPr>
            <a:xfrm flipV="1">
              <a:off x="3418560" y="1555920"/>
              <a:ext cx="2160720" cy="839160"/>
            </a:xfrm>
            <a:custGeom>
              <a:avLst/>
              <a:gdLst>
                <a:gd name="textAreaLeft" fmla="*/ 475200 w 2160720"/>
                <a:gd name="textAreaRight" fmla="*/ 1685520 w 2160720"/>
                <a:gd name="textAreaTop" fmla="*/ 184320 h 839160"/>
                <a:gd name="textAreaBottom" fmla="*/ 654840 h 83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cc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Способы её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достижен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_s5126"/>
            <p:cNvSpPr/>
            <p:nvPr/>
          </p:nvSpPr>
          <p:spPr>
            <a:xfrm flipV="1">
              <a:off x="2915280" y="2349000"/>
              <a:ext cx="3169440" cy="862920"/>
            </a:xfrm>
            <a:custGeom>
              <a:avLst/>
              <a:gdLst>
                <a:gd name="textAreaLeft" fmla="*/ 550080 w 3169440"/>
                <a:gd name="textAreaRight" fmla="*/ 2619360 w 3169440"/>
                <a:gd name="textAreaTop" fmla="*/ 149760 h 862920"/>
                <a:gd name="textAreaBottom" fmla="*/ 713160 h 86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cc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Мотивы учащихся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_s5127"/>
            <p:cNvSpPr/>
            <p:nvPr/>
          </p:nvSpPr>
          <p:spPr>
            <a:xfrm flipV="1">
              <a:off x="2411640" y="3212280"/>
              <a:ext cx="4320720" cy="936360"/>
            </a:xfrm>
            <a:custGeom>
              <a:avLst/>
              <a:gdLst>
                <a:gd name="textAreaLeft" fmla="*/ 650160 w 4320720"/>
                <a:gd name="textAreaRight" fmla="*/ 3670560 w 4320720"/>
                <a:gd name="textAreaTop" fmla="*/ 140760 h 936360"/>
                <a:gd name="textAreaBottom" fmla="*/ 79560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33cc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Интересы учащихся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_s5128"/>
            <p:cNvSpPr/>
            <p:nvPr/>
          </p:nvSpPr>
          <p:spPr>
            <a:xfrm flipV="1">
              <a:off x="1618920" y="4074480"/>
              <a:ext cx="5832360" cy="865080"/>
            </a:xfrm>
            <a:custGeom>
              <a:avLst/>
              <a:gdLst>
                <a:gd name="textAreaLeft" fmla="*/ 796320 w 5832360"/>
                <a:gd name="textAreaRight" fmla="*/ 5036040 w 5832360"/>
                <a:gd name="textAreaTop" fmla="*/ 118080 h 865080"/>
                <a:gd name="textAreaBottom" fmla="*/ 74700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33cc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Способности учащихся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_s5129"/>
            <p:cNvSpPr/>
            <p:nvPr/>
          </p:nvSpPr>
          <p:spPr>
            <a:xfrm flipV="1">
              <a:off x="1043640" y="4868640"/>
              <a:ext cx="7057440" cy="630720"/>
            </a:xfrm>
            <a:custGeom>
              <a:avLst/>
              <a:gdLst>
                <a:gd name="textAreaLeft" fmla="*/ 898560 w 7057440"/>
                <a:gd name="textAreaRight" fmla="*/ 6158880 w 7057440"/>
                <a:gd name="textAreaTop" fmla="*/ 80280 h 630720"/>
                <a:gd name="textAreaBottom" fmla="*/ 55044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33cc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Потребности учащихся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_s5130"/>
            <p:cNvSpPr/>
            <p:nvPr/>
          </p:nvSpPr>
          <p:spPr>
            <a:xfrm flipV="1">
              <a:off x="970920" y="5514480"/>
              <a:ext cx="7129800" cy="1082160"/>
            </a:xfrm>
            <a:custGeom>
              <a:avLst/>
              <a:gdLst>
                <a:gd name="textAreaLeft" fmla="*/ 577440 w 7129800"/>
                <a:gd name="textAreaRight" fmla="*/ 6552360 w 7129800"/>
                <a:gd name="textAreaTop" fmla="*/ 87480 h 1082160"/>
                <a:gd name="textAreaBottom" fmla="*/ 994680 h 108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Индивидуальные способности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втор: Некрасова Елена Геннадьев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8EA9-F097-4C74-A7AC-FACEEEE939A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40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3640" y="301680"/>
            <a:ext cx="835956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ипологические признаки проектов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Вид деятельности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сследовательский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ворческий,ролево-игровой и т.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редметно-содержательная облас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нопроект, межпредметный проек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Характер координации проекта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открытая или скрытая, телекоммуникационные проект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Характер контактов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утренний, региональный, международный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личество участников проект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личностные, парные, групповы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родолжительность проект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краткосрочный, средней продолжительности, долгосрочны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втор: Некрасова Елена Геннадьев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7D65-3827-4A78-B3C9-790E923C929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40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Diagram 9"/>
          <p:cNvGrpSpPr/>
          <p:nvPr/>
        </p:nvGrpSpPr>
        <p:grpSpPr>
          <a:xfrm>
            <a:off x="7200" y="340920"/>
            <a:ext cx="8736840" cy="6500880"/>
            <a:chOff x="7200" y="340920"/>
            <a:chExt cx="8736840" cy="6500880"/>
          </a:xfrm>
        </p:grpSpPr>
        <p:sp>
          <p:nvSpPr>
            <p:cNvPr id="184" name="_s6148"/>
            <p:cNvSpPr/>
            <p:nvPr/>
          </p:nvSpPr>
          <p:spPr>
            <a:xfrm flipH="1" flipV="1">
              <a:off x="2826720" y="2441880"/>
              <a:ext cx="772560" cy="5745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_s6149"/>
            <p:cNvSpPr/>
            <p:nvPr/>
          </p:nvSpPr>
          <p:spPr>
            <a:xfrm>
              <a:off x="964800" y="1056600"/>
              <a:ext cx="2186280" cy="16264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Адаптация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ребёнка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В обществ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_s6150"/>
            <p:cNvSpPr/>
            <p:nvPr/>
          </p:nvSpPr>
          <p:spPr>
            <a:xfrm flipH="1">
              <a:off x="2186280" y="3591360"/>
              <a:ext cx="1092240" cy="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_s6151"/>
            <p:cNvSpPr/>
            <p:nvPr/>
          </p:nvSpPr>
          <p:spPr>
            <a:xfrm>
              <a:off x="7200" y="2778120"/>
              <a:ext cx="2185560" cy="16264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Навыки работы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Общения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сотрудничеств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_s6152"/>
            <p:cNvSpPr/>
            <p:nvPr/>
          </p:nvSpPr>
          <p:spPr>
            <a:xfrm flipH="1">
              <a:off x="2826720" y="4166280"/>
              <a:ext cx="772560" cy="5745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_s6153"/>
            <p:cNvSpPr/>
            <p:nvPr/>
          </p:nvSpPr>
          <p:spPr>
            <a:xfrm>
              <a:off x="964800" y="4500360"/>
              <a:ext cx="2186280" cy="162612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самопознани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_s6154"/>
            <p:cNvSpPr/>
            <p:nvPr/>
          </p:nvSpPr>
          <p:spPr>
            <a:xfrm>
              <a:off x="4371840" y="4404960"/>
              <a:ext cx="0" cy="8132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_s6155"/>
            <p:cNvSpPr/>
            <p:nvPr/>
          </p:nvSpPr>
          <p:spPr>
            <a:xfrm>
              <a:off x="3278880" y="5215320"/>
              <a:ext cx="2186280" cy="1626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Интерес н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Другие обла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познан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_s6156"/>
            <p:cNvSpPr/>
            <p:nvPr/>
          </p:nvSpPr>
          <p:spPr>
            <a:xfrm>
              <a:off x="5144760" y="4166280"/>
              <a:ext cx="772560" cy="5745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_s6157"/>
            <p:cNvSpPr/>
            <p:nvPr/>
          </p:nvSpPr>
          <p:spPr>
            <a:xfrm>
              <a:off x="5596920" y="4502880"/>
              <a:ext cx="2186280" cy="162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Самоутверждение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В старшем школьн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возраст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_s6158"/>
            <p:cNvSpPr/>
            <p:nvPr/>
          </p:nvSpPr>
          <p:spPr>
            <a:xfrm>
              <a:off x="5465160" y="3591360"/>
              <a:ext cx="1092960" cy="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_s6159"/>
            <p:cNvSpPr/>
            <p:nvPr/>
          </p:nvSpPr>
          <p:spPr>
            <a:xfrm>
              <a:off x="6558480" y="2778120"/>
              <a:ext cx="2185560" cy="162648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Авторитет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Школьни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в класс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_s6160"/>
            <p:cNvSpPr/>
            <p:nvPr/>
          </p:nvSpPr>
          <p:spPr>
            <a:xfrm flipV="1">
              <a:off x="5144760" y="2441880"/>
              <a:ext cx="772560" cy="5745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_s6161"/>
            <p:cNvSpPr/>
            <p:nvPr/>
          </p:nvSpPr>
          <p:spPr>
            <a:xfrm>
              <a:off x="5596920" y="1054080"/>
              <a:ext cx="2186280" cy="1626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само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_s6162"/>
            <p:cNvSpPr/>
            <p:nvPr/>
          </p:nvSpPr>
          <p:spPr>
            <a:xfrm flipV="1">
              <a:off x="4371840" y="1967400"/>
              <a:ext cx="0" cy="8132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_s6163"/>
            <p:cNvSpPr/>
            <p:nvPr/>
          </p:nvSpPr>
          <p:spPr>
            <a:xfrm>
              <a:off x="3278880" y="340920"/>
              <a:ext cx="2186280" cy="162648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Формировани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Новых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Вид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мышлен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_s6164"/>
            <p:cNvSpPr/>
            <p:nvPr/>
          </p:nvSpPr>
          <p:spPr>
            <a:xfrm>
              <a:off x="3278880" y="2781000"/>
              <a:ext cx="2186280" cy="162612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Трудова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деятельность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1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втор: Некрасова Елена Геннадьев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28EE-458F-47EB-AFCA-F6E8BD9AB37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40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31376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втор: Некрасова Елена Геннадьев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7E75-ABA2-4CD2-8472-5B1527D0FAA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40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2" name="Organization Chart 19"/>
          <p:cNvGrpSpPr/>
          <p:nvPr/>
        </p:nvGrpSpPr>
        <p:grpSpPr>
          <a:xfrm>
            <a:off x="324000" y="404640"/>
            <a:ext cx="8722800" cy="6083280"/>
            <a:chOff x="324000" y="404640"/>
            <a:chExt cx="8722800" cy="6083280"/>
          </a:xfrm>
        </p:grpSpPr>
        <p:cxnSp>
          <p:nvCxnSpPr>
            <p:cNvPr id="103" name="_s1028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5773320" y="1747440"/>
              <a:ext cx="1217160" cy="3396240"/>
            </a:xfrm>
            <a:prstGeom prst="bentConnector3">
              <a:avLst>
                <a:gd name="adj1" fmla="val 103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29"/>
            <p:cNvCxnSpPr>
              <a:stCxn id="107" idx="0"/>
              <a:endCxn id="105" idx="2"/>
            </p:cNvCxnSpPr>
            <p:nvPr/>
          </p:nvCxnSpPr>
          <p:spPr>
            <a:xfrm flipV="1" rot="16200000">
              <a:off x="4642200" y="2878560"/>
              <a:ext cx="1217160" cy="1134000"/>
            </a:xfrm>
            <a:prstGeom prst="bentConnector3">
              <a:avLst>
                <a:gd name="adj1" fmla="val 103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0"/>
            <p:cNvCxnSpPr>
              <a:stCxn id="109" idx="0"/>
              <a:endCxn id="105" idx="2"/>
            </p:cNvCxnSpPr>
            <p:nvPr/>
          </p:nvCxnSpPr>
          <p:spPr>
            <a:xfrm flipH="1" flipV="1" rot="5400000">
              <a:off x="3511080" y="2881080"/>
              <a:ext cx="1217160" cy="1129320"/>
            </a:xfrm>
            <a:prstGeom prst="bentConnector3">
              <a:avLst>
                <a:gd name="adj1" fmla="val 103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31"/>
            <p:cNvCxnSpPr>
              <a:stCxn id="111" idx="0"/>
              <a:endCxn id="105" idx="2"/>
            </p:cNvCxnSpPr>
            <p:nvPr/>
          </p:nvCxnSpPr>
          <p:spPr>
            <a:xfrm flipH="1" flipV="1" rot="5400000">
              <a:off x="2380320" y="1749960"/>
              <a:ext cx="1217160" cy="3391560"/>
            </a:xfrm>
            <a:prstGeom prst="bentConnector3">
              <a:avLst>
                <a:gd name="adj1" fmla="val 103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032"/>
            <p:cNvSpPr/>
            <p:nvPr/>
          </p:nvSpPr>
          <p:spPr>
            <a:xfrm>
              <a:off x="3714840" y="404640"/>
              <a:ext cx="1938960" cy="2433240"/>
            </a:xfrm>
            <a:custGeom>
              <a:avLst/>
              <a:gdLst>
                <a:gd name="textAreaLeft" fmla="*/ 94320 w 1938960"/>
                <a:gd name="textAreaRight" fmla="*/ 1844640 w 1938960"/>
                <a:gd name="textAreaTop" fmla="*/ 94320 h 2433240"/>
                <a:gd name="textAreaBottom" fmla="*/ 2338920 h 2433240"/>
              </a:gdLst>
              <a:ahLst/>
              <a:rect l="textAreaLeft" t="textAreaTop" r="textAreaRight" b="textAreaBottom"/>
              <a:pathLst>
                <a:path w="21600" h="27105">
                  <a:moveTo>
                    <a:pt x="3600" y="0"/>
                  </a:moveTo>
                  <a:arcTo wR="3600" hR="3600" stAng="16200000" swAng="-5400000"/>
                  <a:lnTo>
                    <a:pt x="0" y="23505"/>
                  </a:lnTo>
                  <a:arcTo wR="3600" hR="3600" stAng="10800000" swAng="-5400000"/>
                  <a:lnTo>
                    <a:pt x="18000" y="271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ahoma"/>
                </a:rPr>
                <a:t>1. Условия</a:t>
              </a:r>
              <a:endParaRPr b="0" lang="en-US" sz="3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400" spc="-1" strike="noStrike">
                  <a:solidFill>
                    <a:srgbClr val="000000"/>
                  </a:solidFill>
                  <a:latin typeface="Tahoma"/>
                </a:rPr>
                <a:t>развития </a:t>
              </a:r>
              <a:endParaRPr b="0" lang="en-US" sz="3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ahoma"/>
                </a:rPr>
                <a:t>психики </a:t>
              </a:r>
              <a:endParaRPr b="0" lang="en-US" sz="3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ahoma"/>
                </a:rPr>
                <a:t>учащихся</a:t>
              </a:r>
              <a:endParaRPr b="0" lang="en-US" sz="3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_s1033"/>
            <p:cNvSpPr/>
            <p:nvPr/>
          </p:nvSpPr>
          <p:spPr>
            <a:xfrm>
              <a:off x="324000" y="4054680"/>
              <a:ext cx="1938960" cy="2433240"/>
            </a:xfrm>
            <a:custGeom>
              <a:avLst/>
              <a:gdLst>
                <a:gd name="textAreaLeft" fmla="*/ 94320 w 1938960"/>
                <a:gd name="textAreaRight" fmla="*/ 1844640 w 1938960"/>
                <a:gd name="textAreaTop" fmla="*/ 94320 h 2433240"/>
                <a:gd name="textAreaBottom" fmla="*/ 2338920 h 2433240"/>
              </a:gdLst>
              <a:ahLst/>
              <a:rect l="textAreaLeft" t="textAreaTop" r="textAreaRight" b="textAreaBottom"/>
              <a:pathLst>
                <a:path w="21600" h="27105">
                  <a:moveTo>
                    <a:pt x="3600" y="0"/>
                  </a:moveTo>
                  <a:arcTo wR="3600" hR="3600" stAng="16200000" swAng="-5400000"/>
                  <a:lnTo>
                    <a:pt x="0" y="23505"/>
                  </a:lnTo>
                  <a:arcTo wR="3600" hR="3600" stAng="10800000" swAng="-5400000"/>
                  <a:lnTo>
                    <a:pt x="18000" y="271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Tahoma"/>
                </a:rPr>
                <a:t>Орудия </a:t>
              </a:r>
              <a:endParaRPr b="0" lang="en-US" sz="3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Tahoma"/>
                </a:rPr>
                <a:t>труда</a:t>
              </a:r>
              <a:endParaRPr b="0" lang="en-US" sz="3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2585880" y="4054680"/>
              <a:ext cx="1938960" cy="2433240"/>
            </a:xfrm>
            <a:custGeom>
              <a:avLst/>
              <a:gdLst>
                <a:gd name="textAreaLeft" fmla="*/ 94320 w 1938960"/>
                <a:gd name="textAreaRight" fmla="*/ 1844640 w 1938960"/>
                <a:gd name="textAreaTop" fmla="*/ 94320 h 2433240"/>
                <a:gd name="textAreaBottom" fmla="*/ 2338920 h 2433240"/>
              </a:gdLst>
              <a:ahLst/>
              <a:rect l="textAreaLeft" t="textAreaTop" r="textAreaRight" b="textAreaBottom"/>
              <a:pathLst>
                <a:path w="21600" h="27105">
                  <a:moveTo>
                    <a:pt x="3600" y="0"/>
                  </a:moveTo>
                  <a:arcTo wR="3600" hR="3600" stAng="16200000" swAng="-5400000"/>
                  <a:lnTo>
                    <a:pt x="0" y="23505"/>
                  </a:lnTo>
                  <a:arcTo wR="3600" hR="3600" stAng="10800000" swAng="-5400000"/>
                  <a:lnTo>
                    <a:pt x="18000" y="271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ahoma"/>
                </a:rPr>
                <a:t>Предметы </a:t>
              </a:r>
              <a:endParaRPr b="0" lang="en-US" sz="3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ahoma"/>
                </a:rPr>
                <a:t>труда</a:t>
              </a:r>
              <a:endParaRPr b="0" lang="en-US" sz="3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_s1035"/>
            <p:cNvSpPr/>
            <p:nvPr/>
          </p:nvSpPr>
          <p:spPr>
            <a:xfrm>
              <a:off x="4848120" y="4054680"/>
              <a:ext cx="1938960" cy="2433240"/>
            </a:xfrm>
            <a:custGeom>
              <a:avLst/>
              <a:gdLst>
                <a:gd name="textAreaLeft" fmla="*/ 94320 w 1938960"/>
                <a:gd name="textAreaRight" fmla="*/ 1844640 w 1938960"/>
                <a:gd name="textAreaTop" fmla="*/ 94320 h 2433240"/>
                <a:gd name="textAreaBottom" fmla="*/ 2338920 h 2433240"/>
              </a:gdLst>
              <a:ahLst/>
              <a:rect l="textAreaLeft" t="textAreaTop" r="textAreaRight" b="textAreaBottom"/>
              <a:pathLst>
                <a:path w="21600" h="27105">
                  <a:moveTo>
                    <a:pt x="3600" y="0"/>
                  </a:moveTo>
                  <a:arcTo wR="3600" hR="3600" stAng="16200000" swAng="-5400000"/>
                  <a:lnTo>
                    <a:pt x="0" y="23505"/>
                  </a:lnTo>
                  <a:arcTo wR="3600" hR="3600" stAng="10800000" swAng="-5400000"/>
                  <a:lnTo>
                    <a:pt x="18000" y="271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Tahoma"/>
                </a:rPr>
                <a:t>Условия</a:t>
              </a:r>
              <a:endParaRPr b="0" lang="en-US" sz="3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800" spc="-1" strike="noStrike">
                  <a:solidFill>
                    <a:srgbClr val="000000"/>
                  </a:solidFill>
                  <a:latin typeface="Tahoma"/>
                </a:rPr>
                <a:t>труда</a:t>
              </a:r>
              <a:endParaRPr b="0" lang="en-US" sz="3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_s1036"/>
            <p:cNvSpPr/>
            <p:nvPr/>
          </p:nvSpPr>
          <p:spPr>
            <a:xfrm>
              <a:off x="7110360" y="4054680"/>
              <a:ext cx="1936440" cy="2433240"/>
            </a:xfrm>
            <a:custGeom>
              <a:avLst/>
              <a:gdLst>
                <a:gd name="textAreaLeft" fmla="*/ 94320 w 1936440"/>
                <a:gd name="textAreaRight" fmla="*/ 1842120 w 1936440"/>
                <a:gd name="textAreaTop" fmla="*/ 94320 h 2433240"/>
                <a:gd name="textAreaBottom" fmla="*/ 2338920 h 2433240"/>
              </a:gdLst>
              <a:ahLst/>
              <a:rect l="textAreaLeft" t="textAreaTop" r="textAreaRight" b="textAreaBottom"/>
              <a:pathLst>
                <a:path w="21600" h="27141">
                  <a:moveTo>
                    <a:pt x="3600" y="0"/>
                  </a:moveTo>
                  <a:arcTo wR="3600" hR="3600" stAng="16200000" swAng="-5400000"/>
                  <a:lnTo>
                    <a:pt x="0" y="23541"/>
                  </a:lnTo>
                  <a:arcTo wR="3600" hR="3600" stAng="10800000" swAng="-5400000"/>
                  <a:lnTo>
                    <a:pt x="18000" y="271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000000"/>
                  </a:solidFill>
                  <a:latin typeface="Tahoma"/>
                </a:rPr>
                <a:t>Резуль-</a:t>
              </a:r>
              <a:endParaRPr b="0" lang="en-US" sz="3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000000"/>
                  </a:solidFill>
                  <a:latin typeface="Tahoma"/>
                </a:rPr>
                <a:t>таты </a:t>
              </a:r>
              <a:endParaRPr b="0" lang="en-US" sz="3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000000"/>
                  </a:solidFill>
                  <a:latin typeface="Tahoma"/>
                </a:rPr>
                <a:t>труда</a:t>
              </a:r>
              <a:endParaRPr b="0" lang="en-US" sz="3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2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втор: Некрасова Елена Геннадьев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1694-6BCB-453F-915F-4641840AA62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40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Социальные условия труда предъявляют высокие требования к человек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70028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коллективного труда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Влияние господствующих норм поведени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бщественное мнение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рганизация взаимопомощи и взаимной требовательност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Внутригрупповая внушаемость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Соревновательность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втор: Некрасова Елена Геннадьев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CC2A-4637-4A3F-B79F-E72E3F4EFF3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40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Diagram 14"/>
          <p:cNvGrpSpPr/>
          <p:nvPr/>
        </p:nvGrpSpPr>
        <p:grpSpPr>
          <a:xfrm>
            <a:off x="1169640" y="979920"/>
            <a:ext cx="7002000" cy="5771520"/>
            <a:chOff x="1169640" y="979920"/>
            <a:chExt cx="7002000" cy="5771520"/>
          </a:xfrm>
        </p:grpSpPr>
        <p:sp>
          <p:nvSpPr>
            <p:cNvPr id="119" name="_s2052"/>
            <p:cNvSpPr/>
            <p:nvPr/>
          </p:nvSpPr>
          <p:spPr>
            <a:xfrm>
              <a:off x="3132720" y="979920"/>
              <a:ext cx="2946600" cy="4026600"/>
            </a:xfrm>
            <a:custGeom>
              <a:avLst/>
              <a:gdLst>
                <a:gd name="textAreaLeft" fmla="*/ 0 w 2946600"/>
                <a:gd name="textAreaRight" fmla="*/ 2946960 w 2946600"/>
                <a:gd name="textAreaTop" fmla="*/ 0 h 4026600"/>
                <a:gd name="textAreaBottom" fmla="*/ 4026960 h 402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_s2053"/>
            <p:cNvSpPr/>
            <p:nvPr/>
          </p:nvSpPr>
          <p:spPr>
            <a:xfrm rot="7200000">
              <a:off x="3525480" y="2528280"/>
              <a:ext cx="4031280" cy="2950560"/>
            </a:xfrm>
            <a:custGeom>
              <a:avLst/>
              <a:gdLst>
                <a:gd name="textAreaLeft" fmla="*/ 0 w 4031280"/>
                <a:gd name="textAreaRight" fmla="*/ 4031640 w 4031280"/>
                <a:gd name="textAreaTop" fmla="*/ 0 h 2950560"/>
                <a:gd name="textAreaBottom" fmla="*/ 2950920 h 29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_s2054"/>
            <p:cNvSpPr/>
            <p:nvPr/>
          </p:nvSpPr>
          <p:spPr>
            <a:xfrm rot="14400000">
              <a:off x="1438920" y="2239200"/>
              <a:ext cx="4029120" cy="2948400"/>
            </a:xfrm>
            <a:custGeom>
              <a:avLst/>
              <a:gdLst>
                <a:gd name="textAreaLeft" fmla="*/ 0 w 4029120"/>
                <a:gd name="textAreaRight" fmla="*/ 4029120 w 4029120"/>
                <a:gd name="textAreaTop" fmla="*/ 0 h 2948400"/>
                <a:gd name="textAreaBottom" fmla="*/ 2948760 h 29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_s2055"/>
            <p:cNvSpPr/>
            <p:nvPr/>
          </p:nvSpPr>
          <p:spPr>
            <a:xfrm>
              <a:off x="5341320" y="1824120"/>
              <a:ext cx="28303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Преобразовани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амого объекта,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оздание обществен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ценных продукт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_s2056"/>
            <p:cNvSpPr/>
            <p:nvPr/>
          </p:nvSpPr>
          <p:spPr>
            <a:xfrm>
              <a:off x="3943080" y="5134680"/>
              <a:ext cx="1182600" cy="16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Преобразовани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еб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_s2057"/>
            <p:cNvSpPr/>
            <p:nvPr/>
          </p:nvSpPr>
          <p:spPr>
            <a:xfrm>
              <a:off x="2544480" y="1826280"/>
              <a:ext cx="1182960" cy="16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Целесообразная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деятель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амого субъекта      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5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втор: Некрасова Елена Геннадьев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182B-74D3-456D-A4BC-6D396A995DD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40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Organization Chart 21"/>
          <p:cNvGrpSpPr/>
          <p:nvPr/>
        </p:nvGrpSpPr>
        <p:grpSpPr>
          <a:xfrm>
            <a:off x="250920" y="333360"/>
            <a:ext cx="8641440" cy="5973480"/>
            <a:chOff x="250920" y="333360"/>
            <a:chExt cx="8641440" cy="5973480"/>
          </a:xfrm>
        </p:grpSpPr>
        <p:cxnSp>
          <p:nvCxnSpPr>
            <p:cNvPr id="128" name="_s3076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486040" y="1807200"/>
              <a:ext cx="1195200" cy="3025080"/>
            </a:xfrm>
            <a:prstGeom prst="bentConnector3">
              <a:avLst>
                <a:gd name="adj1" fmla="val 139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3077"/>
            <p:cNvCxnSpPr>
              <a:stCxn id="132" idx="0"/>
              <a:endCxn id="130" idx="2"/>
            </p:cNvCxnSpPr>
            <p:nvPr/>
          </p:nvCxnSpPr>
          <p:spPr>
            <a:xfrm flipV="1">
              <a:off x="4571280" y="2722320"/>
              <a:ext cx="3240" cy="1195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3078"/>
            <p:cNvCxnSpPr>
              <a:stCxn id="134" idx="0"/>
              <a:endCxn id="130" idx="2"/>
            </p:cNvCxnSpPr>
            <p:nvPr/>
          </p:nvCxnSpPr>
          <p:spPr>
            <a:xfrm flipH="1" flipV="1" rot="5400000">
              <a:off x="2461320" y="1807200"/>
              <a:ext cx="1195200" cy="3025080"/>
            </a:xfrm>
            <a:prstGeom prst="bentConnector3">
              <a:avLst>
                <a:gd name="adj1" fmla="val 139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0" name="_s3079"/>
            <p:cNvSpPr/>
            <p:nvPr/>
          </p:nvSpPr>
          <p:spPr>
            <a:xfrm>
              <a:off x="3275280" y="333360"/>
              <a:ext cx="2592360" cy="23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Формирование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Качеств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Личности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учащихся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3080"/>
            <p:cNvSpPr/>
            <p:nvPr/>
          </p:nvSpPr>
          <p:spPr>
            <a:xfrm>
              <a:off x="250920" y="3917520"/>
              <a:ext cx="2592360" cy="23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практичность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_s3081"/>
            <p:cNvSpPr/>
            <p:nvPr/>
          </p:nvSpPr>
          <p:spPr>
            <a:xfrm>
              <a:off x="3275280" y="3917520"/>
              <a:ext cx="2592360" cy="23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Познание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не только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других, 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но и себя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_s3082"/>
            <p:cNvSpPr/>
            <p:nvPr/>
          </p:nvSpPr>
          <p:spPr>
            <a:xfrm>
              <a:off x="6300000" y="3917520"/>
              <a:ext cx="2592360" cy="23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Техническое, 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практическое,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логическое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мышление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5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втор: Некрасова Елена Геннадьев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8773-9AD8-4F19-9416-5FCDD0A258D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40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уд играет большое значение в развитии способностей учащегос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Дошкольный возраст --- иг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Младший и средний школьный возраст --- уч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Юношеский возраст --- профессионально-трудовая подготовк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втор: Некрасова Елена Геннадьев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68B7-E2B5-435A-8608-E95F45898FA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40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5080" y="301320"/>
            <a:ext cx="727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овлечение школьников в трудовое самовоспита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8199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ажнейшая цель обучения и воспитани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тимальный период для самовоспитания является старший школьный возраст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еобходимость проведения псхологических факультативо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ремление учащихся к усовершенствованию своей пригодности к той или иной професси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втор: Некрасова Елена Геннадьев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08FE-8099-456F-AD68-5255B607BA0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40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Роль проекта в развитии личност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2017800"/>
            <a:ext cx="4392360" cy="411480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ектная методика является альтернативой традиционному подходу к образованию, основанному, главным образом, на усвоении готовых знаний и их воспроизведени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28680" y="1827360"/>
            <a:ext cx="385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Проектное обучение направлено на то, чтобы найти способы, пути развития активного самостоятельного мышления , уметь их применять на практик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втор: Некрасова Елена Геннадьев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C3C5-C1C5-4D48-B9AC-A8A3FCB2B28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40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щий принцип проектного обуч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0" y="1700640"/>
            <a:ext cx="8900640" cy="4840920"/>
            <a:chOff x="0" y="1700640"/>
            <a:chExt cx="8900640" cy="4840920"/>
          </a:xfrm>
        </p:grpSpPr>
        <p:sp>
          <p:nvSpPr>
            <p:cNvPr id="152" name="_s4100"/>
            <p:cNvSpPr/>
            <p:nvPr/>
          </p:nvSpPr>
          <p:spPr>
            <a:xfrm flipV="1">
              <a:off x="4445640" y="2949840"/>
              <a:ext cx="0" cy="5986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_s4101"/>
            <p:cNvSpPr/>
            <p:nvPr/>
          </p:nvSpPr>
          <p:spPr>
            <a:xfrm>
              <a:off x="2484720" y="1700640"/>
              <a:ext cx="3740400" cy="13665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Активная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Познаватель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деятель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_s4102"/>
            <p:cNvSpPr/>
            <p:nvPr/>
          </p:nvSpPr>
          <p:spPr>
            <a:xfrm>
              <a:off x="5008320" y="4147560"/>
              <a:ext cx="561960" cy="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_s4103"/>
            <p:cNvSpPr/>
            <p:nvPr/>
          </p:nvSpPr>
          <p:spPr>
            <a:xfrm>
              <a:off x="6442920" y="3357720"/>
              <a:ext cx="2457720" cy="167868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Жизненн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опы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учащихс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_s4104"/>
            <p:cNvSpPr/>
            <p:nvPr/>
          </p:nvSpPr>
          <p:spPr>
            <a:xfrm>
              <a:off x="4445640" y="4746240"/>
              <a:ext cx="0" cy="5979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_s4105"/>
            <p:cNvSpPr/>
            <p:nvPr/>
          </p:nvSpPr>
          <p:spPr>
            <a:xfrm>
              <a:off x="2556000" y="5157360"/>
              <a:ext cx="3599280" cy="1384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Творческая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совместная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деятельность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_s4106"/>
            <p:cNvSpPr/>
            <p:nvPr/>
          </p:nvSpPr>
          <p:spPr>
            <a:xfrm flipH="1">
              <a:off x="3319920" y="4147560"/>
              <a:ext cx="562680" cy="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_s4107"/>
            <p:cNvSpPr/>
            <p:nvPr/>
          </p:nvSpPr>
          <p:spPr>
            <a:xfrm>
              <a:off x="0" y="3500280"/>
              <a:ext cx="2266920" cy="119664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Учебн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материал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_s4108"/>
            <p:cNvSpPr/>
            <p:nvPr/>
          </p:nvSpPr>
          <p:spPr>
            <a:xfrm>
              <a:off x="3058560" y="3572280"/>
              <a:ext cx="2519640" cy="119736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66"/>
                  </a:solidFill>
                  <a:latin typeface="Tahoma"/>
                </a:rPr>
                <a:t>Общая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66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проблема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1" name="Line 24"/>
          <p:cNvSpPr/>
          <p:nvPr/>
        </p:nvSpPr>
        <p:spPr>
          <a:xfrm flipH="1">
            <a:off x="2195640" y="4149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25"/>
          <p:cNvSpPr/>
          <p:nvPr/>
        </p:nvSpPr>
        <p:spPr>
          <a:xfrm>
            <a:off x="5651640" y="422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втор: Некрасова Елена Геннадьев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825D-0F35-4BA7-AC74-32C15FBE6BA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40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0T19:38:16Z</dcterms:created>
  <dc:creator>User</dc:creator>
  <dc:description/>
  <dc:language>en-US</dc:language>
  <cp:lastModifiedBy>Елена</cp:lastModifiedBy>
  <dcterms:modified xsi:type="dcterms:W3CDTF">2015-03-02T00:58:04Z</dcterms:modified>
  <cp:revision>22</cp:revision>
  <dc:subject/>
  <dc:title>ТЕМА ДОКЛАДА</dc:title>
</cp:coreProperties>
</file>