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F44-6BA8-4CE4-B7FA-444C6243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30B-EE14-4171-AFB8-C0AC270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971-4E0E-4493-B8D7-7B0E8B26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113-58E9-4BBC-8FBA-1B73845D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A59-DF34-4929-B221-7B2294C6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C25-992E-4C13-ACDD-192F7B6E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DC7-4CA6-4A42-82FE-5B841B1E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5FE-B59C-4C67-A658-555CB756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FFE-5267-4C56-9092-50E478B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CFA-54D8-4649-BB85-EF1FDC57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939-2270-4D1E-9FBE-882C255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D69-6C2A-4D5F-925B-0B6F668A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4E2-37B1-4AC5-9970-382FBEC6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стное народное твор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726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Лингвистическая 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«Кто больш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5272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, согласно русской пословице, ждут обещан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тридцать лет и три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три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до свадь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пока не надо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Внеклассное мероприятие. Книга - твой друг, береги ее Цели"/>
          <p:cNvPicPr/>
          <p:nvPr/>
        </p:nvPicPr>
        <p:blipFill>
          <a:blip r:embed="rId1"/>
          <a:stretch/>
        </p:blipFill>
        <p:spPr>
          <a:xfrm>
            <a:off x="5003640" y="2838600"/>
            <a:ext cx="4140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мудрее вече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пол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у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Девушка дня"/>
          <p:cNvPicPr/>
          <p:nvPr/>
        </p:nvPicPr>
        <p:blipFill>
          <a:blip r:embed="rId1"/>
          <a:stretch/>
        </p:blipFill>
        <p:spPr>
          <a:xfrm>
            <a:off x="5076720" y="270828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, согласно пословице, делает смел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светофоров не 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города бе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 темноте гу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штурмует кре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Вспомним блокадные события - Страница 2 - Форум газеты &quot;Мой район&quot; / Санкт-Петербург"/>
          <p:cNvPicPr/>
          <p:nvPr/>
        </p:nvPicPr>
        <p:blipFill>
          <a:blip r:embed="rId1"/>
          <a:stretch/>
        </p:blipFill>
        <p:spPr>
          <a:xfrm>
            <a:off x="3492360" y="3813120"/>
            <a:ext cx="5651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ерите правильное окончание русской пословиц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ервый блин…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к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ко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маслом не испор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отдай вра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Праздничная Новогодняя флудилка, конкурсы и сюрпризы. - Страница 198 - Форум TBD.SU"/>
          <p:cNvPicPr/>
          <p:nvPr/>
        </p:nvPicPr>
        <p:blipFill>
          <a:blip r:embed="rId1"/>
          <a:stretch/>
        </p:blipFill>
        <p:spPr>
          <a:xfrm>
            <a:off x="5643720" y="3670200"/>
            <a:ext cx="35002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661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те окончание пословиц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ольшому куску…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большую тарелк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рот радуе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В) зубы довольны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Г) большое плавань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Обжора - анимация на телефон 837956"/>
          <p:cNvPicPr/>
          <p:nvPr/>
        </p:nvPicPr>
        <p:blipFill>
          <a:blip r:embed="rId1"/>
          <a:stretch/>
        </p:blipFill>
        <p:spPr>
          <a:xfrm>
            <a:off x="6281640" y="304164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заканчивается пословица: «И волки сыты …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и волчата доволь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и овцы це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и зайцы 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и пастухи уво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синий, ухи, кролик, заяц, радостный, красный нос, Rabbit 1600x1200, фото 91074"/>
          <p:cNvPicPr/>
          <p:nvPr/>
        </p:nvPicPr>
        <p:blipFill>
          <a:blip r:embed="rId1"/>
          <a:stretch/>
        </p:blipFill>
        <p:spPr>
          <a:xfrm>
            <a:off x="6084720" y="119700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Волчий дождь"/>
          <p:cNvPicPr/>
          <p:nvPr/>
        </p:nvPicPr>
        <p:blipFill>
          <a:blip r:embed="rId2"/>
          <a:stretch/>
        </p:blipFill>
        <p:spPr>
          <a:xfrm>
            <a:off x="0" y="4057560"/>
            <a:ext cx="3851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пожнёт тот, кто посеет вет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бу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г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цик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х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Буря - спектакль в Москве, 6 апреля 2012, театр Et Cetera - события Look At Me"/>
          <p:cNvPicPr/>
          <p:nvPr/>
        </p:nvPicPr>
        <p:blipFill>
          <a:blip r:embed="rId1"/>
          <a:stretch/>
        </p:blipFill>
        <p:spPr>
          <a:xfrm>
            <a:off x="2987640" y="2766960"/>
            <a:ext cx="61563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заканчивается пословица «Один в поле …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е пах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не иг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не во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не сор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Лента новостей aschenpuppen - BabyBlog.ru - Babyblog.ru"/>
          <p:cNvPicPr/>
          <p:nvPr/>
        </p:nvPicPr>
        <p:blipFill>
          <a:blip r:embed="rId1"/>
          <a:stretch/>
        </p:blipFill>
        <p:spPr>
          <a:xfrm>
            <a:off x="4572000" y="3687840"/>
            <a:ext cx="4572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е следует выносить из изб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ме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пос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Федорино горе - Я - Здоровый и счастливый. - Сказки Маленькому Чуду"/>
          <p:cNvPicPr/>
          <p:nvPr/>
        </p:nvPicPr>
        <p:blipFill>
          <a:blip r:embed="rId1"/>
          <a:stretch/>
        </p:blipFill>
        <p:spPr>
          <a:xfrm>
            <a:off x="3429000" y="2676600"/>
            <a:ext cx="5715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кого видит издал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грибник гри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ыбак рыб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хотник охо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снайпер снай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икатуры :: 17 августа 2012"/>
          <p:cNvPicPr/>
          <p:nvPr/>
        </p:nvPicPr>
        <p:blipFill>
          <a:blip r:embed="rId1"/>
          <a:stretch/>
        </p:blipFill>
        <p:spPr>
          <a:xfrm>
            <a:off x="4572000" y="3833640"/>
            <a:ext cx="457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то бежит на ловца в известной послов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ох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з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браконь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лесни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Будто ты одна, Как будто ты Богиней рождена. Рыбуся с днем рождения. - 23 May 2013 - Blog - Cafe"/>
          <p:cNvPicPr/>
          <p:nvPr/>
        </p:nvPicPr>
        <p:blipFill>
          <a:blip r:embed="rId1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19:35:08Z</dcterms:created>
  <dc:creator>Дмитрий</dc:creator>
  <dc:description/>
  <dc:language>en-US</dc:language>
  <cp:lastModifiedBy>Дмитрий</cp:lastModifiedBy>
  <dcterms:modified xsi:type="dcterms:W3CDTF">2014-09-13T20:30:46Z</dcterms:modified>
  <cp:revision>3</cp:revision>
  <dc:subject/>
  <dc:title>Устное народное творчество</dc:title>
</cp:coreProperties>
</file>