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png" ContentType="image/png"/>
  <Override PartName="/ppt/media/image42.jpeg" ContentType="image/jpeg"/>
  <Override PartName="/ppt/media/image4.jpeg" ContentType="image/jpeg"/>
  <Override PartName="/ppt/media/image40.png" ContentType="image/png"/>
  <Override PartName="/ppt/media/image6.jpeg" ContentType="image/jpeg"/>
  <Override PartName="/ppt/media/image28.jpeg" ContentType="image/jpeg"/>
  <Override PartName="/ppt/media/image51.jpeg" ContentType="image/jpeg"/>
  <Override PartName="/ppt/media/image44.jpeg" ContentType="image/jpeg"/>
  <Override PartName="/ppt/media/image34.png" ContentType="image/png"/>
  <Override PartName="/ppt/media/image7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45.jpeg" ContentType="image/jpeg"/>
  <Override PartName="/ppt/media/image50.jpeg" ContentType="image/jpeg"/>
  <Override PartName="/ppt/media/image48.jpeg" ContentType="image/jpeg"/>
  <Override PartName="/ppt/media/image53.jpeg" ContentType="image/jpeg"/>
  <Override PartName="/ppt/media/image57.jpeg" ContentType="image/jpeg"/>
  <Override PartName="/ppt/media/image43.png" ContentType="image/pn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8.jpeg" ContentType="image/jpeg"/>
  <Override PartName="/ppt/media/image41.png" ContentType="image/pn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5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6AC8-981B-4898-9177-30A7165A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9FD-32F2-4C97-A6F8-1DE41725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929E-6E35-41E7-9A8D-44C9C034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29C-341F-45F6-B810-8CE409CC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685-2045-4786-BE3E-1B55D814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EBD-E946-45DB-81BD-97CD320F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84C8-614D-4607-B66C-91030E95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133-C040-467C-B80E-7576B8F4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1A0-D80B-473B-AFC8-EB05E761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B19-6FBF-4A56-9670-DEBE2820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6C4-477B-43BF-8120-526BB82C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9A04-2B7D-4073-98BD-20AADE63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FC8C-50EE-4E73-8AB7-41D83BE12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99"/>
                </a:solidFill>
                <a:latin typeface="Arial"/>
              </a:rPr>
              <a:t>Витамин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42920" y="4581000"/>
            <a:ext cx="59720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66"/>
                </a:solidFill>
                <a:latin typeface="Arial"/>
              </a:rPr>
              <a:t>Презентацию подготовили ученицы 10 «В» класса: Гуськова Ксения                                                                              Кувшинова Елизавета                                            Курякина Дарья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5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33"/>
                </a:solidFill>
                <a:latin typeface="Arial"/>
              </a:rPr>
              <a:t>Витамин 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аскорбиновая кисло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8000" y="12682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Химическое название витамина С звучит, как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Лактон 2,3-дегидро-L-гулоновой кисло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2017440" cy="1938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916360" y="198864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итамин С является водорастворимым витамином. Впервые выделен в 1923-1927 гг. Зильва (S.S. Zilva) из лимонного с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28960" y="2806200"/>
            <a:ext cx="6215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итамин С улучшает способность организма усваивать кальций и железо, выводить токсичные медь, свинец и ртуть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4300200"/>
            <a:ext cx="47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Наш организм не может запасать витамин С, поэтому необходимо постоянно получать его дополнительно. Поскольку он водорастворим и подвержен действию температуры, приготовление пищи с термической обработкой его разруша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867280" y="4365720"/>
            <a:ext cx="280836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950"/>
                            </p:stCondLst>
                            <p:childTnLst>
                              <p:par>
                                <p:cTn id="3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95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950"/>
                            </p:stCondLst>
                            <p:childTnLst>
                              <p:par>
                                <p:cTn id="3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950"/>
                            </p:stCondLst>
                            <p:childTnLst>
                              <p:par>
                                <p:cTn id="3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950"/>
                            </p:stCondLst>
                            <p:childTnLst>
                              <p:par>
                                <p:cTn id="3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95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619280" y="404640"/>
          <a:ext cx="6912000" cy="6277320"/>
        </p:xfrm>
        <a:graphic>
          <a:graphicData uri="http://schemas.openxmlformats.org/drawingml/2006/table">
            <a:tbl>
              <a:tblPr/>
              <a:tblGrid>
                <a:gridCol w="1925640"/>
                <a:gridCol w="1386000"/>
                <a:gridCol w="1946160"/>
                <a:gridCol w="165420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именование пищевых проду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(в 100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Количество аскорбиновой кислоты</a:t>
                      </a:r>
                      <a:r>
                        <a:rPr b="0" lang="ru-RU" sz="12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2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м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именование пищевых проду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(в 100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Количество аскорбиновой кислоты</a:t>
                      </a:r>
                      <a:r>
                        <a:rPr b="0" lang="en-US" sz="12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(м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лажа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шек зеленый консервированны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шек зеленый свеж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бач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уста белокочан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уста кваше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уста цвет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ь лежал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ь свежесобран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к зеле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ков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урц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</a:rPr>
                        <a:t>Перец зеленый слад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</a:rPr>
                        <a:t>Перец крас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и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ь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п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ла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матный с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мат-п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маты крас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е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</a:rPr>
                        <a:t>Чесн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пина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ав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</a:rPr>
                        <a:t>1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</a:rPr>
                        <a:t>2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</a:rPr>
                        <a:t>110-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рик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ельси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бу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усн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огр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ш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а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ш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ляника садов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юк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ыжовн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о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ндари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ородина крас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</a:rPr>
                        <a:t>Смородина чер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</a:rPr>
                        <a:t>Шиповник суше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блоки, антонов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блоки северных сор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блоки южных сор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</a:rPr>
                        <a:t>2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</a:rPr>
                        <a:t>До 1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24000" y="1125360"/>
            <a:ext cx="86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9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68360" y="1557360"/>
          <a:ext cx="7696080" cy="378288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 (лет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мин С (мг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дные де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0,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-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-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1 и старше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6870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Суточная потреб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45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24360" y="1989000"/>
            <a:ext cx="4464000" cy="12290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6870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Витамин 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кальциферо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557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Comic Sans MS"/>
              </a:rPr>
              <a:t>Витамины группы D образуются под действием ультрафиолета в тканях животных и растений из стер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74920" y="4010400"/>
            <a:ext cx="67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витамин D2 - эргокальциферол; выделен из дрожжей, его провитамином является эргостери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витамин D3 - холекальциферол; выделен из тканей животных, его провитамин - 7-дегидрохолестери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витамин D4 - 22, 23-дигидро-эргокальциферо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витамин D5 - 24-этилхолекальциферол (ситокальциферол); выделен из масел пшениц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витамин D6 - 22-дигидроэтилкальциферол (стигма-кальциферол).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67520" y="3342240"/>
            <a:ext cx="442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 витаминам группы D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3068640"/>
            <a:ext cx="232884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50"/>
                            </p:stCondLst>
                            <p:childTnLst>
                              <p:par>
                                <p:cTn id="418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5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550"/>
                            </p:stCondLst>
                            <p:childTnLst>
                              <p:par>
                                <p:cTn id="4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350"/>
                            </p:stCondLst>
                            <p:childTnLst>
                              <p:par>
                                <p:cTn id="434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35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84360" y="907920"/>
          <a:ext cx="7696080" cy="25290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растительные</a:t>
                      </a:r>
                      <a:r>
                        <a:rPr b="0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животные</a:t>
                      </a:r>
                      <a:r>
                        <a:rPr b="0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синтез в организме</a:t>
                      </a:r>
                      <a:r>
                        <a:rPr b="0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церна, хвощ, крапива, петруш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ичный желток, сливочное масло, сыр, рыбий жир, икра, молочные продук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лекалъциферол образуется в коже под воздействием ультрафиолетовых лучей солнечного све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410364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76720" y="386064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292720" y="4724280"/>
            <a:ext cx="2665440" cy="1946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7380360" y="3860640"/>
            <a:ext cx="1577880" cy="2135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835280" y="4552920"/>
            <a:ext cx="2039760" cy="2305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350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Кожа человека под действием солнечного света способна вырабатывать витамин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0" y="459576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9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900"/>
                            </p:stCondLst>
                            <p:childTnLst>
                              <p:par>
                                <p:cTn id="457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9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9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69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89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9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Arial"/>
              </a:rPr>
              <a:t>Витамин Е</a:t>
            </a:r>
            <a:br>
              <a:rPr sz="6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токоферола ацета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080" y="1556280"/>
            <a:ext cx="827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Химическое название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6-Ацетокси-2-метил-2-(4,8,12-триметилтридецил)-хрома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5545080" cy="120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56000" y="2935440"/>
            <a:ext cx="6227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Comic Sans MS"/>
              </a:rPr>
              <a:t>Токоферол объединяет ряд ненасыщенных спиртов-токоферолов, из которых наиболее активным является альфа-токоферол.</a:t>
            </a:r>
            <a:r>
              <a:rPr b="1" i="1" lang="en-US" sz="24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480420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Впервые выявили роль витамина Е в репродуктивном процессе в 1920 г. У белой крысы, обычно очень плодовитой, было отмечено прекращение размножения при длительной молочной диете (снятое молоко) с развитием авитаминоза Е.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588000" y="4221000"/>
            <a:ext cx="2090880" cy="2376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50920" y="3213000"/>
            <a:ext cx="194472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800"/>
                            </p:stCondLst>
                            <p:childTnLst>
                              <p:par>
                                <p:cTn id="494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8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800"/>
                            </p:stCondLst>
                            <p:childTnLst>
                              <p:par>
                                <p:cTn id="504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8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800"/>
                            </p:stCondLst>
                            <p:childTnLst>
                              <p:par>
                                <p:cTn id="517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8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Arial"/>
              </a:rPr>
              <a:t>Основные источники токоферо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07552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астительные масла (арахисовое, соевое, пальмовое, кукурузное, подсолнечное и т. д.) и молодая пшеница являются самыми ценными источниками витамина Е. Токоферолы содержатся также в орехах, семенах, цельных зернах и зеленых листовых овощах. Некоторые продукты типа молока и яиц имеют в своем составе небольшое количество этого витам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роме того, витамин Е добавляют в маргарин и другие продукты 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0920" y="4149720"/>
            <a:ext cx="3095640" cy="2476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132000" y="4076640"/>
            <a:ext cx="3384720" cy="2255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084720" y="4672080"/>
            <a:ext cx="1621080" cy="2185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7254720" y="3789360"/>
            <a:ext cx="1889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850"/>
                            </p:stCondLst>
                            <p:childTnLst>
                              <p:par>
                                <p:cTn id="538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850"/>
                            </p:stCondLst>
                            <p:childTnLst>
                              <p:par>
                                <p:cTn id="544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8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85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85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85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85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96960" y="115200"/>
            <a:ext cx="58118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omic Sans MS"/>
              </a:rPr>
              <a:t>Витамин К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синтетический фитоменадион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400400"/>
            <a:ext cx="51134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66"/>
                </a:solidFill>
                <a:latin typeface="Comic Sans MS"/>
              </a:rPr>
              <a:t>Витамин К является жирорастворимым витамином, запасаемым в небольших количествах в печени, он разрушается на свету и в щелочных растворах.</a:t>
            </a:r>
            <a:r>
              <a:rPr b="0" i="1" lang="en-US" sz="24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838320" cy="1952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419640" y="4017960"/>
            <a:ext cx="53337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Впервые было высказано предположение о наличии фактора, влияющего на свертываемость крови, в 1929 г. Датский биохимик Хенрик Дам (Henrik Dam) выделил жирорастворимый витамин, который в 1935 г. назвали витамином К (koagulations vitamin) из-за его роли в свертываемости крови. За эту работу ему в 1943 г. была присуждена Нобелевская премия.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24652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200"/>
                            </p:stCondLst>
                            <p:childTnLst>
                              <p:par>
                                <p:cTn id="580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2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2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6200"/>
                            </p:stCondLst>
                            <p:childTnLst>
                              <p:par>
                                <p:cTn id="593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9280" y="83556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Наиболее богаты витамином К1 зеленые листовые овощи, которые дают от 50 до 800 мкг витамина K на 100 г пищи. Также витамин К содерж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7480" y="1484640"/>
            <a:ext cx="41900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зеленые тома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плоды шипов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листья шпина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капуста (брюссельская и цветная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крапи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хво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ове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со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рож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пшеница.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27440" y="115200"/>
            <a:ext cx="28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Comic Sans MS"/>
              </a:rPr>
              <a:t>Источ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84720" y="1700280"/>
            <a:ext cx="2808360" cy="1938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308720" y="3429000"/>
            <a:ext cx="1611360" cy="1916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796000" y="4941720"/>
            <a:ext cx="1655640" cy="1239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4067280" y="3429000"/>
            <a:ext cx="2376360" cy="1582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0" y="4292640"/>
            <a:ext cx="1655640" cy="1603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1258920" y="5157720"/>
            <a:ext cx="2444760" cy="154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3492360" y="4653000"/>
            <a:ext cx="1484280" cy="1512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0" y="2565360"/>
            <a:ext cx="1476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900"/>
                            </p:stCondLst>
                            <p:childTnLst>
                              <p:par>
                                <p:cTn id="611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900"/>
                            </p:stCondLst>
                            <p:childTnLst>
                              <p:par>
                                <p:cTn id="619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900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90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4900"/>
                            </p:stCondLst>
                            <p:childTnLst>
                              <p:par>
                                <p:cTn id="6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6900"/>
                            </p:stCondLst>
                            <p:childTnLst>
                              <p:par>
                                <p:cTn id="6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8900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9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29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49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843280" y="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33"/>
                </a:solidFill>
                <a:latin typeface="Arial"/>
              </a:rPr>
              <a:t>Витамин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692280"/>
            <a:ext cx="83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Витамин F - комплекс полиненасыщенных жирных кислот, которые принимают значительное участие в биологических процесс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413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линолевая кислота (омега-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линоленовая кислота (омега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арахидоновая кислота (омега-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эйкозапентаеновая кислота (омега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докозагексаеновая кислота (омега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4941720"/>
            <a:ext cx="871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Витамин F важен для сердечно-сосудистой системы: препятствует развитию атеросклероза, улучшает кровообращение, обладает кардиопротекторным и антиаритмическим действием. Полиненасыщенные жирные кислоты уменьшают воспалительные процессы в организме, улучшают питание тка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0720" y="2060640"/>
            <a:ext cx="2664000" cy="1776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68360" y="2924280"/>
            <a:ext cx="52560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850"/>
                            </p:stCondLst>
                            <p:childTnLst>
                              <p:par>
                                <p:cTn id="671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85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85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66"/>
                </a:solidFill>
                <a:latin typeface="Arial"/>
              </a:rPr>
              <a:t>Витамин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66"/>
                </a:solidFill>
                <a:latin typeface="Arial"/>
              </a:rPr>
              <a:t>Витамин </a:t>
            </a:r>
            <a:r>
              <a:rPr b="0" i="1" lang="en-US" sz="3200" spc="-1" strike="noStrike">
                <a:solidFill>
                  <a:srgbClr val="cc0066"/>
                </a:solidFill>
                <a:latin typeface="Arial"/>
              </a:rPr>
              <a:t>B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66"/>
                </a:solidFill>
                <a:latin typeface="Arial"/>
              </a:rPr>
              <a:t>Витамин В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66"/>
                </a:solidFill>
                <a:latin typeface="Arial"/>
              </a:rPr>
              <a:t>Витамин </a:t>
            </a:r>
            <a:r>
              <a:rPr b="0" i="1" lang="en-US" sz="3200" spc="-1" strike="noStrike">
                <a:solidFill>
                  <a:srgbClr val="cc0066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66"/>
                </a:solidFill>
                <a:latin typeface="Arial"/>
              </a:rPr>
              <a:t>Витамин </a:t>
            </a:r>
            <a:r>
              <a:rPr b="0" i="1" lang="en-US" sz="3200" spc="-1" strike="noStrike">
                <a:solidFill>
                  <a:srgbClr val="cc00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66"/>
                </a:solidFill>
                <a:latin typeface="Arial"/>
              </a:rPr>
              <a:t>Витамин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66"/>
                </a:solidFill>
                <a:latin typeface="Arial"/>
              </a:rPr>
              <a:t>Витамин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66"/>
                </a:solidFill>
                <a:latin typeface="Arial"/>
              </a:rPr>
              <a:t>Витамин </a:t>
            </a:r>
            <a:r>
              <a:rPr b="0" i="1" lang="en-US" sz="3200" spc="-1" strike="noStrike">
                <a:solidFill>
                  <a:srgbClr val="cc0066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08360" y="1052640"/>
            <a:ext cx="3527640" cy="234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96000" y="3213000"/>
            <a:ext cx="3162240" cy="2319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635280" y="458136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850"/>
                            </p:stCondLst>
                            <p:childTnLst>
                              <p:par>
                                <p:cTn id="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75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650"/>
                            </p:stCondLst>
                            <p:childTnLst>
                              <p:par>
                                <p:cTn id="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350"/>
                            </p:stCondLst>
                            <p:childTnLst>
                              <p:par>
                                <p:cTn id="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200"/>
                            </p:stCondLst>
                            <p:childTnLst>
                              <p:par>
                                <p:cTn id="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50"/>
                            </p:stCondLst>
                            <p:childTnLst>
                              <p:par>
                                <p:cTn id="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9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9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19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64198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Arial"/>
              </a:rPr>
              <a:t>Источники витам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565360"/>
            <a:ext cx="828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Лучшими натуральными источниками витамина F являются растительные масла из завязи пшеницы, семени льна, подсолнечника, соевых бобов, арахиса, а также грецкий орех, миндаль, семечки подсолнуха, а также рыбы жирных и полужирных сортов (лосось, макрель, сельдь, сардины, форель, тунец и др.) и моллю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68360" y="4581360"/>
            <a:ext cx="2592360" cy="1941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348000" y="4653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5580000" y="4653000"/>
            <a:ext cx="2449440" cy="1638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539640" y="765000"/>
            <a:ext cx="2160720" cy="1629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3132000" y="692280"/>
            <a:ext cx="2592360" cy="1942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6227640" y="69228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300"/>
                            </p:stCondLst>
                            <p:childTnLst>
                              <p:par>
                                <p:cTn id="702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Arial"/>
              </a:rPr>
              <a:t>Витамин А</a:t>
            </a:r>
            <a:br>
              <a:rPr sz="6000"/>
            </a:b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(ретино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Химическое название витамина А звучит, как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транс-9,13-Диметил-7-(1,1,5-триметилциклогексен-5-ил-6)-нонатетраен-7,9,11,13-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4464000" cy="1123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76720" y="242100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Витамин А является жирорастворимым витамином и включает ряд близких по структуре соедин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60640"/>
            <a:ext cx="781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-ретинол (витамин А-спирт, витамин А1, аксерофтол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-дегидроретинол (витамин А2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-ретиналь (ретинен, витамин А-альдегид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-ретинолевая кислота (витамин А-кислота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-эфиры этих веществ и их пространственные изоме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804000" y="3860640"/>
            <a:ext cx="2152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350"/>
                            </p:stCondLst>
                            <p:childTnLst>
                              <p:par>
                                <p:cTn id="1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35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350"/>
                            </p:stCondLst>
                            <p:childTnLst>
                              <p:par>
                                <p:cTn id="1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350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35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Источники витами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Зеленые и жёлтые овощи (морковь, тыква, сладкий перец, шпинат, брокколи, зелёный лук, зелень петрушки), бобовые (соя, горох), персики, абрикосы, яблоки, виноград, арбуз, дыня, шиповник, облепиха, черешня; травы (люцерна, листья бурачника, корень лопуха, кайенский перец, фенхель, хмель, хвощ, ламинария, лимонник, коровяк, крапива, овёс, петрушка, мята перечная, подорожник, листья малины, клевер, плоды шиповника, шалфей, толокнянка, листья фиалки, щавел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941720"/>
            <a:ext cx="88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учшие источники витамина А - рыбий жир и печень, следующими в ряду стоят сливочное масло, яичные желтки, сливки и цельное моло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следования последних лет показали, что ни один из растительных или животных продуктов не может восполнить дефицит витамина А, поэтому необходим его дополнительный пр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227640" y="2997360"/>
            <a:ext cx="2159280" cy="2087280"/>
          </a:xfrm>
          <a:prstGeom prst="rect">
            <a:avLst/>
          </a:prstGeom>
          <a:ln w="0">
            <a:noFill/>
          </a:ln>
        </p:spPr>
      </p:pic>
      <p:pic>
        <p:nvPicPr>
          <p:cNvPr id="58" name="a1" descr=""/>
          <p:cNvPicPr/>
          <p:nvPr/>
        </p:nvPicPr>
        <p:blipFill>
          <a:blip r:embed="rId3"/>
          <a:stretch/>
        </p:blipFill>
        <p:spPr>
          <a:xfrm>
            <a:off x="826920" y="2997360"/>
            <a:ext cx="3024360" cy="2011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125960" y="2997360"/>
            <a:ext cx="167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350"/>
                            </p:stCondLst>
                            <p:childTnLst>
                              <p:par>
                                <p:cTn id="1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50"/>
                            </p:stCondLst>
                            <p:childTnLst>
                              <p:par>
                                <p:cTn id="1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35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35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35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0"/>
            <a:ext cx="741708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Дефицит витамина А определяется как содержание ретинола в сыворотке крови ниже 0,35 мкмоль/л. Однако, даже при уровне в плазме 0,70-1,22 мкмоль/л может наблюдаться значительное снижение содержания витамина А в печени, где он накапливается. Уровень витамина А в плазме  начинает снижаться тогда, когда его концентрация в печени падает до 0,7 мкмоль/г тк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Причины возникновения гиповитаминоза 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недостаточное содержание витамина А в пище, особенно в зимне-весенний перио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несбалансированное питание (длительный дефицит полноценных белков нарушает усвоение витамина А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ограничение потребления жиров (витамин А является жирорастворимым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заболевания печени и желчевыводящих пут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заболевания поджелудочной железы, кишечни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значительные резекции тонкой кишки, синдром малабсорб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недостаточное потребление витамина Е (витамин Е, являясь антиоксидантом, препятствует окислению витамина 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732720" y="3933720"/>
            <a:ext cx="2411280" cy="1808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451640" y="1628640"/>
            <a:ext cx="1533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867280" y="2060640"/>
            <a:ext cx="2881440" cy="1676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789640" y="260280"/>
            <a:ext cx="3250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Витамин </a:t>
            </a:r>
            <a:r>
              <a:rPr b="1" i="1" lang="en-US" sz="4000" spc="-1" strike="noStrike">
                <a:solidFill>
                  <a:srgbClr val="990033"/>
                </a:solidFill>
                <a:latin typeface="Arial"/>
              </a:rPr>
              <a:t>B</a:t>
            </a:r>
            <a:r>
              <a:rPr b="1" i="1" lang="en-US" sz="4000" spc="-1" strike="noStrike" baseline="-25000">
                <a:solidFill>
                  <a:srgbClr val="990033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ам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34136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Химическое название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витамина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 звучит, как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-[(4-амино-2-метил-5-пиримидинил)-метил]-5-(2-гидроксиэтил)-4-метилтиазолий хлори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2205000"/>
            <a:ext cx="54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Играет важную роль в углеводном, белковом и жировом обмене, а также в процессах проведения нервного возбуждения в синапсах. Защищает мембраны клеток от токсического воздействия продуктов перекисного ок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95280" y="4005360"/>
            <a:ext cx="2735280" cy="2151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95640" y="414972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В организме в результате процессов фосфорилирования превращается в кокарбоксилазу, которая является коэнзимом многих ферментных реа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300"/>
                            </p:stCondLst>
                            <p:childTnLst>
                              <p:par>
                                <p:cTn id="2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300"/>
                            </p:stCondLst>
                            <p:childTnLst>
                              <p:par>
                                <p:cTn id="2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300"/>
                            </p:stCondLst>
                            <p:childTnLst>
                              <p:par>
                                <p:cTn id="2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3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6275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99"/>
                </a:solidFill>
                <a:latin typeface="Arial"/>
              </a:rPr>
              <a:t>Источники витам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181080" y="691920"/>
            <a:ext cx="3168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990033"/>
                </a:solidFill>
                <a:latin typeface="Arial"/>
              </a:rPr>
              <a:t>Наиболее богаты тиамином хлеб из муки грубого помола, крупы (гречневая, овсяная, пшенная), орехи, печень, пивные дрожжи. Из продуктов животного происхождения высоким содержанием витамина В1 отличаются свинина, телятина. А вот в овощах и фруктах его содержится мало, за исключением зеленого горошка, картофеля, цветной капу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4365720"/>
            <a:ext cx="590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ктически каждый современный человек нуждается в дополнительном приеме тиамина. Суточная норма для взрослого человека составляет 1,7 мг. Потребность в данном витамине повышается при беременности, кормлении, при гиперфункции щитовидной железы, а также при высокой физической активности. Также, пожилые люди должны получать больше витамина В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59280" y="1125360"/>
            <a:ext cx="1928520" cy="1452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924360" y="2492280"/>
            <a:ext cx="1944720" cy="1608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364000" y="1341360"/>
            <a:ext cx="170676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948360" y="1052640"/>
            <a:ext cx="1800360" cy="127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6588000" y="2637000"/>
            <a:ext cx="21463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300"/>
                            </p:stCondLst>
                            <p:childTnLst>
                              <p:par>
                                <p:cTn id="2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300"/>
                            </p:stCondLst>
                            <p:childTnLst>
                              <p:par>
                                <p:cTn id="2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3600360" cy="1770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1197000"/>
            <a:ext cx="842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Химическое название витамина В</a:t>
            </a:r>
            <a:r>
              <a:rPr b="0" lang="en-US" sz="18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звучит, как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6,7-Диметил-9-(D-1-рибитил)-изоаллокса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20500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66"/>
                </a:solidFill>
                <a:latin typeface="Arial"/>
              </a:rPr>
              <a:t>Рибофлавин разрушается под действием света, плохо растворяется в воде (растворимость повышается при снижении рН) и спир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92360" y="260280"/>
            <a:ext cx="460836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Витамин В</a:t>
            </a:r>
            <a:r>
              <a:rPr b="1" lang="en-US" sz="4000" spc="-1" strike="noStrike" baseline="-25000">
                <a:solidFill>
                  <a:srgbClr val="cc0066"/>
                </a:solidFill>
                <a:latin typeface="Arial"/>
              </a:rPr>
              <a:t>2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рибофлав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4365720"/>
            <a:ext cx="590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Биологически активной формой рибофлавина является флавинадениндинуклеотид, синтезирующийся в организме человека в почках, печени и других тканях. Другое производное рибофлавина - рибофлавин-5-фосфорная кислота встречается естественном виде в дрожж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00720" y="386064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50"/>
                            </p:stCondLst>
                            <p:childTnLst>
                              <p:par>
                                <p:cTn id="2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5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50"/>
                            </p:stCondLst>
                            <p:childTnLst>
                              <p:par>
                                <p:cTn id="2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550"/>
                            </p:stCondLst>
                            <p:childTnLst>
                              <p:par>
                                <p:cTn id="2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250920" y="692280"/>
          <a:ext cx="7993080" cy="2597040"/>
        </p:xfrm>
        <a:graphic>
          <a:graphicData uri="http://schemas.openxmlformats.org/drawingml/2006/table">
            <a:tbl>
              <a:tblPr/>
              <a:tblGrid>
                <a:gridCol w="2664000"/>
                <a:gridCol w="2665080"/>
                <a:gridCol w="2664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и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тез в организ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Дрожжи, листовые зеленые овощи, крупы (гречневая и овсяная), горох, зародыши и оболочки зерновых культур, хлеб.</a:t>
                      </a:r>
                      <a:r>
                        <a:rPr b="0" lang="en-US" sz="2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Печень, почки, мясо, рыба, сыр, молоко, йогурт, прессованный творог, яичный белок.</a:t>
                      </a:r>
                      <a:r>
                        <a:rPr b="0" lang="en-US" sz="2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Синтезируется микроорганизмами, в т.ч. микрофлорой толстой кишки.</a:t>
                      </a:r>
                      <a:r>
                        <a:rPr b="0" lang="en-US" sz="2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618920" y="115560"/>
            <a:ext cx="4492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66"/>
                </a:solidFill>
                <a:latin typeface="Arial"/>
              </a:rPr>
              <a:t>Источники витами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8000" y="3357720"/>
            <a:ext cx="604836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При гиповитаминозе В</a:t>
            </a:r>
            <a:r>
              <a:rPr b="0" lang="en-US" sz="14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отмеч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снижение аппетита, падение массы те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слаб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головная боль, чувство жжения кож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резь в глазах, нарушение сумеречного зр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болезненность в углах рта и на нижней гу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93080" y="3284640"/>
            <a:ext cx="1958760" cy="2665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867280" y="5421240"/>
            <a:ext cx="1963800" cy="1436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211640" y="5608800"/>
            <a:ext cx="1847880" cy="124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484360" y="5516640"/>
            <a:ext cx="182880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35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35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35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35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935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5:24:26Z</dcterms:created>
  <dc:creator>FBI</dc:creator>
  <dc:description/>
  <dc:language>en-US</dc:language>
  <cp:lastModifiedBy>Кувшинова Лариса Алексеевна</cp:lastModifiedBy>
  <dcterms:modified xsi:type="dcterms:W3CDTF">2009-04-24T02:33:53Z</dcterms:modified>
  <cp:revision>12</cp:revision>
  <dc:subject/>
  <dc:title>Витамины</dc:title>
</cp:coreProperties>
</file>