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F38-2BC8-430E-B3C6-63BFBFCD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5AE-A154-4621-AE7B-F18D041C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A55-1654-414A-AE7C-6ECC246D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83F-CE7D-4813-8AF0-9029FACE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9DCA-5FDA-4A0B-9F88-2655A4D3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F928-E773-4F2F-B619-6571909B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CFB-5909-4718-BFBF-E72738F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6FBF-3415-43D0-AC07-6F5D6BC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40D-167F-44B6-B57D-4384619A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766A-2274-4392-9D0D-6782E2C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D380-0686-42DD-8914-C296D38A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670-39B1-4833-9BCE-6EBA1AC8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0487-ED3F-4AA8-A924-E1A917A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D02C-0DF9-411A-B6A6-8386FE0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31C8-1335-40C5-A29C-0C320F9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04F4-89E8-45F5-8D6D-86934A1F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584-E1BC-46EA-84B5-EA102F03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EED-1EBC-447B-A392-5225B635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01C-9CBF-4B26-A597-D82FDEC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219-7DA4-4C8B-BE92-63056796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5D2-EFAB-4CD0-8E2D-E6D7A0B8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E80-E44B-4F18-BDBF-367F068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AD4-03AD-4DD8-ACFF-C659541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C66-4B93-4D3C-9AD6-1FDA5B9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3CC-3DD2-4AEB-ABD0-80ED3A0CE2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CFD-7AB4-4ABC-A8BB-57EF2060C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914400" y="121896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Arial"/>
              </a:rPr>
              <a:t>Дорогам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Arial"/>
              </a:rPr>
              <a:t>во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Users\Администратор\Desktop\конкурс\берлин\блокада фото\3.jpg"/>
          <p:cNvPicPr/>
          <p:nvPr/>
        </p:nvPicPr>
        <p:blipFill>
          <a:blip r:embed="rId1"/>
          <a:stretch/>
        </p:blipFill>
        <p:spPr>
          <a:xfrm>
            <a:off x="838080" y="1143000"/>
            <a:ext cx="51832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Users\Администратор\Desktop\конкурс\берлин\блокада фото\5.jpg"/>
          <p:cNvPicPr/>
          <p:nvPr/>
        </p:nvPicPr>
        <p:blipFill>
          <a:blip r:embed="rId1"/>
          <a:stretch/>
        </p:blipFill>
        <p:spPr>
          <a:xfrm>
            <a:off x="1676520" y="609480"/>
            <a:ext cx="3743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Администратор\Desktop\конкурс\берлин\блокада фото\69831483_1296123660_4102.jpg"/>
          <p:cNvPicPr/>
          <p:nvPr/>
        </p:nvPicPr>
        <p:blipFill>
          <a:blip r:embed="rId1"/>
          <a:stretch/>
        </p:blipFill>
        <p:spPr>
          <a:xfrm>
            <a:off x="838080" y="1212840"/>
            <a:ext cx="7010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Администратор\Desktop\конкурс\берлин\блокада фото\len-059.jpg"/>
          <p:cNvPicPr/>
          <p:nvPr/>
        </p:nvPicPr>
        <p:blipFill>
          <a:blip r:embed="rId1"/>
          <a:stretch/>
        </p:blipFill>
        <p:spPr>
          <a:xfrm>
            <a:off x="990720" y="114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Администратор\Desktop\конкурс\берлин\блокада фото\len-008.jpg"/>
          <p:cNvPicPr/>
          <p:nvPr/>
        </p:nvPicPr>
        <p:blipFill>
          <a:blip r:embed="rId1"/>
          <a:stretch/>
        </p:blipFill>
        <p:spPr>
          <a:xfrm>
            <a:off x="1295280" y="1295280"/>
            <a:ext cx="60962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Блокада Ленинград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8 сентября 1941 –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27 января 1944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Администратор\Desktop\конкурс\сталингр курск\1359708572_7.jpg"/>
          <p:cNvPicPr/>
          <p:nvPr/>
        </p:nvPicPr>
        <p:blipFill>
          <a:blip r:embed="rId1"/>
          <a:stretch/>
        </p:blipFill>
        <p:spPr>
          <a:xfrm>
            <a:off x="1692360" y="1600200"/>
            <a:ext cx="598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Администратор\Desktop\конкурс\берлин\87617_War_10.jpg"/>
          <p:cNvPicPr/>
          <p:nvPr/>
        </p:nvPicPr>
        <p:blipFill>
          <a:blip r:embed="rId1"/>
          <a:stretch/>
        </p:blipFill>
        <p:spPr>
          <a:xfrm>
            <a:off x="2286000" y="838080"/>
            <a:ext cx="42688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440" y="1600200"/>
            <a:ext cx="80010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Администратор\Desktop\конкурс\сталингр курск\31387.jpg"/>
          <p:cNvPicPr/>
          <p:nvPr/>
        </p:nvPicPr>
        <p:blipFill>
          <a:blip r:embed="rId2"/>
          <a:stretch/>
        </p:blipFill>
        <p:spPr>
          <a:xfrm>
            <a:off x="1238400" y="1228680"/>
            <a:ext cx="66672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Администратор\Desktop\конкурс\берлин\1353517204_war_15.jpg"/>
          <p:cNvPicPr/>
          <p:nvPr/>
        </p:nvPicPr>
        <p:blipFill>
          <a:blip r:embed="rId1"/>
          <a:stretch/>
        </p:blipFill>
        <p:spPr>
          <a:xfrm>
            <a:off x="990720" y="838080"/>
            <a:ext cx="718164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-360" y="17524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70 лет назад закончилась самая  великая и страшная война в мировой истории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Администратор\Desktop\конкурс\сталингр курск\4e6mGBX-I4Q.jpg"/>
          <p:cNvPicPr/>
          <p:nvPr/>
        </p:nvPicPr>
        <p:blipFill>
          <a:blip r:embed="rId1"/>
          <a:stretch/>
        </p:blipFill>
        <p:spPr>
          <a:xfrm>
            <a:off x="1409760" y="1600200"/>
            <a:ext cx="655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алинградская битва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7 июля 1942 г.— 2 февраля 194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Администратор\Desktop\конкурс\сталингр курск\01 (10).jpeg"/>
          <p:cNvPicPr/>
          <p:nvPr/>
        </p:nvPicPr>
        <p:blipFill>
          <a:blip r:embed="rId1"/>
          <a:stretch/>
        </p:blipFill>
        <p:spPr>
          <a:xfrm>
            <a:off x="1584360" y="1981080"/>
            <a:ext cx="59594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Администратор\Desktop\конкурс\сталингр курск\execpmjl_ubqcu.jpg"/>
          <p:cNvPicPr/>
          <p:nvPr/>
        </p:nvPicPr>
        <p:blipFill>
          <a:blip r:embed="rId1"/>
          <a:stretch/>
        </p:blipFill>
        <p:spPr>
          <a:xfrm>
            <a:off x="1219320" y="1066680"/>
            <a:ext cx="708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Администратор\Desktop\конкурс\берлин\war11.jpg"/>
          <p:cNvPicPr/>
          <p:nvPr/>
        </p:nvPicPr>
        <p:blipFill>
          <a:blip r:embed="rId1"/>
          <a:stretch/>
        </p:blipFill>
        <p:spPr>
          <a:xfrm>
            <a:off x="1295280" y="1371600"/>
            <a:ext cx="6381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урская битв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5 июля — 23 август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943 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440" y="160020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Администратор\Desktop\конкурс\берлин\01.jpg"/>
          <p:cNvPicPr/>
          <p:nvPr/>
        </p:nvPicPr>
        <p:blipFill>
          <a:blip r:embed="rId1"/>
          <a:stretch/>
        </p:blipFill>
        <p:spPr>
          <a:xfrm>
            <a:off x="1447920" y="1143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Администратор\Desktop\конкурс\берлин\60.jpg"/>
          <p:cNvPicPr/>
          <p:nvPr/>
        </p:nvPicPr>
        <p:blipFill>
          <a:blip r:embed="rId1"/>
          <a:stretch/>
        </p:blipFill>
        <p:spPr>
          <a:xfrm>
            <a:off x="1219320" y="838080"/>
            <a:ext cx="6622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Администратор\Desktop\конкурс\берлин\100483191_large_saa.jpg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Администратор\Desktop\конкурс\берлин\409586971.jpg"/>
          <p:cNvPicPr/>
          <p:nvPr/>
        </p:nvPicPr>
        <p:blipFill>
          <a:blip r:embed="rId1"/>
          <a:stretch/>
        </p:blipFill>
        <p:spPr>
          <a:xfrm>
            <a:off x="1717560" y="1600200"/>
            <a:ext cx="593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Администратор\Desktop\конкурс\берлин\13630816215517.jpg"/>
          <p:cNvPicPr/>
          <p:nvPr/>
        </p:nvPicPr>
        <p:blipFill>
          <a:blip r:embed="rId1"/>
          <a:stretch/>
        </p:blipFill>
        <p:spPr>
          <a:xfrm>
            <a:off x="1143000" y="1447920"/>
            <a:ext cx="51973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440" y="1600200"/>
            <a:ext cx="80010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Администратор\Desktop\конкурс\берлин\2bc8337252b251d2ab8b6aa5fd3.jpg"/>
          <p:cNvPicPr/>
          <p:nvPr/>
        </p:nvPicPr>
        <p:blipFill>
          <a:blip r:embed="rId2"/>
          <a:stretch/>
        </p:blipFill>
        <p:spPr>
          <a:xfrm>
            <a:off x="1295280" y="1523880"/>
            <a:ext cx="59882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Администратор\Desktop\конкурс\берлин\russeninberlinkl9ax.jpg"/>
          <p:cNvPicPr/>
          <p:nvPr/>
        </p:nvPicPr>
        <p:blipFill>
          <a:blip r:embed="rId1"/>
          <a:stretch/>
        </p:blipFill>
        <p:spPr>
          <a:xfrm>
            <a:off x="2133720" y="685800"/>
            <a:ext cx="419076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итва за Берли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6 апреля — 8 мая 1945 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440" y="160020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6" name="Picture 4" descr="C:\Users\Администратор\Desktop\конкурс\берлин\92.jpg"/>
          <p:cNvPicPr/>
          <p:nvPr/>
        </p:nvPicPr>
        <p:blipFill>
          <a:blip r:embed="rId1"/>
          <a:stretch/>
        </p:blipFill>
        <p:spPr>
          <a:xfrm>
            <a:off x="2438280" y="2265480"/>
            <a:ext cx="52009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Users\Администратор\Desktop\конкурс\берлин\0_68ec7_92d8a1ad_XL.jpg"/>
          <p:cNvPicPr/>
          <p:nvPr/>
        </p:nvPicPr>
        <p:blipFill>
          <a:blip r:embed="rId1"/>
          <a:stretch/>
        </p:blipFill>
        <p:spPr>
          <a:xfrm>
            <a:off x="838080" y="838080"/>
            <a:ext cx="73789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Администратор\Desktop\конкурс\москва\msk2_insidearticle.jpg"/>
          <p:cNvPicPr/>
          <p:nvPr/>
        </p:nvPicPr>
        <p:blipFill>
          <a:blip r:embed="rId1"/>
          <a:stretch/>
        </p:blipFill>
        <p:spPr>
          <a:xfrm>
            <a:off x="1447920" y="976320"/>
            <a:ext cx="6248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Администратор\Desktop\конкурс\москва\1314590720_1314098150_big_759633b82c074f4e2660ad3a610ca83c130.jpg"/>
          <p:cNvPicPr/>
          <p:nvPr/>
        </p:nvPicPr>
        <p:blipFill>
          <a:blip r:embed="rId1"/>
          <a:stretch/>
        </p:blipFill>
        <p:spPr>
          <a:xfrm>
            <a:off x="1149480" y="1600200"/>
            <a:ext cx="707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Users\Администратор\Desktop\конкурс\москва\121000214447.jpg"/>
          <p:cNvPicPr/>
          <p:nvPr/>
        </p:nvPicPr>
        <p:blipFill>
          <a:blip r:embed="rId1"/>
          <a:stretch/>
        </p:blipFill>
        <p:spPr>
          <a:xfrm>
            <a:off x="1219320" y="10666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haroni"/>
              </a:rPr>
              <a:t>Битва за Москву </a:t>
            </a: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0 сентября 1941 –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0 апреля 1942 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440" y="160020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.ws</cp:lastModifiedBy>
  <dcterms:modified xsi:type="dcterms:W3CDTF">2015-03-01T22:12:43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