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C4C-D325-4639-BF5B-54FE1FEB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C05-FA9A-498E-873D-6EF543D7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7C1-B075-4DCB-94AA-D5F36392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D20-9801-466B-9FDD-0F77EFBD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9BC-5C6F-4735-9324-942E8DE3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82A-3E45-493E-9032-0B6997B6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A6F-ABC7-4D32-A553-D7DB7995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DEE-F910-48F1-A17F-97665241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35D-2342-4095-975E-F80743A6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A98-936A-491A-8AFC-0D122626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20F-B16D-4EA4-B7D0-2159EAE4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593-8587-4E1E-B501-F6ED7A50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A35A-F39B-4FC9-AF0A-F0EA163E2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Новогодние поделки кпесне в лесу родилась елочка своими руками - Поделки своими рук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убрякова Елена Борисовна Живая и неживая природа зимой Цели ур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Предпросмотр - Схема вышивки &quot;ЗИМА&quot; - Схемы вышивки - route …"/>
          <p:cNvPicPr/>
          <p:nvPr/>
        </p:nvPicPr>
        <p:blipFill>
          <a:blip r:embed="rId1"/>
          <a:srcRect l="5835" t="6667" r="5835" b="66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06:50:03Z</dcterms:created>
  <dc:creator>админ</dc:creator>
  <dc:description/>
  <dc:language>en-US</dc:language>
  <cp:lastModifiedBy>админ</cp:lastModifiedBy>
  <dcterms:modified xsi:type="dcterms:W3CDTF">2015-03-02T14:51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