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085-0065-4651-8676-3AA5137E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4E8-AEB3-46AA-AAF4-0AD28786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47C-AEF0-4F83-9731-D105774A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187-25DA-43F2-A274-289B8808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E82-0539-407B-BCD6-ECE90A95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EF6-9050-4740-B8BE-CCE614F2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336-D6BE-4C5C-87D9-AF93EBB0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AD6-393E-4E5C-9842-A36F8EA8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D39-19D3-40D3-8EF6-34C5D388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565-12A5-4768-A80A-6625F91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50D-C190-464C-ACFF-08E4ED96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3F8-0BD7-4593-90D9-E24A8C6B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5768-8AEB-4A39-893B-9485BB9138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Военный Марш (1).mp4" descr=""/>
          <p:cNvPicPr/>
          <p:nvPr/>
        </p:nvPicPr>
        <p:blipFill>
          <a:blip r:embed="rId1"/>
          <a:stretch/>
        </p:blipFill>
        <p:spPr>
          <a:xfrm>
            <a:off x="-154944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195120" y="0"/>
            <a:ext cx="9339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395280" y="404640"/>
            <a:ext cx="8569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олдатушки, бравы ребятуш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де же ваши сестры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Наши сестры – штыки, сабли остр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где наши сестры!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олдатушки, бравы ребятуш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де же ваши детки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Наши детки – пули наши мет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где наши детки!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олдатушки, бравы ребятуш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де же ваша хата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Наша хата – лагерь супоста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где наша хата!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88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25"/>
          <p:cNvSpPr/>
          <p:nvPr/>
        </p:nvSpPr>
        <p:spPr>
          <a:xfrm>
            <a:off x="0" y="0"/>
            <a:ext cx="9144000" cy="1197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0" y="1413000"/>
            <a:ext cx="9144000" cy="381636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0" y="19274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чего состояло вооружение древнерусского воина?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115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ВИКТОРИНА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0" y="1413000"/>
            <a:ext cx="9144000" cy="3816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0" y="2060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овите фамилию первой русской девушки-кавалериста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0" y="1413000"/>
            <a:ext cx="9144000" cy="381636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0" y="19890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сконструировал военный бомбардировщик ПО- 2?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16"/>
          <p:cNvSpPr/>
          <p:nvPr/>
        </p:nvSpPr>
        <p:spPr>
          <a:xfrm>
            <a:off x="0" y="1413000"/>
            <a:ext cx="9144000" cy="3816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0" y="2060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овите самую распространенную среди моряков одежду?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0" y="1413000"/>
            <a:ext cx="9144000" cy="381636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изобрел первый в мире пулемет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19"/>
          <p:cNvSpPr/>
          <p:nvPr/>
        </p:nvSpPr>
        <p:spPr>
          <a:xfrm>
            <a:off x="0" y="1413000"/>
            <a:ext cx="9144000" cy="3816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20"/>
          <p:cNvSpPr/>
          <p:nvPr/>
        </p:nvSpPr>
        <p:spPr>
          <a:xfrm>
            <a:off x="0" y="2276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лошадей в эскадроне?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оугольник 21"/>
          <p:cNvSpPr/>
          <p:nvPr/>
        </p:nvSpPr>
        <p:spPr>
          <a:xfrm>
            <a:off x="0" y="1413000"/>
            <a:ext cx="9144000" cy="381636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22"/>
          <p:cNvSpPr/>
          <p:nvPr/>
        </p:nvSpPr>
        <p:spPr>
          <a:xfrm>
            <a:off x="0" y="22050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й выдающийся русский полководец XVIII века.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23"/>
          <p:cNvSpPr/>
          <p:nvPr/>
        </p:nvSpPr>
        <p:spPr>
          <a:xfrm>
            <a:off x="0" y="1413000"/>
            <a:ext cx="9144000" cy="3816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оугольник 24"/>
          <p:cNvSpPr/>
          <p:nvPr/>
        </p:nvSpPr>
        <p:spPr>
          <a:xfrm>
            <a:off x="0" y="2060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означает слово «генералиссимус»?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Скругленный прямоугольник 26"/>
          <p:cNvSpPr/>
          <p:nvPr/>
        </p:nvSpPr>
        <p:spPr>
          <a:xfrm>
            <a:off x="0" y="5661000"/>
            <a:ext cx="9144000" cy="1197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680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346480" y="0"/>
            <a:ext cx="42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c00000"/>
                </a:solidFill>
                <a:uFillTx/>
                <a:latin typeface="Arial"/>
              </a:rPr>
              <a:t>вопрос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0" y="16286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 называется песня и как называется фильм, в котором оркестр, состоящий из летчиков, исполняет песню о девушке, по тропинке ушедшей в лес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муглянка_-_В бой идут одни старики.mp4.mp4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1280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5501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549360"/>
            <a:ext cx="917244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79280" y="692280"/>
            <a:ext cx="8834400" cy="5300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535120" y="0"/>
            <a:ext cx="428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ПОТАНЦУЕМ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Гога - Боби боба к.ф Спецназ  (audiopoisk.com).mp3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9350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85348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Марш -Прощание Славянки-.mp4" descr=""/>
          <p:cNvPicPr/>
          <p:nvPr/>
        </p:nvPicPr>
        <p:blipFill>
          <a:blip r:embed="rId1"/>
          <a:stretch/>
        </p:blipFill>
        <p:spPr>
          <a:xfrm>
            <a:off x="0" y="692280"/>
            <a:ext cx="91677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10999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«</a:t>
            </a: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Я — будущий защитник Отечества!»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ФАНФАРЫ.mp4" descr="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404640"/>
            <a:ext cx="9147240" cy="6093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0" y="55908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На границе тучи ходят хмур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Край суровый тишиной объя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У высоких берегов Ам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Часовые родины стоя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-366480" y="3273480"/>
            <a:ext cx="978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Там врагу заслон поставлен прочны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Там стоит, отважен и силен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У границ земли дальневосточ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Броневой ударный батальо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Военные_песни_-_Три_Танкиста_2_(-).mp3" descr=""/>
          <p:cNvPicPr/>
          <p:nvPr/>
        </p:nvPicPr>
        <p:blipFill>
          <a:blip r:embed="rId2"/>
          <a:stretch/>
        </p:blipFill>
        <p:spPr>
          <a:xfrm>
            <a:off x="824400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ПОЕМТЕ ВМЕСТЕ, ДРУЗ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4680" y="404640"/>
            <a:ext cx="9139320" cy="6093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-355680" y="363600"/>
            <a:ext cx="950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Там живут — и песня в том порука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Нерушимой, крепкою семь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Три танкиста, три веселых друга 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Экипаж машины боев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160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На траву легла роса густ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Полегли туманы широ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В эту ночь решили самура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Перейти границу у ре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404640"/>
            <a:ext cx="9128160" cy="6093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-324360" y="281160"/>
            <a:ext cx="868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Но разведка доложила точно, 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И пошел командою взметен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По родной земле дальневосточ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Броневой ударный батальо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-123840" y="30895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Мчались танки, ветер подым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Наступала грозная брон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И летели наземь самура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Под напором стали и огн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42920" y="2286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215280" y="198720"/>
            <a:ext cx="868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И добили — песня в том пору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Всех врагов в атаке огнев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Три танкиста, три веселых дру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olas"/>
                <a:ea typeface="Times New Roman"/>
              </a:rPr>
              <a:t>Экипаж машины боев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91072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7230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324000" y="40464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лдатушки, бравы ребятуш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де же ваши деды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Наши деды – славные побед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где наши деды!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олдатушки, бравы ребятуш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де же ваши матки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Наши матки – белые палат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где наши матки!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олдатушки, бравы ребятуш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где ваши жены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Наши жены – ружья заряжен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где наши жены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Домисолька_-_Солдатушки,_бравы_ребятушки_(-).mp3" descr=""/>
          <p:cNvPicPr/>
          <p:nvPr/>
        </p:nvPicPr>
        <p:blipFill>
          <a:blip r:embed="rId2"/>
          <a:stretch/>
        </p:blipFill>
        <p:spPr>
          <a:xfrm>
            <a:off x="8317080" y="6453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630800" y="0"/>
            <a:ext cx="60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ПОЕМТЕ ВМЕСТЕ, ДРУЗ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7:01:45Z</dcterms:created>
  <dc:creator>Admin</dc:creator>
  <dc:description/>
  <dc:language>en-US</dc:language>
  <cp:lastModifiedBy>Admin</cp:lastModifiedBy>
  <dcterms:modified xsi:type="dcterms:W3CDTF">2015-03-03T14:16:13Z</dcterms:modified>
  <cp:revision>36</cp:revision>
  <dc:subject/>
  <dc:title>Слайд 1</dc:title>
</cp:coreProperties>
</file>