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5095-051B-4CFC-871B-759E04395A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4EE-E418-42BD-A047-C1AAB04FEA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29C7-A25C-4F1F-8773-E43F3F8DAD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11EC-AA54-4EBA-A579-72671BEBE2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431E-2AAC-458B-A410-2EB1134D0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FFE7-9E7A-45B2-AA87-ABD1D6C2C2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110A-1F77-4705-A429-47640ED78C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1C93-0DA1-4C81-89A1-647E61FE45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372F-6273-40D4-9345-6030D6F801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77C0-D3EE-46B9-8A09-5DFE10D569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B948-3BB5-49ED-BB7F-D1A0E96260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A2EA-2CAF-4D28-9140-4F95EF40B6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BE46-EB25-4A56-8D58-63B9C62DCB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150-179A-4FDA-96C5-BCD623A1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B81-9FC2-4A46-8D6B-42DE6977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E37-A7A5-4A2D-8BD6-32CF9173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352-5F3C-43A5-8D29-C1EE7DC8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0BB3-1DB2-48CC-9AC1-830E686E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F324-27C9-4983-8C40-9A244261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5417-2CD9-4D08-892E-421B4ECB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EF13-D5CF-4AA5-8DC3-4CC1D0A4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C629-E52F-406D-B556-48C57F2A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3B66-6822-46B2-B79F-0A5D18F4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3F4A-FAFD-4153-B814-90B615BC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D96-048D-4BB4-9CDD-2A34CBD9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1397-19C2-4BD7-BDD3-C2778AAF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BA2F-B44D-4C39-A7BF-9AFD042A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0BFC-5AE7-40E8-850C-73E87D20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9489-94AA-4DB0-B0D3-A8794A87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9E38-17E4-4ED9-A9BC-E6220DB9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C1B-EFA8-4441-9BDD-39EAE0A8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929-CAC1-4696-BE08-B70768DD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1FA-9E36-4053-8232-94A2A6BD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380-DD5C-497E-BE73-E4042508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8A4-3A4C-44D7-9B58-3B932164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819-4B49-4738-86E9-8B215F1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26B-165C-42BE-8F14-6213889D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3FD9-1274-4364-9A77-916EEEDF0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FB6F-B483-4FC1-AF9A-DBB06CD2D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226836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остов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500040" y="642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Южный федеральны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афедра педагогики и методик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1071720" y="1643040"/>
            <a:ext cx="7072200" cy="459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ЫПУСКНАЯ КВАЛИФИКАЦИОННАЯ (ДИПЛОМНАЯ)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85560" y="2143080"/>
            <a:ext cx="7429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e0000"/>
                </a:solidFill>
                <a:latin typeface="Calibri"/>
                <a:ea typeface="Arabic Typesetting"/>
              </a:rPr>
              <a:t>Тема: </a:t>
            </a:r>
            <a:br>
              <a:rPr sz="24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«Детская игра как фактор социального развития младшего школьника»</a:t>
            </a:r>
            <a:br>
              <a:rPr sz="2500"/>
            </a:b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9680" y="4429080"/>
            <a:ext cx="70722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сполнител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1" i="1" lang="ru-RU" sz="2400" spc="-1" strike="noStrike">
                <a:solidFill>
                  <a:srgbClr val="de0000"/>
                </a:solidFill>
                <a:latin typeface="Calibri"/>
              </a:rPr>
              <a:t>Бедило Е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учный руководител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de0000"/>
                </a:solidFill>
                <a:latin typeface="Calibri"/>
              </a:rPr>
              <a:t>к.п.н., доц. Щербина Е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3152"/>
                </a:solidFill>
                <a:latin typeface="Calibri"/>
              </a:rPr>
              <a:t>Выявление эффективности проведенной опытно - экспериментальной работы</a:t>
            </a:r>
            <a:br>
              <a:rPr sz="2200"/>
            </a:br>
            <a:r>
              <a:rPr b="1" lang="ru-RU" sz="2200" spc="-1" strike="noStrike">
                <a:solidFill>
                  <a:srgbClr val="de0000"/>
                </a:solidFill>
                <a:latin typeface="Calibri"/>
              </a:rPr>
              <a:t>(Контрольный этап эксперимента)</a:t>
            </a:r>
            <a:endParaRPr b="0" lang="en-US" sz="2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320" y="1600200"/>
            <a:ext cx="80010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   выявить первоначальный уровень  социализированности 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Методи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ервый эта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нкетирование учителей начальной шк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торой эта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беседа с младшими школь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ретий эта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блюдение за игровой деятельностью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42960" y="3786120"/>
          <a:ext cx="7858080" cy="2898720"/>
        </p:xfrm>
        <a:graphic>
          <a:graphicData uri="http://schemas.openxmlformats.org/drawingml/2006/table">
            <a:tbl>
              <a:tblPr/>
              <a:tblGrid>
                <a:gridCol w="3286080"/>
                <a:gridCol w="2357640"/>
                <a:gridCol w="2214360"/>
              </a:tblGrid>
              <a:tr h="442080">
                <a:tc rowSpan="2"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развития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тир. экс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ый экс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904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ысокий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904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89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инамика изменения уровня социализированности  младших школьников в процессе экспериментальной работы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572240" cy="39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2163600"/>
            <a:ext cx="8163000" cy="123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320" y="785520"/>
            <a:ext cx="8001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e0000"/>
                </a:solidFill>
                <a:latin typeface="Calibri"/>
              </a:rPr>
              <a:t>Объект исследования</a:t>
            </a:r>
            <a:r>
              <a:rPr b="0" lang="ru-RU" sz="3200" spc="-1" strike="noStrike">
                <a:solidFill>
                  <a:srgbClr val="de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роцесс социализации детей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e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de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 игра как средство социализации детей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e0000"/>
                </a:solidFill>
                <a:latin typeface="Calibri"/>
              </a:rPr>
              <a:t>Цель исследования</a:t>
            </a:r>
            <a:r>
              <a:rPr b="0" lang="ru-RU" sz="3200" spc="-1" strike="noStrike">
                <a:solidFill>
                  <a:srgbClr val="de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обосновать эффективные психолого-педагогические условия  социализации младших школьников в иг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ипотеза исследования: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128556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500" spc="-1" strike="noStrike">
                <a:solidFill>
                  <a:srgbClr val="7030a0"/>
                </a:solidFill>
                <a:latin typeface="Calibri"/>
              </a:rPr>
              <a:t>социально-ориентированные игры могут являться средством социализации школьников, </a:t>
            </a:r>
            <a:r>
              <a:rPr b="1" i="1" lang="ru-RU" sz="2800" spc="-1" strike="noStrike" u="sng">
                <a:solidFill>
                  <a:srgbClr val="de0000"/>
                </a:solidFill>
                <a:uFillTx/>
                <a:latin typeface="Calibri"/>
              </a:rPr>
              <a:t>ес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 определены основные  критерии и показатели социализации детей младшего школьного возраст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оведена своевременная диагностика уровня социализированности детей младшего школьного возраст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в учебную внеучебную деятельность младших школьников введены игры, обеспечивающие процесс социализации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содержание игр строится с учетом возрастных и индивидуальных особенностей детей младшего школьного возрас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дачи исследования: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57160" y="1213920"/>
            <a:ext cx="7715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e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зучит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проанализировать психолого-педагогическую литературу по проблеме  исследова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e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Выявит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и определить базовые понятия  исследова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e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Выявит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психолого-педагогические особенности социализации младших школьни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e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Осуществить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иагностику уровня социализированности младших школьников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de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Разработать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недрить в практику образовательного учреждения игровую программу,  обеспечивающую социализацию младших школьников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Глава 1. </a:t>
            </a: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Теоретические подходы к проблеме социализации младших школьников средствами игры</a:t>
            </a:r>
            <a:endParaRPr b="0" lang="en-US" sz="25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680" y="1599840"/>
            <a:ext cx="7929360" cy="125748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Социализация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–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цесс усвоения индивид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протяжении его жизни социальных норм, культурных ценностей и образцов поведения  того общества, к которому он принадлежи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42600" y="3071880"/>
            <a:ext cx="7929720" cy="300024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Факторы,  влияющие на процесс социализации реб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крофакторы - семь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зофакторы - этнокультурные  усло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крофакторы - космос, планета, общество, государ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Виды социализаци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оролева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мейно-бытова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фессионально-трудова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бкультурно-группов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a452a"/>
                </a:solidFill>
                <a:latin typeface="Calibri"/>
              </a:rPr>
              <a:t>Психолого-педагогические основы игры </a:t>
            </a:r>
            <a:br>
              <a:rPr sz="2800"/>
            </a:br>
            <a:r>
              <a:rPr b="1" i="1" lang="ru-RU" sz="2800" spc="-1" strike="noStrike">
                <a:solidFill>
                  <a:srgbClr val="4a452a"/>
                </a:solidFill>
                <a:latin typeface="Calibri"/>
              </a:rPr>
              <a:t>младших школьников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71320" y="1500120"/>
            <a:ext cx="8001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Игра - эт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прежде всего, активность индивида, направленная на условное моделирование той или иной развернут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циально-ориентированная игра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является наиболее доступной младшим школьникам, самостоятельной, эмоциональной, творческой и коллективной деятельностью, в процессе которой происходит усвоение ими социального опыта взрослых и создается их «зона ближайшего развития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лава 2.</a:t>
            </a: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 Пути и условия социализации младшего школьника средствами игры</a:t>
            </a:r>
            <a:br>
              <a:rPr sz="22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(Констатирующий этап эксперимента)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   выявить первоначальный уровень  социализированности 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Методи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ервый эта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нкетирование учителей начальной шк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торой эта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беседа с младшими школь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ретий эта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блюдение за игровой деятельностью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Критер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  информационный,   мотивационный,  деятельност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Анкета для учителе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31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ажите, в какие игры обычно предпочитают играть дети вашего класса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31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ишите, пожалуйста, в “кого” чаще всего играют ваши  учащие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31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выбирает  (назначает) роли в иг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31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чаще всего бывает инициатором выбора сюжета игр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31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 ли Вы детей выстраивать сюжетную линию игр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31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ровни  развития социализированности младших школьников  на этапе  </a:t>
            </a:r>
            <a:r>
              <a:rPr b="1" lang="ru-RU" sz="2400" spc="-1" strike="noStrike">
                <a:solidFill>
                  <a:srgbClr val="de0000"/>
                </a:solidFill>
                <a:latin typeface="Calibri"/>
              </a:rPr>
              <a:t>констатирующего эксперимента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5880" y="4286160"/>
          <a:ext cx="7643880" cy="2057400"/>
        </p:xfrm>
        <a:graphic>
          <a:graphicData uri="http://schemas.openxmlformats.org/drawingml/2006/table">
            <a:tbl>
              <a:tblPr/>
              <a:tblGrid>
                <a:gridCol w="3500280"/>
                <a:gridCol w="4143600"/>
              </a:tblGrid>
              <a:tr h="4118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развития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490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ысокий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490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490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785880" y="1785960"/>
          <a:ext cx="764388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785960"/>
                    <a:ext cx="764388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Опыт социализации младших школьников </a:t>
            </a:r>
            <a:br>
              <a:rPr sz="2200"/>
            </a:b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средствами игры</a:t>
            </a:r>
            <a:br>
              <a:rPr sz="2200"/>
            </a:br>
            <a:r>
              <a:rPr b="1" lang="ru-RU" sz="2200" spc="-1" strike="noStrike">
                <a:solidFill>
                  <a:srgbClr val="de0000"/>
                </a:solidFill>
                <a:latin typeface="Calibri"/>
              </a:rPr>
              <a:t>(Формирующий этап эксперимента)</a:t>
            </a:r>
            <a:endParaRPr b="0" lang="en-US" sz="2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71320" y="1600200"/>
            <a:ext cx="80010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e0000"/>
                </a:solidFill>
                <a:uFillTx/>
                <a:latin typeface="Calibri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 усиление аспектов, которые   влияют на сформированность  информационного, эмоционального и поведенческого компонентов социализированности  младших школь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e0000"/>
                </a:solidFill>
                <a:uFillTx/>
                <a:latin typeface="Calibri"/>
              </a:rPr>
              <a:t>Программа:</a:t>
            </a:r>
            <a:r>
              <a:rPr b="0" lang="ru-RU" sz="2000" spc="-1" strike="noStrike" u="sng">
                <a:solidFill>
                  <a:srgbClr val="de0000"/>
                </a:solidFill>
                <a:uFillTx/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«Я и мир вокруг мен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e0000"/>
                </a:solidFill>
                <a:uFillTx/>
                <a:latin typeface="Calibri"/>
              </a:rPr>
              <a:t>Три блока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«Знание»,«Отношение»,Общени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хема 4" descr=""/>
          <p:cNvPicPr/>
          <p:nvPr/>
        </p:nvPicPr>
        <p:blipFill>
          <a:blip r:embed="rId1"/>
          <a:stretch/>
        </p:blipFill>
        <p:spPr>
          <a:xfrm>
            <a:off x="-23760" y="3333600"/>
            <a:ext cx="4194000" cy="3408480"/>
          </a:xfrm>
          <a:prstGeom prst="rect">
            <a:avLst/>
          </a:prstGeom>
          <a:ln w="0">
            <a:noFill/>
          </a:ln>
        </p:spPr>
      </p:pic>
      <p:pic>
        <p:nvPicPr>
          <p:cNvPr id="114" name="Схема 5" descr=""/>
          <p:cNvPicPr/>
          <p:nvPr/>
        </p:nvPicPr>
        <p:blipFill>
          <a:blip r:embed="rId2"/>
          <a:stretch/>
        </p:blipFill>
        <p:spPr>
          <a:xfrm>
            <a:off x="4187880" y="3333600"/>
            <a:ext cx="4979880" cy="3408480"/>
          </a:xfrm>
          <a:prstGeom prst="rect">
            <a:avLst/>
          </a:prstGeom>
          <a:ln w="0">
            <a:noFill/>
          </a:ln>
        </p:spPr>
      </p:pic>
      <p:sp>
        <p:nvSpPr>
          <p:cNvPr id="115" name="Стрелка вправо 6"/>
          <p:cNvSpPr/>
          <p:nvPr/>
        </p:nvSpPr>
        <p:spPr>
          <a:xfrm>
            <a:off x="4071960" y="385776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7"/>
          <p:cNvSpPr/>
          <p:nvPr/>
        </p:nvSpPr>
        <p:spPr>
          <a:xfrm>
            <a:off x="4071960" y="4786200"/>
            <a:ext cx="85716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8"/>
          <p:cNvSpPr/>
          <p:nvPr/>
        </p:nvSpPr>
        <p:spPr>
          <a:xfrm>
            <a:off x="4071960" y="5715000"/>
            <a:ext cx="785880" cy="571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786200" y="371484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de0000"/>
                </a:solidFill>
                <a:uFillTx/>
                <a:latin typeface="Calibri"/>
              </a:rPr>
              <a:t>Игры</a:t>
            </a:r>
            <a:r>
              <a:rPr b="1" lang="ru-RU" sz="1800" spc="-1" strike="noStrike">
                <a:solidFill>
                  <a:srgbClr val="de0000"/>
                </a:solidFill>
                <a:latin typeface="Calibri"/>
              </a:rPr>
              <a:t>: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Лунный маскарад»,  «Праздник–безобразник», «Страна Чистю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857840" y="457200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de0000"/>
                </a:solidFill>
                <a:uFillTx/>
                <a:latin typeface="Calibri"/>
              </a:rPr>
              <a:t>Игр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  «Страна Олимпиадия», «Догнать мяч», «Идеальный друг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4857840" y="557208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de0000"/>
                </a:solidFill>
                <a:uFillTx/>
                <a:latin typeface="Calibri"/>
              </a:rPr>
              <a:t>Игр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  «Пациент и врач», «Пожарники», «Брейн - ринг», «Ро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6:57:02Z</dcterms:created>
  <dc:creator>Мама</dc:creator>
  <dc:description/>
  <dc:language>en-US</dc:language>
  <cp:lastModifiedBy>Lena</cp:lastModifiedBy>
  <dcterms:modified xsi:type="dcterms:W3CDTF">2014-05-13T04:40:55Z</dcterms:modified>
  <cp:revision>20</cp:revision>
  <dc:subject/>
  <dc:title>Тема:   «Детская игра как фактор социализации младшего школьник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