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459-0A18-4BE6-AA5B-84D2AD9D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D30-B4FF-459E-A2FE-6E399338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CA8-5654-4E45-8E74-74A54375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A63-86C6-416D-A5A7-7AAD0054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CF97-FA3B-4C12-9324-FADDFFE8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3F63-3A29-445A-85D0-A390B0F9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7529-CE52-49BA-AEB2-80B0B8D1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4C50-9FAD-4B6F-BB9F-B08496B4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0015-03F5-4346-83C3-24BA00F7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9B38-286A-4054-AB91-E867F26E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9B96-F6A6-4AA0-8573-27307923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343-0729-4F88-A866-F0D93FE7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FB58-73ED-49D2-AA9F-70FBD932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1317-2254-4DD7-A254-C4B5610C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E3F-7029-49F0-8BC4-4472F33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4DCA-56E8-4D36-BB87-827D68B4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913E-ACDA-4FD6-B2BE-A48329C8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1173F-A929-426B-9888-B1392DD6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0858-B1C0-4C5F-A8BE-33B8B83C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DDEB-76B4-49B9-9849-F55C368D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2E67-C162-4BD6-9471-923EFEF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C92F2-4B11-44DC-86DF-302E237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A75-8D89-4857-ADBB-ADC0CC4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012C7-E5B8-418B-8B1E-D8FBE910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44B7-3BBD-4EFA-A51D-6B2DA88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77CC-DED5-4F7D-8907-EE924A6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2A81-2BF4-4BFB-B6F0-06B51FD4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3DFB-9CB9-4AA8-A09D-838E2E86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1EC6-3E18-440B-B50C-1AD665E5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3AF4-5934-47B2-B506-F6A714CF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465E4-76FC-4E0D-A330-800DB04F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51836-0E9B-40E7-B2EE-C4336905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DC55A-E106-4970-BF7E-589A4890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DCF-789D-41B4-A7A3-1BF7CA80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F7160-571F-412D-8F9B-11AFC566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E8AD9-4CEE-4B41-9B5C-50C6A069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203ED-4399-453A-BD74-389E6D52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B0F46-19C5-4CA0-81CA-222DC58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4FF82-666B-446C-B0C8-D6D8834F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264A5-4C49-4D0D-8BE9-2CEDD493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5F427-5169-40FD-B4B5-F66C06F9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2F843-250D-49FD-BF11-5C74BB05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BAF95-9603-4180-8C2B-93DD2F81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8BB-38BB-4FB3-ACF4-87A1A6C0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70E-A439-4A9C-8127-0F36B365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604-9A79-40AC-9474-1442E7A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F3E-E202-4100-B7DA-A838A08C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ACA-92E7-4E21-A9B8-71A4F13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5705-4959-4BDC-8E7C-2E2704556F7D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01D7-B0F7-457A-A8AB-3D4285EA5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C5F3-D74E-4D84-AC5C-FC5611B9DE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2CF2-E6E8-44F4-891A-AD556FAE01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143000"/>
            <a:ext cx="86868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Путешествие в стран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тик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ЕТСТ , ОЛИСЧ , ФРГИАК, МАБАГУ.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кст, число, график, бумаг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ИКЛУРАТА, СТКИДОЖЙ, НЕРСКА, ТЕРПНИ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лавиатура, джойстик, сканер, принте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ОРНИМО, ТЕРТПЛО, ТЕРИНПР, ЬШЫМ.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нитор, плоттер, принтер, мыш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РЧЕСВИН, ТАКЕДИС, АКТПКОМ КСДИ, СОРЦЕСПРО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инчестер, дискета, компакт диск, процессо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ФЕЛТЕ, ММЕДО, ТФЕЕЛКСА, ТЬАЯП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лефон, модем,  телефакс, памя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ХЛС, УСКВ, ИЕНЯНООБ, ГОМ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лух,  вкус, обоняние,  мозг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БОТРАОБ, ИЕНЕХРНА, ТОРЛЯКУКАЛЬ, ЕЕААПРДЧ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работка,  хранение,  калькулятор, передач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ЧТО, АОНТ, КВАУБ, РАЦФ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очка, нота , буква, циф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танция № 4- станция Алгоритмик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305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танция №5- Станция редакторов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24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танция № 6 – город художников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бытие – подведение итогов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159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Arial"/>
              </a:rPr>
              <a:t>Отправление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танция №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«Клавиатура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2286000"/>
          <a:ext cx="541008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0"/>
                    <a:ext cx="54100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клавиши для удаления симво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lete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клавиша помогает вставить пропущенный симво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s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клавишу выхода из текущего 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клавиша позволяет «прыгнуть» в конец стро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мощью какой клавиши можно увидеть предыдущую страницу текста на   экра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ge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клавиша существует для ввода информ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перейти в начало строки, надо нажать клавишу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танция № 2- станция эрудитов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3416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931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324120" y="228600"/>
            <a:ext cx="2590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6781680" cy="6913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553080" y="228600"/>
            <a:ext cx="2590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нчес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g-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61722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30492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о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61722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кс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Станция №3 - станция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кодиров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4198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ронин</cp:lastModifiedBy>
  <dcterms:modified xsi:type="dcterms:W3CDTF">2009-12-31T20:15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