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857-8FB4-4CB9-A04D-C6AC8444BF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ннотац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презентации представлены методы и формы работы с семьей и подростками "группы риска". Перечисляются нормативные документы, знание которых необходимо для работы "группой риска". Дается определение "дети "группы риска" и перечисляются категории, относящиеся к данному понятию. Приводятся жизненные обстоятельства, которые могут послужить причинами возникновения проблем у ребенка. Приведены основные направления работы, стадии и этапы, эффективные методы, алгоритм работы с семьей и подростком, находящимися в трудной жизнен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D48-651A-4407-BA2C-4110056E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D1C-4402-4E1C-AA16-C33D7AF3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42C-D062-4AA4-AD25-C74A5982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06A-5B11-4995-82EE-220EBE55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C298-A89E-4C43-A697-E84D3F50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4DD7-8D55-48CD-B8CA-433DBCB7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DDE6-D80A-4CB6-A131-D71FEB12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4E67-B1A2-4207-8CA8-B7A4ADCB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6E98-4148-4473-8E6C-9C03EC82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3061-A265-4FE9-AE56-46489A44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F0C9-F2AD-4CA5-9095-C135C5F0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424-418A-4962-890A-EB2F2818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314F-3D75-4F41-91F8-CBA3E08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F4C6-F20D-4351-9D2B-5C4AF26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EC7E-A6F4-4DCA-816D-F491A86D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87AD-5C2A-49FD-8732-AAD657A7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38C6-484B-4E12-A4E9-57EA10C5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9A6A-94EF-4E67-8F4A-B449A792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4DE5-2139-405A-855B-7C3B2AFE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D19C-8CED-4678-B760-9CE4D3A9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D9C1-845B-4E86-BE51-051DAB3E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4C79-657C-4E6E-99A1-464070E6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354-A7AF-469D-A27D-EF0DBA98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73797-138D-46F9-A40F-5CE187B0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B93D-1DAF-4FA9-88A1-4D83CDDD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5470-FDE3-4F3E-B62D-265ACA24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506D-E72C-44AE-BA62-8C478C4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DBB6-6364-489A-BBAF-99E877FC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6EA1-1738-4A05-B964-FF4B9886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B23B-81A6-4F34-A3F9-D5877F72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C7A9-7B98-48FC-880B-265D5D09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2A11-4BAA-4A4D-98BC-BBA161C3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F2B0-6296-48CB-923E-93EA704D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B15-4766-4F40-BEAC-BDBE4225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2574-D721-4D6D-A806-820A792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0E8B-2361-47CC-ACEE-B8950E15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5F18-6DEE-4463-A53A-EFEA206B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7C7FE-57B7-4A09-93BE-E08D937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31F4-AA72-44C5-AF64-3A6CA2A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E735-E267-4401-BB31-BF27853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A3299-C75A-4AA1-AC67-E217CCF6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009A-8106-4C59-B741-F997F6AE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BE1D-80FF-4F0E-91A3-56FBA647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14B54-D4DF-4824-9921-926EF7CE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AF8-2F87-482D-973A-18016F37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1058-EE01-46A5-85A2-7A723F87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057D-2992-4720-9492-86C8E4D4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2ADC-EE4D-432A-889F-D9292F41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9CE84-9123-43E2-B791-568DFA2C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E192-721F-4137-A292-50B27032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C445B-4E8F-4B86-89AA-192D3B79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43E5-233F-4119-A48D-7EF9FA84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945B-493B-4153-AA8F-E7628B14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1022-99A1-4423-8F71-544954FF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B1496-7D97-4119-BC63-69100B1C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DD2-6597-4981-861D-54B9AA98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CB9A1-E381-469F-91AB-530663AE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14D-2C24-4080-B3E1-F220772D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01C-72E2-4ABE-84F7-B3749CE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92B-C0BF-4C07-9950-79BEE89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F9B-A986-47EE-8A32-990C4C1C1CD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83C1-D888-4C94-8D63-E60B2F17A036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7AA0-9B26-416F-8B36-FF46098A334B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E3AB-3760-4867-9231-E8C30A3BAD4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350E-25F0-4BF6-ABB0-1C8E418BE0BB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«группы риска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92360" y="692280"/>
            <a:ext cx="5832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4211640" y="393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 социальный педагог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ы 47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ко Е.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1"/>
          <p:cNvSpPr/>
          <p:nvPr/>
        </p:nvSpPr>
        <p:spPr>
          <a:xfrm>
            <a:off x="5003640" y="1226880"/>
            <a:ext cx="3745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Rectangle 22"/>
          <p:cNvSpPr/>
          <p:nvPr/>
        </p:nvSpPr>
        <p:spPr>
          <a:xfrm>
            <a:off x="0" y="3645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Rectangle 72"/>
          <p:cNvSpPr/>
          <p:nvPr/>
        </p:nvSpPr>
        <p:spPr>
          <a:xfrm>
            <a:off x="2843280" y="404640"/>
            <a:ext cx="3960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факторы неблагополуч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Line 73"/>
          <p:cNvSpPr/>
          <p:nvPr/>
        </p:nvSpPr>
        <p:spPr>
          <a:xfrm flipH="1">
            <a:off x="2411280" y="105264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Line 74"/>
          <p:cNvSpPr/>
          <p:nvPr/>
        </p:nvSpPr>
        <p:spPr>
          <a:xfrm flipH="1">
            <a:off x="4067280" y="10526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Line 75"/>
          <p:cNvSpPr/>
          <p:nvPr/>
        </p:nvSpPr>
        <p:spPr>
          <a:xfrm>
            <a:off x="485928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Line 76"/>
          <p:cNvSpPr/>
          <p:nvPr/>
        </p:nvSpPr>
        <p:spPr>
          <a:xfrm>
            <a:off x="5651640" y="105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Line 77"/>
          <p:cNvSpPr/>
          <p:nvPr/>
        </p:nvSpPr>
        <p:spPr>
          <a:xfrm>
            <a:off x="6227640" y="98100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ectangle 78"/>
          <p:cNvSpPr/>
          <p:nvPr/>
        </p:nvSpPr>
        <p:spPr>
          <a:xfrm>
            <a:off x="539640" y="1125360"/>
            <a:ext cx="1800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кологические и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техногенны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79"/>
          <p:cNvSpPr/>
          <p:nvPr/>
        </p:nvSpPr>
        <p:spPr>
          <a:xfrm>
            <a:off x="2556000" y="1413000"/>
            <a:ext cx="1584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кономическ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Rectangle 80"/>
          <p:cNvSpPr/>
          <p:nvPr/>
        </p:nvSpPr>
        <p:spPr>
          <a:xfrm>
            <a:off x="4284720" y="1484280"/>
            <a:ext cx="1008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социально–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бытовы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81"/>
          <p:cNvSpPr/>
          <p:nvPr/>
        </p:nvSpPr>
        <p:spPr>
          <a:xfrm>
            <a:off x="5435640" y="1484280"/>
            <a:ext cx="136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моральны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82"/>
          <p:cNvSpPr/>
          <p:nvPr/>
        </p:nvSpPr>
        <p:spPr>
          <a:xfrm>
            <a:off x="7020000" y="1341360"/>
            <a:ext cx="16556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AutoShape 85"/>
          <p:cNvSpPr/>
          <p:nvPr/>
        </p:nvSpPr>
        <p:spPr>
          <a:xfrm rot="5400000">
            <a:off x="4171680" y="-1068480"/>
            <a:ext cx="1158840" cy="6985080"/>
          </a:xfrm>
          <a:custGeom>
            <a:avLst/>
            <a:gdLst>
              <a:gd name="textAreaLeft" fmla="*/ 0 w 1158840"/>
              <a:gd name="textAreaRight" fmla="*/ 418320 w 1158840"/>
              <a:gd name="textAreaTop" fmla="*/ 182160 h 6985080"/>
              <a:gd name="textAreaBottom" fmla="*/ 6802920 h 698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49"/>
                </a:lnTo>
                <a:cubicBezTo>
                  <a:pt x="10800" y="9649"/>
                  <a:pt x="16200" y="10549"/>
                  <a:pt x="21600" y="10549"/>
                </a:cubicBezTo>
                <a:cubicBezTo>
                  <a:pt x="16200" y="10549"/>
                  <a:pt x="10800" y="11449"/>
                  <a:pt x="10800" y="1234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Rectangle 86"/>
          <p:cNvSpPr/>
          <p:nvPr/>
        </p:nvSpPr>
        <p:spPr>
          <a:xfrm>
            <a:off x="3492360" y="3068640"/>
            <a:ext cx="259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доровье ребён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0" y="176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Rectangle 95"/>
          <p:cNvSpPr/>
          <p:nvPr/>
        </p:nvSpPr>
        <p:spPr>
          <a:xfrm>
            <a:off x="755640" y="3141720"/>
            <a:ext cx="208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Психическо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Rectangle 96"/>
          <p:cNvSpPr/>
          <p:nvPr/>
        </p:nvSpPr>
        <p:spPr>
          <a:xfrm>
            <a:off x="3780000" y="3645000"/>
            <a:ext cx="194436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психологическо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Rectangle 97"/>
          <p:cNvSpPr/>
          <p:nvPr/>
        </p:nvSpPr>
        <p:spPr>
          <a:xfrm>
            <a:off x="6877080" y="3213000"/>
            <a:ext cx="1584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rebuchet MS"/>
              </a:rPr>
              <a:t>физическо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Line 98"/>
          <p:cNvSpPr/>
          <p:nvPr/>
        </p:nvSpPr>
        <p:spPr>
          <a:xfrm flipH="1">
            <a:off x="2842920" y="3213000"/>
            <a:ext cx="57636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Line 99"/>
          <p:cNvSpPr/>
          <p:nvPr/>
        </p:nvSpPr>
        <p:spPr>
          <a:xfrm>
            <a:off x="4859280" y="342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Line 100"/>
          <p:cNvSpPr/>
          <p:nvPr/>
        </p:nvSpPr>
        <p:spPr>
          <a:xfrm>
            <a:off x="6084720" y="3213000"/>
            <a:ext cx="719280" cy="7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AutoShape 101"/>
          <p:cNvSpPr/>
          <p:nvPr/>
        </p:nvSpPr>
        <p:spPr>
          <a:xfrm>
            <a:off x="468360" y="3500280"/>
            <a:ext cx="1800000" cy="3168720"/>
          </a:xfrm>
          <a:prstGeom prst="upArrowCallout">
            <a:avLst>
              <a:gd name="adj1" fmla="val 25002"/>
              <a:gd name="adj2" fmla="val 25000"/>
              <a:gd name="adj3" fmla="val 29340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вротиз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дражительность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грессивнос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ессы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ресс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устраци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AutoShape 102"/>
          <p:cNvSpPr/>
          <p:nvPr/>
        </p:nvSpPr>
        <p:spPr>
          <a:xfrm>
            <a:off x="3059280" y="4076640"/>
            <a:ext cx="3384360" cy="2592360"/>
          </a:xfrm>
          <a:prstGeom prst="upArrowCallout">
            <a:avLst>
              <a:gd name="adj1" fmla="val 32641"/>
              <a:gd name="adj2" fmla="val 32638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рушение поведения - дезадаптац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тавание в личностном развит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талость в интеллектуально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клоняющееся повед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AutoShape 103"/>
          <p:cNvSpPr/>
          <p:nvPr/>
        </p:nvSpPr>
        <p:spPr>
          <a:xfrm>
            <a:off x="7020000" y="3500280"/>
            <a:ext cx="1439640" cy="3024360"/>
          </a:xfrm>
          <a:prstGeom prst="upArrowCallout">
            <a:avLst>
              <a:gd name="adj1" fmla="val 25002"/>
              <a:gd name="adj2" fmla="val 25000"/>
              <a:gd name="adj3" fmla="val 35013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ронические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те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тавание в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зическом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ежение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вит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детей «группы риска»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00000" y="155736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лассными руководителями (получение информации о детях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оциальных паспорто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инспектором ОП ПДН с целью получения информации о детях, состоящих на учете ОДН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олученных данных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работы социальных педагогов, психологов с детьми  «группы риска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диагностических и коррекционных методи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395280" y="142920"/>
          <a:ext cx="7561440" cy="6610320"/>
        </p:xfrm>
        <a:graphic>
          <a:graphicData uri="http://schemas.openxmlformats.org/drawingml/2006/table">
            <a:tbl>
              <a:tblPr/>
              <a:tblGrid>
                <a:gridCol w="2209680"/>
                <a:gridCol w="53517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критер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, определяющие «группу риска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хронические заболевания внутренних орга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проблемы с органами слуха, зрения, ре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о и длительно боле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ит на учете у психоневро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несли сложные медицинские операции Перенесли стресс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ворукие дети (левш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ут в асоциальной семье (пренебрежительное или агрессивное) отношение к ребенк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ут в малообеспеченной сем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емье беженцев, переселенцев (проблемы адаптации и языковы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ы адаптации при смене местожительства, школы, клас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вольный уход из до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од родите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лные семьи.  Друг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324000" y="333360"/>
          <a:ext cx="8042040" cy="5975280"/>
        </p:xfrm>
        <a:graphic>
          <a:graphicData uri="http://schemas.openxmlformats.org/drawingml/2006/table">
            <a:tbl>
              <a:tblPr/>
              <a:tblGrid>
                <a:gridCol w="2592360"/>
                <a:gridCol w="544968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критер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, определяющие «группу риска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о-педагогичес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ойкую неуспеваемость Пропуски занятий без уважительных прич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кают отдельные предметы без уважительных прич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еденчес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ве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сти во взаимоотношениях со сверстниками и род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трево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ение наркотических веществ Табакоку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актив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99640" y="1413000"/>
            <a:ext cx="7417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 развития личности ребенка (физического, социального, духовно – нравственного, интеллектуального);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ребенку комплексной помощи в саморазвитии и самореализации в процессе восприятия мира и адаптации в нем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в поддержке семьи, повышение её воспитательного потенциала;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ребенка в его жизненном пространств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762120"/>
            <a:ext cx="820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иагностический инструментарий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52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«изучение личности обучающегос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«Отношения ребенка с классом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 «Отношение ребенка к обучению в школе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уровня тревож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 «Я и мои друзь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« Ведете ли вы здоровый образ жизни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«Что беспокоит тебя в жизни больше всего»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«Самое ценное  в жизни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99640" y="685440"/>
            <a:ext cx="7559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Индивидуальная профилактическая рабо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79080" y="1916280"/>
            <a:ext cx="5257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циальная адаптация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циальная реабилитация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роприятия по защите прав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казание помощи семье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рганизация обучения, отдыха, трудоустройств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профилактической и коррекционной работе  с такими детьми используются следующие  социальные приемы такие как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55640" y="1412640"/>
            <a:ext cx="70372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спечение поддержки семье в формировании личности учащегос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наружение семьи и подрост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ение семьи и осознание существующих в ней проблем, изучение обращений семьи за помощью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ение причин неблагополучия в семь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авление карты семь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авление программы работы с семьей и подростко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ализация программы работ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екущие и контрольные посещени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чение специалистов для помощи в работе с семьей и подростко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нятие семьи с социально-педагогического учет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762120"/>
            <a:ext cx="777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оказания помощи семье и подростку «группы риска» применяются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52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етод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пособ воздействия на сознание, волю, чувства, поведение людей с целью выработки у них заданных качеств. К методам воспитания относятся убеждение, побуждение, поощрение, порицани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етод убежден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рименяется с целью сформировать у личности готовность активно включиться в предусмотренную содержанием воспитания деятельность. Данный метод обеспечивает у людей развитие общечеловеческих морально-этических качест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етод побужден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рименяется с целью нацелить человека на деятельность в соответствии с его интересами и потребностям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етод поощрен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выражение положительной оценки деятельности индивид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етод порицан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еакция на нежелательные деятельность и поведени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685440"/>
            <a:ext cx="7539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на внутришкольный уч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341000"/>
            <a:ext cx="7488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Решение о постановке на внутренний профилактический учет принимается в соответствии с положением «О постановке внутришкольный учет» на внутренний профилактический учет»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остановки, контроля и снятия несовершеннолетнего с профилактического учет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постановке на внутренний профилактический учет принимается на Совете профилактики по заявлению кл. руководител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м руководителем, совместно с социальным педагогом и  заместителем директора по воспитательной работе, разрабатывается план профилактической работы с несовершеннолетни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в  месяц классный руководитель проводит анализ профилактической работы с учеником и передает результаты анализа в Совет профилактики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на Совет профилактики приглашается учащийся и его классный руководитель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снятии учащегося с профилактического учета принимается на Совете профилактики по представлению классного руководителя при условии отсутствия нарушений дисциплины у подростка в течение не менее полугод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Работа с детьми «группы риска»  проводиться на основании следующих нормативных документов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венция ООН о правах ребенка от 20 ноября 1989г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титуция РФ от 12 декабря 1994 г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кон РФ «Об образовании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емейный кодекс РФ от 29 декабря 1995 г. № 223-ФЗ (в ред. От 21.07.2007 г.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едеральный закон РФ «Об основных гарантиях прав ребенка в Российской Федерации» от 24.07.1998 г. № 124-ФЗ (в ред. от 30.06.2007 г.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ведомственное обеспечение выстраивается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4000" y="1341000"/>
            <a:ext cx="7343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взаимодействие с ЦПМСС Выборгского района (соглашение о совместной деятельности от 01.09.2014г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взаимодействие с ДДТ «Олимп» Выборгского района (договор о совместной деятельности от  01.09.2014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ланирование совместных профилактических мероприятий по предупреждению правонарушений среди учащихся  с отделом по делам несовершеннолетних ОП №49; ( план работы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взаимодействие с центром  помощи семье и детям Выборгского района (соглашение о совместной деятельности от 01.09.2014г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взаимодействие с районным центром по профориентационной работе с учащимися ОУ ( договор о совместной деятельности 01.09.2014г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истему дополнительного образования на базе нашей школы ( ДДТ «Мир», ДДТ «Современник».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абота классного руководителя по выявлению «трудных» учащихс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71640" y="160020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яснить, кто из ребят относится к «группе риска, по какой причине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снить в каких условиях и семьях проживают эти дет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ся к  психологу и соц. педагогу для оформления запроса по работе с такими детьми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ределить формы работы с такими учащимис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классный руководитель необходимо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план работы по профилактике безнадзорности и правонарушений, в котором должны быть обязательно включены: индивидуальные и групповые профилактические беседы, игры, родительские собрания, посещения на дому, педагогические диагностики и т.д.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 дневник классного руководителя, где на каждого ребенка выделена отдельная страница, на которой фиксируется вся работа, проводимая с ребенком и его родителям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754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Благодарю за внимание!!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7632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ово «риск» означает возможность, большую вероятность чего-либо, как правило, негативного, нежелательного, что может произойти или не произойти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этому, когда говорят о детях «группы риска», подразумевается, что эти дети находятся под воздействием некоторых нежелательных факторов, которые могут сработать или не сработать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470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и «группы риска»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это категория детей, которая в силу определенных обстоятельств своей жизни более других категорий подвержена негативным внешним воздействиям со стороны общества и его криминальных элементов, ставших причиной дезадаптации несовершеннолетни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заимодействия индивидуального сопровождения детей «группы риска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Овал 1"/>
          <p:cNvSpPr/>
          <p:nvPr/>
        </p:nvSpPr>
        <p:spPr>
          <a:xfrm>
            <a:off x="3584520" y="3022560"/>
            <a:ext cx="1873440" cy="934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Скругленный прямоугольник 2"/>
          <p:cNvSpPr/>
          <p:nvPr/>
        </p:nvSpPr>
        <p:spPr>
          <a:xfrm>
            <a:off x="2163600" y="2212920"/>
            <a:ext cx="127188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899320" y="3189240"/>
            <a:ext cx="1298520" cy="669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724360" y="2217600"/>
            <a:ext cx="1298880" cy="66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1908000" y="3201840"/>
            <a:ext cx="1298880" cy="669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4"/>
          <a:stretch/>
        </p:blipFill>
        <p:spPr>
          <a:xfrm>
            <a:off x="5580000" y="4102200"/>
            <a:ext cx="1298520" cy="66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5"/>
          <a:stretch/>
        </p:blipFill>
        <p:spPr>
          <a:xfrm>
            <a:off x="3808440" y="1882800"/>
            <a:ext cx="1441440" cy="669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"/>
          <p:cNvPicPr/>
          <p:nvPr/>
        </p:nvPicPr>
        <p:blipFill>
          <a:blip r:embed="rId6"/>
          <a:stretch/>
        </p:blipFill>
        <p:spPr>
          <a:xfrm>
            <a:off x="2209680" y="4102200"/>
            <a:ext cx="1298520" cy="669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800520" y="33512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3800520" y="198756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Администрация ОУ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2178000" y="2322360"/>
            <a:ext cx="127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756400" y="241452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Психолог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5907240" y="3294000"/>
            <a:ext cx="12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1908000" y="3305160"/>
            <a:ext cx="129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Учителя предметники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209680" y="420696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5587920" y="4299120"/>
            <a:ext cx="12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Логопед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Скругленный прямоугольник 11"/>
          <p:cNvSpPr/>
          <p:nvPr/>
        </p:nvSpPr>
        <p:spPr>
          <a:xfrm>
            <a:off x="3800520" y="4437000"/>
            <a:ext cx="1441440" cy="585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3822840" y="4498920"/>
            <a:ext cx="141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Совет по профилактики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организации индивидуального сопровождения  учащихся  «группы риска»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360" y="170028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нее выявление детей « группы риска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Социально-педагогическая диагностика  обучающихся и их семей, постановка «социального диагноза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Выявление всех проблемных подростков группы,  изучение положения подростка в семь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Изучение интересов и склонностей, способностей обучающегося, возможное включение его во внеурочную кружковую деятель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Индивидуальная , групповая профилактическая работа с детьм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762120"/>
            <a:ext cx="747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получения необходимой информации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84836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нализ кл.журналов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ос мнения преподавателей об обучающемс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нализ учета посещаемости заняти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нализ зафиксированных нарушений дисциплин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еседы с родителями обучающегос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циометрические исследова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еседы с обучающимс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ос информации от психолог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ос информации с предыдущего места учеб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762120"/>
            <a:ext cx="777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иагностические методы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5640" y="1828440"/>
            <a:ext cx="770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блюд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тод, который используется при изучении внешних проявлений поведения человека, по которым можно составить представление о нем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с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 социальной диагностике – метод получения и корректировки информации на основе вербальной коммуникаци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о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стный и письменный (анкетирование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ке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тод сбора статистического материала путем формализованного опроса диагностируемы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ес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ециализированный метод диагностического обследования, с помощью которого можно получать количественную и качественную характеристику изучаемого явления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и которым подвержен любой несовершеннолетни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76360" y="170028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е здоровь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в семь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незащищен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ое влияние улиц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ясность будущег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4:16:46Z</dcterms:created>
  <dc:creator>Файл скачан с сайта http://psy.5igorsk.ru</dc:creator>
  <dc:description/>
  <dc:language>en-US</dc:language>
  <cp:lastModifiedBy>user</cp:lastModifiedBy>
  <dcterms:modified xsi:type="dcterms:W3CDTF">2015-03-03T09:02:44Z</dcterms:modified>
  <cp:revision>51</cp:revision>
  <dc:subject/>
  <dc:title>Формы и методы работы с семьей «группы риск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41049</vt:lpwstr>
  </property>
</Properties>
</file>