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FFF-8A80-4B41-93AC-03056282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0D7-AFFE-4B21-8F7D-6EC6598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A87-DF13-40B9-8CF1-10F387D4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E62-B603-4D5C-8309-3EFFA79A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AD8-CCC6-4CC8-92C3-AC8C7C1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0AB-F173-4121-A27D-AD7B6CAB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C06-39CA-4702-844E-EA991A3E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EFF-FA3A-4A37-8964-9AB3EC64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942-C4B8-4582-B728-BC21DE7F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96C-6196-43AE-95D7-8B6C6ED6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04-A73E-4A01-A4C7-9E8EF832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A2A-81A8-4AF4-A14B-6301470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E071-CAEC-4D94-AF1B-932B4024E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76280"/>
            <a:ext cx="80647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1125360"/>
            <a:ext cx="71294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ДНИ БОЕВОЙ СЛАВ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Угадать о ком идёт речь? Назвать событие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4000" y="549360"/>
            <a:ext cx="540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. ПОЛКОВОДЦЫ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НАРОДНЫЕ ГЕРО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125360"/>
            <a:ext cx="81374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I. ПАМЯТНИК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ЛЬТУР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Nowgorod Millenium Monument.jpg"/>
          <p:cNvPicPr/>
          <p:nvPr/>
        </p:nvPicPr>
        <p:blipFill>
          <a:blip r:embed="rId1"/>
          <a:stretch/>
        </p:blipFill>
        <p:spPr>
          <a:xfrm>
            <a:off x="2268360" y="0"/>
            <a:ext cx="423864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7 из 2754"/>
          <p:cNvPicPr/>
          <p:nvPr/>
        </p:nvPicPr>
        <p:blipFill>
          <a:blip r:embed="rId1"/>
          <a:stretch/>
        </p:blipFill>
        <p:spPr>
          <a:xfrm>
            <a:off x="2374920" y="404640"/>
            <a:ext cx="4645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38 из 13651"/>
          <p:cNvPicPr/>
          <p:nvPr/>
        </p:nvPicPr>
        <p:blipFill>
          <a:blip r:embed="rId1"/>
          <a:stretch/>
        </p:blipFill>
        <p:spPr>
          <a:xfrm>
            <a:off x="179064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Цел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воспитание подрастающего поколения в духе любви к своему Отечеству и готовности служить Роди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оспитание уважительного отношения к героическому прошлому своей Родины через соприкосновение с ее истор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ропаганда идей патриотизма и гражданственности у подрастающего поко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расширение кругозора обучаю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активизация познавательной деятельности обучающихся по изучению военной истории Оте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вышение интереса к истории Оте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развитие способностей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тапы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этап.  Ратные страницы ис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I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этап. Ордена и медали Великой Отечественной вой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II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этап. Города-герои, города воинской сла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Y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этап. Отечественное вооружение, боевая и специальная тех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Y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этап. Полководцы и народные геро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YI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этап. Военно-мемориальные памятники, произведения искусства, посвящённые ратной истории От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ыполнить тестовые задания.  Задания, подобранные в тестах разнообразны по форм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 выбором от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на установление соответ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на установление хро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 открытым отве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8000" y="404640"/>
            <a:ext cx="590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. РАТНЫЕ СТРАНИЦЫ ИСТОРИ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002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частникам предлагаются изображения, название и описание орденов и медалей  Великой Отечественной войны. Найти соответствие между 4 предложенными изображениями, названиями и описаниями орденов и медалей Великой Отечественной вой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6920" y="620640"/>
            <a:ext cx="712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>
                    <a:alpha val="9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.  ОРДЕНА И МЕДАЛ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>
                  <a:alpha val="96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>
                    <a:alpha val="9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ОЙ ОТЕЧЕСТВЕН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>
                  <a:alpha val="96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>
                    <a:alpha val="9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>
                    <a:alpha val="96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ЙН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>
                  <a:alpha val="96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1583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Зад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1. Перечислите города-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2. Назовите 4 города, которым это звание было присвоено первым</a:t>
            </a: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333360"/>
            <a:ext cx="7056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. ГОРОДА-ГЕРО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ОДА ВОИНСКОЙ СЛАВ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3. Какие из городов-героев  находятся за пределами Росс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4. Что означает звание «Город воинской славы России»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5. Назовите  известные в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Города воинской славы Росси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7715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Участникам предлагаются 4 изображения  вооружения русской армии. Необходимо определить названия образцов воору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476280"/>
            <a:ext cx="7659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. ВООРУЖЕНИЕ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ЕЦИАЛЬНАЯ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ХН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4:12:10Z</dcterms:created>
  <dc:creator>Admin</dc:creator>
  <dc:description/>
  <dc:language>en-US</dc:language>
  <cp:lastModifiedBy>Admin</cp:lastModifiedBy>
  <dcterms:modified xsi:type="dcterms:W3CDTF">2011-06-30T17:51:24Z</dcterms:modified>
  <cp:revision>3</cp:revision>
  <dc:subject/>
  <dc:title>Слайд 1</dc:title>
</cp:coreProperties>
</file>