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62F-BFFA-413C-A53F-29187E1E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B63-8D4F-4443-ADC4-29423EA2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95C-CF85-453B-BB44-CA2E2D8A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74CD-7B7E-4EA7-AF86-8109FB0C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9F6E-FA9E-4975-AFC1-BA783925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1B66-CEB8-4690-B9E5-BA5E7F25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34C8-787E-490F-BFBB-99E317A3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E65-676F-494D-B683-22A9D861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C1C-B84B-41A2-94A0-408F3B3B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AF8-BF43-4FDD-AF3C-BAB999E4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4A8-39B3-4C60-A982-70996016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0FA-242A-4E77-9A20-9595048F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D3B0-F5DF-439B-8691-BC4654529B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384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5ffff"/>
                </a:solidFill>
                <a:latin typeface="Tahoma"/>
              </a:rPr>
              <a:t>ПРИМЕНЕНИЕ</a:t>
            </a:r>
            <a:br>
              <a:rPr sz="6600"/>
            </a:br>
            <a:r>
              <a:rPr b="0" lang="ru-RU" sz="6600" spc="-1" strike="noStrike">
                <a:solidFill>
                  <a:srgbClr val="e5ffff"/>
                </a:solidFill>
                <a:latin typeface="Tahoma"/>
              </a:rPr>
              <a:t>ИКТ </a:t>
            </a:r>
            <a:br>
              <a:rPr sz="6600"/>
            </a:br>
            <a:r>
              <a:rPr b="0" lang="ru-RU" sz="6600" spc="-1" strike="noStrike">
                <a:solidFill>
                  <a:srgbClr val="e5ffff"/>
                </a:solidFill>
                <a:latin typeface="Tahoma"/>
              </a:rPr>
              <a:t>НА УРОКАХ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5" descr="C:\Documents and Settings\Admin\Мои документы\школа здпгния фото\фото школы\старая школа1.jpg"/>
          <p:cNvPicPr/>
          <p:nvPr/>
        </p:nvPicPr>
        <p:blipFill>
          <a:blip r:embed="rId1"/>
          <a:stretch/>
        </p:blipFill>
        <p:spPr>
          <a:xfrm>
            <a:off x="208080" y="3267000"/>
            <a:ext cx="529740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овышение мотивации к предмету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шение мотивации учащихся к изучаемому предмету происходит вследств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ильности заданий для каждого учащего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можности обсуждения заданий и высказывания собственного мн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недрения диалоговой формы работы при выполнении зад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овременного слухового и зрительного восприятия материа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влечения личного опыта учащихся при работе над задани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Экономия учебного времен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кономия времени на объяснение материала достигается путё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шения уровня структуризации урока (от общего к частному; от причины к следствию;  от простого к сложному; от известного к неизвестному; от интересного к ещё более интересному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величения темпа рабо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шения иллюстративности учебного материала (лучше один раз увидеть, чем…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ктивизации работы учащихся на уроке и повышения уровня их личной заинтересов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Накопляемость оцено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величение накопляемости оценок по предмету происходит благодар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сильной работе всех учащихся на уро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рименению учащимися ИКТ в домашней работ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выполнению учащимися творческих зада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амостоятельной инициативе учащихся по подготовке докладов, сообщений, иллюстраций и д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Комфортность на урока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фортность на уроках увеличивается из-з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учёта возрастных особенностей учащихс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создания творческой атмосфер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создания ситуаций успех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использования на уроке коллективной мыслительной деятельности (проблемные задания, мозговой штурм, коллективные творческие задания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использования на уроке установления связи между изучаемым материалом и личным опытом учащихс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ривлечения эмоционального отношения учащихся к содержанию уро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установления связей урока с уроками по другим предме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Психологический факто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нообразный иллюстративный материал поднимает процесс обучения на качественно новый уровень, вызывает интерес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льзя сбрасывать со счетов и психологический фактор: современному ребенку намного интереснее воспринимать информацию именно в такой форме, а не только при помощи учебника, схем и таблиц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5" descr="j0292982"/>
          <p:cNvPicPr/>
          <p:nvPr/>
        </p:nvPicPr>
        <p:blipFill>
          <a:blip r:embed="rId1"/>
          <a:stretch/>
        </p:blipFill>
        <p:spPr>
          <a:xfrm>
            <a:off x="7300800" y="5038560"/>
            <a:ext cx="18432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Диагностика знан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онно-коммуникацион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хнологии расширяют возмож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агностики уровня усвоения предмет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и при проведен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онтрольно-обобщающих урок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фронтальных опрос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урочных опрос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рограммированных опрос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4" descr="j0205582"/>
          <p:cNvPicPr/>
          <p:nvPr/>
        </p:nvPicPr>
        <p:blipFill>
          <a:blip r:embed="rId1"/>
          <a:stretch/>
        </p:blipFill>
        <p:spPr>
          <a:xfrm>
            <a:off x="7093080" y="5013360"/>
            <a:ext cx="17762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91520" cy="26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Желаю вам дальнейших успехов в педагогической деятельности!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Спасибо за внимание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Picture 6" descr="e1c9efb73a6b2049a240606653fd07d5"/>
          <p:cNvPicPr/>
          <p:nvPr/>
        </p:nvPicPr>
        <p:blipFill>
          <a:blip r:embed="rId1"/>
          <a:stretch/>
        </p:blipFill>
        <p:spPr>
          <a:xfrm>
            <a:off x="4356000" y="4581360"/>
            <a:ext cx="41720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ИКТ-компетент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сийское образование на современном этапе своего развития требует от педагога значительных преобразований в учебной и внеурочн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КТ- компетентность педагога  - эт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один из основных показателей профессионализм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ключевая компетентность для решения современных задач образова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овые возможности для совершенствования учебно-воспитательного процесса, для получения новых знаний как ученика, так и учител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КТ-компетентность современного учителя - это знание новых информационных технологий и умение ими пользовать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j0293236"/>
          <p:cNvPicPr/>
          <p:nvPr/>
        </p:nvPicPr>
        <p:blipFill>
          <a:blip r:embed="rId1"/>
          <a:stretch/>
        </p:blipFill>
        <p:spPr>
          <a:xfrm>
            <a:off x="7308720" y="5516640"/>
            <a:ext cx="18352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Требования к  педагог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ровень современного учителя не должен отставать от уровня современного ученика. Для этого педагогу необходим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умение пользоваться компьютером и другими цифровыми средствам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умение пользоваться Интернетом, программным обеспечени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рименять на практике современные образовательные технолог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дагог,  владеющий компьютером, идёт в ногу со временем, а современный учитель должен уметь разговаривать с учеником на понятном ему язы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КТ- это знание информационных технологий и умение ими пользоваться. Является одной из ключевых компетентностей современного челове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4" descr="j0299125"/>
          <p:cNvPicPr/>
          <p:nvPr/>
        </p:nvPicPr>
        <p:blipFill>
          <a:blip r:embed="rId1"/>
          <a:stretch/>
        </p:blipFill>
        <p:spPr>
          <a:xfrm>
            <a:off x="8043840" y="35686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Компетентностный подход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омпетентностный подхо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один из тех подходов, которые противопоставлены трансляции готового знания, один из тех, в которых осуществляется попытка внести личностный смысл в образовательный процес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омпетентностный подхо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это подход, акцентирующий внимание на результате образования, причем в качестве результата рассматривается не сумма усвоенной информации, способность человека действовать в различных проблемных ситуац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Иванов Д.А, Митрофанов К.Г., Соколова О.В. Компетентностный подход в образовании. Проблемы, понятия, инструментарий. Учебно-методическое пособие. - М.: АПК и ПРО, 2003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j0301252"/>
          <p:cNvPicPr/>
          <p:nvPr/>
        </p:nvPicPr>
        <p:blipFill>
          <a:blip r:embed="rId1"/>
          <a:stretch/>
        </p:blipFill>
        <p:spPr>
          <a:xfrm>
            <a:off x="7313760" y="256536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Что такое «компетенци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мпетенц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переводе с латинского означает круг вопросов, в которых человек хорошо осведомлен, обладает познаниями и опытом. Компетентный в определенной области человек обладает соответствующими знаниями и способностями, позволяющими ему обоснованно судить об этой области и эффективно действовать в н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мпетенц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включает совокупность взаимосвязанных качеств личности (знаний, умений, навыков, способов деятельности), задаваемых по отношению к определенному кругу предметов и процессов и необходимых для качественной продуктивной деятельности по отношению к ним. Компетентность - владение, обладание человеком соответствующей компетенцией, включающей его личное отношение к ней и предмету деятель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А.В.Хуторски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DownRibbonSharp"/>
          <p:cNvSpPr/>
          <p:nvPr/>
        </p:nvSpPr>
        <p:spPr>
          <a:xfrm>
            <a:off x="2050920" y="907920"/>
            <a:ext cx="5035680" cy="538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mpetent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" descr="j0195384"/>
          <p:cNvPicPr/>
          <p:nvPr/>
        </p:nvPicPr>
        <p:blipFill>
          <a:blip r:embed="rId1"/>
          <a:stretch/>
        </p:blipFill>
        <p:spPr>
          <a:xfrm>
            <a:off x="6254640" y="3573360"/>
            <a:ext cx="2889360" cy="2951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ИКТ - компетент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КТ-компетентность - это способность педагога реша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ые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товые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фессиональные задач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использованием информационных и коммуникационных технолог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8" descr="BD14710_"/>
          <p:cNvPicPr/>
          <p:nvPr/>
        </p:nvPicPr>
        <p:blipFill>
          <a:blip r:embed="rId2"/>
          <a:stretch/>
        </p:blipFill>
        <p:spPr>
          <a:xfrm>
            <a:off x="1692360" y="148428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BD21322_"/>
          <p:cNvPicPr/>
          <p:nvPr/>
        </p:nvPicPr>
        <p:blipFill>
          <a:blip r:embed="rId3"/>
          <a:stretch/>
        </p:blipFill>
        <p:spPr>
          <a:xfrm>
            <a:off x="0" y="6545160"/>
            <a:ext cx="914400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j0293236"/>
          <p:cNvPicPr/>
          <p:nvPr/>
        </p:nvPicPr>
        <p:blipFill>
          <a:blip r:embed="rId1"/>
          <a:stretch/>
        </p:blipFill>
        <p:spPr>
          <a:xfrm>
            <a:off x="7578720" y="5703840"/>
            <a:ext cx="1565280" cy="1154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ИКТ – компетентность педагога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того, чтобы педагог стал компетентным в области ИКТ ему необходим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нсформирование (преобразование) педагогической деятельности 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смотр традиционных установок обучени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иск и выбор педагогических технологий, адекватных ИКТ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стематическое самообразование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мен педагогическим опытом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здание и накопление разработок для уроков с применением ИКТ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еспечение непрерывности процесса повышения квалификации в области ИКТ в том числе с привлечением дистанционных образовательных технологий и сетевых сервисов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ирование нового типа мышления (самоорганизующий, общественный, тип мышле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реимущества ИКТ-технолог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ыт работы показал, что использование современных  ИКТ-технологий на уроках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ктивизирует познавательную деятельность учащих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ает мотивацию учащихся к изучаемому предмет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ономит время на объяснение материал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зволяет выйти за рамки школьных учебников, дополнить и углубить их содерж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зволяет дифференцировать и индивидуализировать работу учащихс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ёт возможность увеличить накопляемость оценок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здаёт комфортность на урок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Познавательная деятель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ктивизация познавательной деятельности учащихся при применении ИКТ достигается за счё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окой иллюстративной и информационной насыщенности на уро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фференциации вопросов к одному и тому же задани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бора интересного материа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ее высокого темпа работы уча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4:07:36Z</dcterms:created>
  <dc:creator>РОМАН</dc:creator>
  <dc:description/>
  <dc:language>en-US</dc:language>
  <cp:lastModifiedBy>Admin</cp:lastModifiedBy>
  <dcterms:modified xsi:type="dcterms:W3CDTF">2015-03-03T10:46:47Z</dcterms:modified>
  <cp:revision>5</cp:revision>
  <dc:subject/>
  <dc:title>ПРИМЕНЕНИЕ ИКТ ТЕХНОЛОГИЙ  НА УРОКАХ</dc:title>
</cp:coreProperties>
</file>