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0C7-E827-4474-B17C-3465C3C5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5FD-0ED6-49AD-8161-EDF57E40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EBAEA-D2A7-4D7A-BBD7-8D3D9A6A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F78B9-E4F7-4FE8-9686-1B67A9DF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802C6-067A-43AC-A614-B6122745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1EA2D-7BAB-4A63-9138-1EDE9E5C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9C3C2-E943-47FA-836B-F8158A83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68FC1-1B0E-4A8B-8A18-B9E1F13C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67AC2-7AB7-414F-ACD1-B2B166FF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BFAB5-2218-4981-A743-3786DD6A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9D3E9-D8A8-47F0-A413-F112AF86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AD33-10DE-4EB4-8492-DE951890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F26B-BF56-4F82-B44A-0D4EA6B1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0D26-69D7-4AF4-9F17-87912765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69F9-F1AD-44AE-BB06-AF3E8F7D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3563-0E92-42FA-8122-A1E437FC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278B-377D-4EE9-81BD-34B20BEB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4A84-6D91-46BA-9067-6220B325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CEB1-0E0D-4A16-A424-DFB1B9F3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1733-C817-42B6-9505-FB08BE65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67C-C266-40CB-9D7F-7B00D86C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288A-D76F-4DFF-A5FA-05B7F2C3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DF18-3DC5-40C6-BB29-CDBE9B00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8F64-E59E-4197-A568-B90DF531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5799-BA31-4DC9-8D23-D207DA5F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8166-8703-4E0F-B40E-BA30A036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0330B-7AF7-40D0-B338-7F6D08B4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6217C-1487-425A-A9DB-262B42FB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FD34C-B689-4419-B4F2-366BA5BB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3B6C9-8D4A-42EC-8109-E6200C19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99250-7E57-48CE-94CA-FBD0AAE8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837-1565-4706-829B-B8870658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39F4D-C9E9-41A4-B424-B64ABCAF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D909F-CB25-4127-B4B8-24971C7F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A1F5B-3539-4FFC-B2CE-B4908D2A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25704-FAF3-4F76-BAFC-75D820C9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BD145-CA51-4BFF-8236-9FB5D943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74E86-7378-4C69-A507-B39FFF20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341DA-A3A6-45A9-A442-4B57FC71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6AF1E-5EBE-4F34-B384-A60E7216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92F62-D4BF-4453-809B-E8B9F56B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E7D47-B721-41BA-BA6B-1CA5B453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9E2-D489-4198-95B2-93BE38F4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2F852-984E-4F9A-BFE7-F92EE20F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85C1D-3271-4067-8437-1E38719B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31CD7-0C5E-4F4C-A4AF-A76626D0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1672F-40BC-482F-9EB1-05F76E3A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E1BD7-2654-45D8-9BC6-4F0C1729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72D92-7355-4936-877C-36F1030C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C2DDD-4FAE-41F5-9EAB-C98846A2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141F0-BA99-4D38-AE6B-F2DF65B6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0497C-87E2-4215-896D-0AD31796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4CBF9-F807-4400-91DF-ED97D452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7D72-2E66-4F0E-822E-2A7EFC29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435B8-D66C-4CE1-9B6A-BD8FB86A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194C1-3D30-4E73-9B69-BBF754C0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A591F-4CF3-44D1-B135-03ABE77B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899B4-7E19-474E-847C-39BA3FDE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25573-2418-4349-AA0F-C05ACF6F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6D4C9-D947-4C5F-8030-2839544D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1A90B-4D42-4A74-9487-45B426B7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D4D7E-7D32-4D73-BFA3-7EFFD9C3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6CE5E-9BFB-4D44-85EC-80698E8E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A3EB8-1A1D-4330-B7ED-6BEE9011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DE33-1D4C-4950-A6DA-5C579BD4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451AE-8261-4F66-AC76-6BED3D0A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2DD8B-C87E-43EC-A6C7-28CAF0B8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B4C3F-1935-4211-A41D-442C371C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F1B92-824D-487C-A455-F9E90BA7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03790-8916-4DC8-9A73-F382B98A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11CF3-FA63-48DB-AC92-651E5A70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3DF73-21BF-40E7-92C4-08714BFD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B2F77-1B7B-4685-BAEE-FEDE9B35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C628F-9C14-4450-9E43-95DCBEED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8C9E1-8143-4251-A9CC-4A348433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5460-E524-450C-9AC7-A3A880E5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F1B51-E599-4C31-80EA-975CF812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A1173-9714-42D1-AC13-2809F135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E0E99-063D-4A26-82E1-AB578ED5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6B2A0-7366-499B-9CBA-0C98D617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94B83-D790-401A-B483-131EA057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2CA23-8F98-4DB8-A237-7F125264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41089-9800-4433-B2C5-7CB24D04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4CC0C-472B-4E65-8348-5C4C4818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4A86F-968E-4786-B997-BC6B39D4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0BE4D-21F1-4C62-99D5-D43F0BB2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0543-77BC-4779-8EB3-2E477A2A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75F2A-F024-4550-8129-854EF3AB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65D48-BD27-4FE0-8B5B-295D7128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C5758-9A5C-4223-AFE0-F6288EB3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4906D-9445-46D7-85DD-5A1E9E73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DB5C3-F6A0-44BD-B7A5-32CF90EA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AD016-4CA7-4E0F-9C1F-8D0F4187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A659E-1714-41D6-A2AA-9BFFA8FD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61079-A3B9-46FF-98A9-2A90D519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9F1D1-5AD5-4D47-A716-B1B2C180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8C3F5-7AB8-44D3-8987-4E1E4E30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D84-A912-49A2-9919-35F8F8EE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A9E59-6CF8-443A-A796-7675019F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47F34-68E8-4FEE-8262-7B6F96F9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31A4D-B836-48B9-89ED-D50CA999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4467F-BBE7-4BBB-990F-BC14C324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D531D-3D8A-4764-ABA7-3B9C1A48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09F28-0FB7-415D-A6E6-8CAA3C7F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1E07C-9429-4E65-925D-4E299151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4E815-6957-4432-AE1E-121F4937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F161F-9472-4FD0-9379-E1CAFA86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8994D-AAB6-4917-A502-26657CB7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7CFF-2DAE-4FBC-84B0-02C669155DD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4AEB-623E-4A4A-9638-558DB9D15ED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FCDE-7C8F-49CD-ACE5-EED40625676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DBAA-42EC-4B40-9D03-7029148FBFD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776D-C19D-4919-9CD4-E685321332B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9E23-4FA6-4291-AADE-496A50B9DB2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3601-1B1B-44EA-96DA-4DD5D43C643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FB3E-A51C-4450-816C-6C425EDB7B9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5619-B71A-4E18-9125-30E91601596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ru.science.wikia.com/wiki/&#1050;&#1091;&#1085;&#1089;&#1090;&#1082;&#1072;&#1084;&#1077;&#1088;&#1072;?veaction=edit&amp;redlink=1" TargetMode="External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science.wikia.com/wiki/1772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" descr=""/>
          <p:cNvPicPr/>
          <p:nvPr/>
        </p:nvPicPr>
        <p:blipFill>
          <a:blip r:embed="rId1"/>
          <a:stretch/>
        </p:blipFill>
        <p:spPr>
          <a:xfrm>
            <a:off x="0" y="-21096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3"/>
          <p:cNvSpPr/>
          <p:nvPr/>
        </p:nvSpPr>
        <p:spPr>
          <a:xfrm>
            <a:off x="916920" y="1387440"/>
            <a:ext cx="7153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43c0c"/>
                </a:solidFill>
                <a:latin typeface="Calibri"/>
                <a:ea typeface="Tahoma"/>
              </a:rPr>
              <a:t>История исследова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43c0c"/>
                </a:solidFill>
                <a:latin typeface="Calibri"/>
                <a:ea typeface="Tahoma"/>
              </a:rPr>
              <a:t>европейской ча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43c0c"/>
                </a:solidFill>
                <a:latin typeface="Calibri"/>
                <a:ea typeface="Tahoma"/>
              </a:rPr>
              <a:t> </a:t>
            </a:r>
            <a:r>
              <a:rPr b="1" lang="ru-RU" sz="5400" spc="-1" strike="noStrike">
                <a:solidFill>
                  <a:srgbClr val="843c0c"/>
                </a:solidFill>
                <a:latin typeface="Calibri"/>
                <a:ea typeface="Tahoma"/>
              </a:rPr>
              <a:t>Рос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2"/>
          <p:cNvSpPr/>
          <p:nvPr/>
        </p:nvSpPr>
        <p:spPr>
          <a:xfrm>
            <a:off x="4851360" y="4976640"/>
            <a:ext cx="349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йников Владимир 8 Б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747720" y="517680"/>
            <a:ext cx="739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768-1774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г. состоялись Академические экспедиции, изучившие практически всю Европейскую часть страны, многие земли Урала и Сиби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( П. Паллас, И. Лепехин, С. Гмелин, А. Гумбольдт, П.Рычко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 друг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3"/>
          <p:cNvSpPr/>
          <p:nvPr/>
        </p:nvSpPr>
        <p:spPr>
          <a:xfrm>
            <a:off x="927000" y="5910120"/>
            <a:ext cx="17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ван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пех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1"/>
          <a:stretch/>
        </p:blipFill>
        <p:spPr>
          <a:xfrm>
            <a:off x="1268280" y="3494160"/>
            <a:ext cx="1949760" cy="2394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"/>
          <p:cNvPicPr/>
          <p:nvPr/>
        </p:nvPicPr>
        <p:blipFill>
          <a:blip r:embed="rId2"/>
          <a:stretch/>
        </p:blipFill>
        <p:spPr>
          <a:xfrm>
            <a:off x="4646520" y="3570120"/>
            <a:ext cx="1589040" cy="2167200"/>
          </a:xfrm>
          <a:prstGeom prst="rect">
            <a:avLst/>
          </a:prstGeom>
          <a:ln w="0">
            <a:noFill/>
          </a:ln>
        </p:spPr>
      </p:pic>
      <p:sp>
        <p:nvSpPr>
          <p:cNvPr id="432" name="Прямоугольник 8"/>
          <p:cNvSpPr/>
          <p:nvPr/>
        </p:nvSpPr>
        <p:spPr>
          <a:xfrm>
            <a:off x="4008600" y="5999040"/>
            <a:ext cx="16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муил Готли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ме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"/>
          <p:cNvPicPr/>
          <p:nvPr/>
        </p:nvPicPr>
        <p:blipFill>
          <a:blip r:embed="rId3"/>
          <a:stretch/>
        </p:blipFill>
        <p:spPr>
          <a:xfrm>
            <a:off x="7292880" y="3711600"/>
            <a:ext cx="1712880" cy="2179440"/>
          </a:xfrm>
          <a:prstGeom prst="rect">
            <a:avLst/>
          </a:prstGeom>
          <a:ln w="0">
            <a:noFill/>
          </a:ln>
        </p:spPr>
      </p:pic>
      <p:sp>
        <p:nvSpPr>
          <p:cNvPr id="434" name="Прямоугольник 10"/>
          <p:cNvSpPr/>
          <p:nvPr/>
        </p:nvSpPr>
        <p:spPr>
          <a:xfrm>
            <a:off x="6955920" y="5943600"/>
            <a:ext cx="16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тр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ыч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Прямоугольник 1"/>
          <p:cNvSpPr/>
          <p:nvPr/>
        </p:nvSpPr>
        <p:spPr>
          <a:xfrm>
            <a:off x="246240" y="66672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чительной по результативности стала Волго-Каспийская экспедиция для изучения рыбных богатств и промыслов, проведенная в 1853— 1857 гг. под руководством академика 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арла Максимовича Бэра (1792—18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6400800" y="1338120"/>
            <a:ext cx="1655640" cy="1903680"/>
          </a:xfrm>
          <a:prstGeom prst="rect">
            <a:avLst/>
          </a:prstGeom>
          <a:ln w="0">
            <a:noFill/>
          </a:ln>
        </p:spPr>
      </p:pic>
      <p:sp>
        <p:nvSpPr>
          <p:cNvPr id="437" name="Прямоугольник 3"/>
          <p:cNvSpPr/>
          <p:nvPr/>
        </p:nvSpPr>
        <p:spPr>
          <a:xfrm>
            <a:off x="3657600" y="44179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ля исследований в Волго-Каспийском бассейне Бэр привлек талантливого молодого человека 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иколая Яковлевича Данилев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2"/>
          <a:stretch/>
        </p:blipFill>
        <p:spPr>
          <a:xfrm>
            <a:off x="1546200" y="4262400"/>
            <a:ext cx="1536840" cy="174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Прямоугольник 1"/>
          <p:cNvSpPr/>
          <p:nvPr/>
        </p:nvSpPr>
        <p:spPr>
          <a:xfrm>
            <a:off x="523800" y="230040"/>
            <a:ext cx="762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Каспийской экспедиции, помимо рыбо-хозяйственных вопросов, Бэр и Данилевский много внимания уделял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исследованию природных явл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2"/>
          <p:cNvSpPr/>
          <p:nvPr/>
        </p:nvSpPr>
        <p:spPr>
          <a:xfrm>
            <a:off x="5943600" y="1419120"/>
            <a:ext cx="2943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d0d0d"/>
                </a:solidFill>
                <a:uFillTx/>
                <a:latin typeface="Arial"/>
              </a:rPr>
              <a:t>различиие в крутизне правых и левых берегов равнинных р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эр одним из первых приблизился к объяснению этого факта природной асимметрии, указывая на вращение Земли как на причину, вызывающую различие в крутизне склонов западного и восточного берега сибирских р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3"/>
          <p:cNvSpPr/>
          <p:nvPr/>
        </p:nvSpPr>
        <p:spPr>
          <a:xfrm>
            <a:off x="4420800" y="5641920"/>
            <a:ext cx="42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динамика уровня Каспийского мо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4"/>
          <p:cNvSpPr/>
          <p:nvPr/>
        </p:nvSpPr>
        <p:spPr>
          <a:xfrm>
            <a:off x="590400" y="59612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меление и уменьшение всего бассейна Азовского мор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1" descr=""/>
          <p:cNvPicPr/>
          <p:nvPr/>
        </p:nvPicPr>
        <p:blipFill>
          <a:blip r:embed="rId1"/>
          <a:stretch/>
        </p:blipFill>
        <p:spPr>
          <a:xfrm>
            <a:off x="1566720" y="2830680"/>
            <a:ext cx="2619360" cy="1717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1"/>
          <p:cNvSpPr/>
          <p:nvPr/>
        </p:nvSpPr>
        <p:spPr>
          <a:xfrm>
            <a:off x="281160" y="189000"/>
            <a:ext cx="567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ля географии наиболее существенным была работа Данилевского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«Исследования о Кубанской дельте» (1869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"/>
          <p:cNvSpPr/>
          <p:nvPr/>
        </p:nvSpPr>
        <p:spPr>
          <a:xfrm>
            <a:off x="577800" y="2476800"/>
            <a:ext cx="791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Труд Данилевского «Исследование о Кубанской дельт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удостоен высшей награ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Географического общества —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Константиновской золотой медали</a:t>
            </a: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C:\Documents and Settings\User\Мои документы\Мои рисунки\Большая_золотая_Константиновская_медаль_ИРГО.jpg"/>
          <p:cNvPicPr/>
          <p:nvPr/>
        </p:nvPicPr>
        <p:blipFill>
          <a:blip r:embed="rId1"/>
          <a:stretch/>
        </p:blipFill>
        <p:spPr>
          <a:xfrm>
            <a:off x="1160640" y="4179960"/>
            <a:ext cx="2354040" cy="23540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5627520" y="4248000"/>
            <a:ext cx="2337120" cy="2337120"/>
          </a:xfrm>
          <a:prstGeom prst="rect">
            <a:avLst/>
          </a:prstGeom>
          <a:ln w="0">
            <a:noFill/>
          </a:ln>
        </p:spPr>
      </p:pic>
      <p:sp>
        <p:nvSpPr>
          <p:cNvPr id="448" name="Прямоугольник 5"/>
          <p:cNvSpPr/>
          <p:nvPr/>
        </p:nvSpPr>
        <p:spPr>
          <a:xfrm>
            <a:off x="3468600" y="12556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еный дал первую классификацию устьев рек, выделив их типы: лиманные, дельты и эстуа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угольник 1"/>
          <p:cNvSpPr/>
          <p:nvPr/>
        </p:nvSpPr>
        <p:spPr>
          <a:xfrm>
            <a:off x="401760" y="617400"/>
            <a:ext cx="4572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территории европейской части страны проводились многочисленные геодезические, геологические, гидрологические, почвенные, землеустроительные и другие исследования, был накоплен обширный фактический материал, послуживший для крупных географических обобщений, одним из которых явилас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«Гипсометрическая карта Европейской России»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1889), составленная 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лексеем Андреевичем Тилло (1839—19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6095880" y="2600280"/>
            <a:ext cx="2587680" cy="2903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"/>
          <p:cNvSpPr/>
          <p:nvPr/>
        </p:nvSpPr>
        <p:spPr>
          <a:xfrm>
            <a:off x="412920" y="470880"/>
            <a:ext cx="759924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адемическими экспедициями 60–80-х гг. XVIII в. впервые исследованы и описаны крупнейшие элементы рельефа Восточной Европ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кадемики проследили юго-восточную условную границу Евр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3"/>
          <p:cNvSpPr/>
          <p:nvPr/>
        </p:nvSpPr>
        <p:spPr>
          <a:xfrm>
            <a:off x="2000160" y="2367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ни дали верные научные характеристики крупнейшим рекам Восточной Европы — Волге, Каме с Вяткой и Оке, Дону с Хопром, Северским Донцом и Медведицей, Яику (Уралу) и многим другим, выполнили первые научные описания Ладожского, Онежского и многих меньших оз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390600" y="4910760"/>
            <a:ext cx="851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первые изучили большую часть гигантской Восточно-Европейской    (Русской) равни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огромной европейско-азиатской пограничной пол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3"/>
          <p:cNvSpPr/>
          <p:nvPr/>
        </p:nvSpPr>
        <p:spPr>
          <a:xfrm>
            <a:off x="2787480" y="1641600"/>
            <a:ext cx="578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В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-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XI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в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. славяне  медленно, но уверенно заселяли северные            и северо-восточные земли, двигались к Белому , затем Баренцеву морю и Волге, развивали торговые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4"/>
          <p:cNvSpPr/>
          <p:nvPr/>
        </p:nvSpPr>
        <p:spPr>
          <a:xfrm>
            <a:off x="1171440" y="384660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XI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XII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вв. 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русские открыли Новую Землю, завладели территорией от Финского залива                до Печоры и Северного Ур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Новгородцы первыми тали переходить за Урал (КАМЕНЬ) в Сибирь                    и на побережье Карского м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5"/>
          <p:cNvSpPr/>
          <p:nvPr/>
        </p:nvSpPr>
        <p:spPr>
          <a:xfrm>
            <a:off x="858960" y="247680"/>
            <a:ext cx="74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же в летописи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Повесть временных лет» Нестор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ть географические сведения о Руси, описания рек,  морей, путей, племен славян и их сосе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1"/>
          <p:cNvSpPr/>
          <p:nvPr/>
        </p:nvSpPr>
        <p:spPr>
          <a:xfrm>
            <a:off x="758880" y="341280"/>
            <a:ext cx="711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XVI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в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образовалось централизованное Русское государство, в него вошли народы Поволжья. Русские стали продвигаться в лесостепную зону и за Волгу, на Каму и Урал, по воде на север Сибир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 Юге, на Дону появились казачьи ста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" descr="C:\Users\User\Desktop\НОВОЕ\ермакк.jpg"/>
          <p:cNvPicPr/>
          <p:nvPr/>
        </p:nvPicPr>
        <p:blipFill>
          <a:blip r:embed="rId1"/>
          <a:stretch/>
        </p:blipFill>
        <p:spPr>
          <a:xfrm>
            <a:off x="1806480" y="3749760"/>
            <a:ext cx="4248360" cy="2023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3"/>
          <p:cNvSpPr/>
          <p:nvPr/>
        </p:nvSpPr>
        <p:spPr>
          <a:xfrm>
            <a:off x="1204920" y="272880"/>
            <a:ext cx="674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VIII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ве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ось бурное развитие российской географической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>
            <a:off x="2003400" y="3240000"/>
            <a:ext cx="4533840" cy="2419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рямоугольник 1"/>
          <p:cNvSpPr/>
          <p:nvPr/>
        </p:nvSpPr>
        <p:spPr>
          <a:xfrm>
            <a:off x="177840" y="811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асилий Николаевич Татищ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1686—1750) 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составил первое географическое описание России и выделил районы в Европейской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C:\Users\User\Desktop\НОВОЕ\василий татищев.jpg"/>
          <p:cNvPicPr/>
          <p:nvPr/>
        </p:nvPicPr>
        <p:blipFill>
          <a:blip r:embed="rId1"/>
          <a:stretch/>
        </p:blipFill>
        <p:spPr>
          <a:xfrm>
            <a:off x="6084720" y="2432160"/>
            <a:ext cx="2138400" cy="28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1" name="Прямоугольник 3"/>
          <p:cNvSpPr/>
          <p:nvPr/>
        </p:nvSpPr>
        <p:spPr>
          <a:xfrm>
            <a:off x="601560" y="3584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4"/>
          <p:cNvSpPr/>
          <p:nvPr/>
        </p:nvSpPr>
        <p:spPr>
          <a:xfrm>
            <a:off x="246240" y="2733840"/>
            <a:ext cx="45720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н первым пришел к мысли сделать попытку собрать географические сведения путем специального вопросника, разосланного на места от имени Академии наук. Анкета Татищева отличается разносторонностью  и строго научным характером, и сейчас представляет немалый интерес для методики полевых географически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следо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1"/>
          <p:cNvSpPr/>
          <p:nvPr/>
        </p:nvSpPr>
        <p:spPr>
          <a:xfrm>
            <a:off x="1103400" y="141120"/>
            <a:ext cx="70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Урале Татищев развивает активную деятельность по строительству заводов, основывает центр горнозаводского Урала – Екатеринбург и город Перм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2"/>
          <p:cNvSpPr/>
          <p:nvPr/>
        </p:nvSpPr>
        <p:spPr>
          <a:xfrm>
            <a:off x="1093680" y="5840280"/>
            <a:ext cx="694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тог его деятельности- 36 металлургических заводов, 45 были построены по его планам уже после смер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bashturist_ru_kartazavodov"/>
          <p:cNvPicPr/>
          <p:nvPr/>
        </p:nvPicPr>
        <p:blipFill>
          <a:blip r:embed="rId1"/>
          <a:stretch/>
        </p:blipFill>
        <p:spPr>
          <a:xfrm>
            <a:off x="2525760" y="2319480"/>
            <a:ext cx="3429000" cy="2498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1"/>
          <p:cNvSpPr/>
          <p:nvPr/>
        </p:nvSpPr>
        <p:spPr>
          <a:xfrm>
            <a:off x="803160" y="0"/>
            <a:ext cx="7716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1768 г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етербургская Академия наук организовала пять географических экспеди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фициально названных «физическими» и работавших по общей програм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и изучали различные районы, главным образом Европейской России (с Уралом)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по основным базам именовались: три экспедиции — оренбургскими, две — астраханск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765000" y="3405240"/>
            <a:ext cx="2654640" cy="2533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"/>
          <p:cNvPicPr/>
          <p:nvPr/>
        </p:nvPicPr>
        <p:blipFill>
          <a:blip r:embed="rId2"/>
          <a:stretch/>
        </p:blipFill>
        <p:spPr>
          <a:xfrm>
            <a:off x="5616720" y="3611520"/>
            <a:ext cx="3203280" cy="2535120"/>
          </a:xfrm>
          <a:prstGeom prst="rect">
            <a:avLst/>
          </a:prstGeom>
          <a:ln w="0">
            <a:noFill/>
          </a:ln>
        </p:spPr>
      </p:pic>
      <p:sp>
        <p:nvSpPr>
          <p:cNvPr id="419" name="Прямоугольник 6"/>
          <p:cNvSpPr/>
          <p:nvPr/>
        </p:nvSpPr>
        <p:spPr>
          <a:xfrm>
            <a:off x="767520" y="62434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Экспедиция А.Гумбольд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7"/>
          <p:cNvSpPr/>
          <p:nvPr/>
        </p:nvSpPr>
        <p:spPr>
          <a:xfrm>
            <a:off x="5410800" y="615456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Экспедиция И.П.Фал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Объект 3" descr=""/>
          <p:cNvPicPr/>
          <p:nvPr/>
        </p:nvPicPr>
        <p:blipFill>
          <a:blip r:embed="rId1"/>
          <a:stretch/>
        </p:blipFill>
        <p:spPr>
          <a:xfrm>
            <a:off x="5748480" y="2421000"/>
            <a:ext cx="2495520" cy="2897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"/>
          <p:cNvSpPr/>
          <p:nvPr/>
        </p:nvSpPr>
        <p:spPr>
          <a:xfrm>
            <a:off x="0" y="254880"/>
            <a:ext cx="5018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7-летний петербургский академи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туралист 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Петр Симон Паллас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дом из Берли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был назначен начальни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вой Оренбургской физической экспедици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3"/>
          <p:cNvSpPr/>
          <p:nvPr/>
        </p:nvSpPr>
        <p:spPr>
          <a:xfrm>
            <a:off x="0" y="2421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ым исследовал часть Прикаспийской низменности. Он описал и нанес на карту устье Я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4"/>
          <p:cNvSpPr/>
          <p:nvPr/>
        </p:nvSpPr>
        <p:spPr>
          <a:xfrm>
            <a:off x="0" y="34876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учные результаты палассовской экспедиции превзошли все ожидания. Был собран уникальный материал по зоологии, ботанике, палеонтологии, геологии, физической географии, экономике, истории, этнографии, культуре и быту народов России. Коллекции, собранные во время этого путешествия, направлялись в Петербург, легли в основу коллекций академической 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К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Calibri"/>
                <a:hlinkClick r:id="rId2"/>
              </a:rPr>
              <a:t>унстка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679320" y="284040"/>
            <a:ext cx="6413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тешествие имело и громадное практическое значение. Оно дало сведения об уникальных природных богатствах Восточной Сибири и Алтая, которые до этого почти не были известны. Паллас рассказывал также о нуждах проживавших там нар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2"/>
          <p:cNvSpPr/>
          <p:nvPr/>
        </p:nvSpPr>
        <p:spPr>
          <a:xfrm>
            <a:off x="4572000" y="290340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 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Calibri"/>
                <a:hlinkClick r:id="rId1"/>
              </a:rPr>
              <a:t>177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году в районе Красноярска Палласу показали 680-килограммовую железно-каменную глыбу, которая по распоряжению путешественника была отправлена в Петербург и сейчас украшает метеоритный отдел Минералогического музея Академии наук. Этот крупнейший в России сидеролит (железно-каменный метеорит) носит название «палласова железа», или «палласи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2"/>
          <a:stretch/>
        </p:blipFill>
        <p:spPr>
          <a:xfrm>
            <a:off x="679320" y="3192480"/>
            <a:ext cx="2909880" cy="2158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ШК489</cp:lastModifiedBy>
  <dcterms:modified xsi:type="dcterms:W3CDTF">2015-03-03T12:51:34Z</dcterms:modified>
  <cp:revision>51</cp:revision>
  <dc:subject/>
  <dc:title>Презентация PowerPoint</dc:title>
</cp:coreProperties>
</file>