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D86-E313-4925-B730-18574DEC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E0C-2B02-4310-B280-ACCA5FBD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605-8A16-47C3-B740-24992FB8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0E3-CD89-4673-B8AD-03AE0927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5FD-B2D3-4A4A-A238-B7DDBE1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AE2-53E4-4779-A107-0025C2D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146-E5DA-4265-BBCC-DEB7EAD0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CFA-A596-4B29-AB6A-1630236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298-C69C-4633-A67E-93153E38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F58-7988-4F1C-9E34-71D2762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D1D-7CA4-41B0-943A-EC59E9F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8B3-48E5-4428-AF5D-DF196C7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D9D9-866D-46A0-8C29-BACF00524A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3ebf1"/>
                </a:solidFill>
                <a:latin typeface="Arial"/>
              </a:rPr>
              <a:t>Сильвиус Леопольд Вайс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21300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ревянкина Наталь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нсамбль народных инструмент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-й год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лодина Наиля Фари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&amp;Kcy;&amp;ucy;&amp;pcy;&amp;icy;&amp;tcy;&amp;softcy; CD - WEISS / BARTO - LUTE SONATAS 6"/>
          <p:cNvPicPr/>
          <p:nvPr/>
        </p:nvPicPr>
        <p:blipFill>
          <a:blip r:embed="rId1"/>
          <a:stretch/>
        </p:blipFill>
        <p:spPr>
          <a:xfrm>
            <a:off x="395280" y="765000"/>
            <a:ext cx="47624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&amp;Scy;&amp;icy;&amp;lcy;&amp;softcy;&amp;vcy;&amp;icy;&amp;ucy;&amp;scy; &amp;Lcy;&amp;iecy;&amp;ocy;&amp;pcy;&amp;ocy;&amp;lcy;&amp;softcy;&amp;dcy; &amp;Vcy;&amp;acy;&amp;jcy;&amp;scy;. &amp;Kcy;&amp;ocy;&amp;ncy;&amp;tscy;&amp;iecy;&amp;rcy;&amp;tcy;&amp;ycy; &amp;dcy;&amp;lcy;&amp;yacy; &amp;lcy;&amp;yucy;&amp;tcy;&amp;ncy;&amp;icy;, &amp;kcy;&amp;ocy;&amp;ncy;&amp;tscy;&amp;iecy;&amp;rcy;&amp;tcy;&amp;ycy; &amp;dcy;&amp;lcy;&amp;yacy; &amp;fcy;&amp;lcy;&amp;iecy;&amp;jcy;&amp;tcy;&amp;ycy; &amp;icy; &amp;lcy;&amp;yucy;&amp;tcy;&amp;ncy;&amp;icy;, &amp;kcy;&amp;ocy;&amp;ncy;&amp;chcy;&amp;iecy;&amp;rcy;&amp;tcy;&amp;ocy; &amp;gcy;&amp;rcy;&amp;ocy;&amp;scy;&amp;scy;&amp;ocy; - 29 &amp;Acy;&amp;pcy;&amp;rcy;&amp;iecy;&amp;lcy;&amp;yacy; 2010 - &amp;Pcy;&amp;ocy;&amp;gcy;&amp;rcy;&amp;ucy;&amp;zhcy;&amp;iecy;&amp;ncy;&amp;icy;&amp;iecy; &amp;vcy; &amp;kcy;&amp;lcy;&amp;acy;&amp;scy;&amp;scy;&amp;icy;&amp;kcy;"/>
          <p:cNvPicPr/>
          <p:nvPr/>
        </p:nvPicPr>
        <p:blipFill>
          <a:blip r:embed="rId1"/>
          <a:stretch/>
        </p:blipFill>
        <p:spPr>
          <a:xfrm>
            <a:off x="1403280" y="907920"/>
            <a:ext cx="4172040" cy="50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igue by S.L. Weiss - free download on MusicaNeo"/>
          <p:cNvPicPr/>
          <p:nvPr/>
        </p:nvPicPr>
        <p:blipFill>
          <a:blip r:embed="rId2"/>
          <a:stretch/>
        </p:blipFill>
        <p:spPr>
          <a:xfrm>
            <a:off x="5940360" y="1341360"/>
            <a:ext cx="2656080" cy="374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цертный исполнитель первой величины Андрес Сеговия включает в свои программы его аллеманду, сарабанду, жигу и др. Он даже составил целое отделение концерта из произведений этого автора на открытии Филармонического общества в Барселоне 29 ноября 1920 года. Сеговия – не первый из переложивших произведения для лютни и не последний из тех, кто возьмет на себя задачу возрождения гитары. С.Л. Вайс был одним из самых знаменитых исполнителей в эту славную эпоху. Король Саксонии в 1718 году оставил его при своем Дворе и называл выдающимся виртуозом–лютнистом. О том, что он был величиной, свидетельствует тот факт, что за последние десятилетия о нем писали многие ведущие музыковеды."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87640" y="691920"/>
            <a:ext cx="410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ильвиус Леопольд Вай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687 – 1750) — силезский композитор, лютнист и музыкальный педаго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 камерную и церковную музы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Luteduo Anton Birula Anna Kowalska Lute duet; includes information about players, music samples, and concert schedule."/>
          <p:cNvPicPr/>
          <p:nvPr/>
        </p:nvPicPr>
        <p:blipFill>
          <a:blip r:embed="rId1"/>
          <a:stretch/>
        </p:blipFill>
        <p:spPr>
          <a:xfrm>
            <a:off x="303120" y="311040"/>
            <a:ext cx="434016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635280" y="404280"/>
            <a:ext cx="512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виус Леопольд Вайс вошёл в историю музыки благодаря двум своим произведениям – Фантазии и Реквиему на смерть графа де Ложи. Известность этим пьесам принесла концертная деятельность Андреса Сегов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Santiago de Murcia Ludovico Roncalli Silvius Leopold Weiss - The Art of Andrs Segovia Vol 4 (21 tracks)"/>
          <p:cNvPicPr/>
          <p:nvPr/>
        </p:nvPicPr>
        <p:blipFill>
          <a:blip r:embed="rId1"/>
          <a:srcRect l="51809" t="0" r="0" b="0"/>
          <a:stretch/>
        </p:blipFill>
        <p:spPr>
          <a:xfrm>
            <a:off x="468360" y="404640"/>
            <a:ext cx="2733480" cy="5697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43080" y="6093000"/>
            <a:ext cx="44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дрес Сеговия, гитар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4762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виус Леопольд Вайс родился предположительно в Гротткау, в Силез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тец, Иоганн Якоб Вайс, был музыкантом и играл на лютне и теор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виус Вайс получил начальное музыкальное образование у своего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1" descr="349c990ab6c453afa79180a77c74b6f4_XL"/>
          <p:cNvPicPr/>
          <p:nvPr/>
        </p:nvPicPr>
        <p:blipFill>
          <a:blip r:embed="rId1"/>
          <a:stretch/>
        </p:blipFill>
        <p:spPr>
          <a:xfrm>
            <a:off x="4859280" y="1052640"/>
            <a:ext cx="39466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D &quot;Sylvius Leopold Weiss&quot; Sonatas for Lute, Volume 1"/>
          <p:cNvPicPr/>
          <p:nvPr/>
        </p:nvPicPr>
        <p:blipFill>
          <a:blip r:embed="rId1"/>
          <a:stretch/>
        </p:blipFill>
        <p:spPr>
          <a:xfrm>
            <a:off x="4140360" y="1052640"/>
            <a:ext cx="4762440" cy="4695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250920" y="260280"/>
            <a:ext cx="367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айс служил лютнистом в Бреслау при дворе Карла Филиппа Пфальц-Нойбургского, исполнял обязанности придворного музыканта в Кассене и Рим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 1718 года он находился на службе при Дрезденском дворе, король Саксонии называл его выдающимся виртуозом-лютнист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Picture 57" descr="duwz"/>
          <p:cNvPicPr/>
          <p:nvPr/>
        </p:nvPicPr>
        <p:blipFill>
          <a:blip r:embed="rId1"/>
          <a:stretch/>
        </p:blipFill>
        <p:spPr>
          <a:xfrm>
            <a:off x="250920" y="981000"/>
            <a:ext cx="3506760" cy="453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55280" y="5660640"/>
            <a:ext cx="230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.С. Б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5280" y="620640"/>
            <a:ext cx="49021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ом Вайса был И. К. Зайферт, будущий учитель Леопольда Моцар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йс был великолепным импровизатором, по всей вероятности, вдохновившим И.С. Баха, с которым он был знаком, на написание четырех сюит для лют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Scy;.&amp;Lcy;. &amp;Vcy;&amp;acy;&amp;jcy;&amp;scy;: &amp;Mcy;&amp;acy;&amp;lcy;&amp;iecy;&amp;ncy;&amp;softcy;&amp;kcy;&amp;acy;&amp;yacy; &amp;scy;&amp;yucy;&amp;icy;&amp;tcy;&amp;acy; &amp;dcy;&amp;lcy;&amp;yacy; &amp;gcy;&amp;icy;&amp;tcy;&amp;acy;&amp;rcy;&amp;ycy; &amp;scy;&amp;kcy;&amp;acy;&amp;chcy;&amp;acy;&amp;tcy;&amp;softcy; &amp;bcy;&amp;iecy;&amp;scy;&amp;pcy;&amp;lcy;&amp;acy;&amp;tcy;&amp;ncy;&amp;ocy; &amp;ncy;&amp;acy; MusicaNeo"/>
          <p:cNvPicPr/>
          <p:nvPr/>
        </p:nvPicPr>
        <p:blipFill>
          <a:blip r:embed="rId1"/>
          <a:stretch/>
        </p:blipFill>
        <p:spPr>
          <a:xfrm>
            <a:off x="395280" y="804960"/>
            <a:ext cx="3780000" cy="53355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35600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Трибанском музее хранятся некоторые произведения Вайса: Концерт для лютни и флейты, различные сюиты, одна прелюдия и Реквием на смерть барона д`Артига (1719), а также другой Реквием, посвящённый графу де Ложи (1721). Около пятидесяти сонат и сюита для лютни (обработанная для клавира Теофилом Мюффатом) находятся в Берлинской библиоте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I. Gavotte (Silvius Leopold Weiss) - &amp;tcy;&amp;iecy;&amp;kcy;&amp;scy;&amp;tcy; &amp;pcy;&amp;iecy;&amp;scy;&amp;ncy;&amp;icy;, &amp;kcy;&amp;lcy;&amp;icy;&amp;pcy;, &amp;ocy;&amp;tcy;&amp;zcy;&amp;ycy;&amp;vcy;&amp;ycy;"/>
          <p:cNvPicPr/>
          <p:nvPr/>
        </p:nvPicPr>
        <p:blipFill>
          <a:blip r:embed="rId1"/>
          <a:stretch/>
        </p:blipFill>
        <p:spPr>
          <a:xfrm>
            <a:off x="1908000" y="404640"/>
            <a:ext cx="4415040" cy="44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250920" y="5013360"/>
            <a:ext cx="86421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В восхитительной плеяде сочинителей для лютни Сильвиус Леопольд Вайс – в первых рядах… Произведения Вайса, хотя и не имеют такой композиции, как произведения И.С. Баха, свежие, приятные и привлекательны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оминго Прат "Словарь гитаристов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&amp;Scy;&amp;kcy;&amp;acy;&amp;chcy;&amp;acy;&amp;tcy;&amp;softcy; (Classical, lute, Baroque) Silvius Leopold Weiss - Lute Concerti - Richard Stone, Tempesta di Mare - 2004, FLAC (image+."/>
          <p:cNvPicPr/>
          <p:nvPr/>
        </p:nvPicPr>
        <p:blipFill>
          <a:blip r:embed="rId1"/>
          <a:stretch/>
        </p:blipFill>
        <p:spPr>
          <a:xfrm>
            <a:off x="1042920" y="907920"/>
            <a:ext cx="4753080" cy="476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&amp;Scy;&amp;kcy;&amp;acy;&amp;chcy;&amp;acy;&amp;tcy;&amp;softcy; (Chamber) Weiss, Sylvius Leopold - Pieces de luth (Hopkinson Smith) - 1998, APE (image+.cue), lossless torrent - Torrent"/>
          <p:cNvPicPr/>
          <p:nvPr/>
        </p:nvPicPr>
        <p:blipFill>
          <a:blip r:embed="rId2"/>
          <a:stretch/>
        </p:blipFill>
        <p:spPr>
          <a:xfrm>
            <a:off x="4427640" y="2349360"/>
            <a:ext cx="40003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20:16:48Z</dcterms:created>
  <dc:creator>User</dc:creator>
  <dc:description/>
  <dc:language>en-US</dc:language>
  <cp:lastModifiedBy>SAMSUNG</cp:lastModifiedBy>
  <dcterms:modified xsi:type="dcterms:W3CDTF">2015-01-22T18:57:05Z</dcterms:modified>
  <cp:revision>14</cp:revision>
  <dc:subject/>
  <dc:title>Леопольд Сильвиус Вайс</dc:title>
</cp:coreProperties>
</file>