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37B066-95E6-4151-A746-1DF4594E1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94EAE2-805B-4F2D-A926-F2F03DF03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5253-ADEE-4F9B-A112-0D8502DC1A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152A-F53E-4DCF-8C2C-14A945EB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C5CA-7492-45A5-9039-B13BC84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E31C-E813-4EC4-922F-EF6BA02DA5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045C-9E32-421D-8314-902B49DC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264E-EF02-4495-9162-443E0499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8370-B161-4924-B1FC-1B69CD2B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ED03-E8F8-4E4C-8880-3777918D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0520-72C6-4529-ABE2-F8D34483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841D-A616-4FCE-AB2C-927F5FE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F8C1-7C21-4EA8-879B-B4ED36F6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942A-E0CB-42DF-82E2-2C503EA6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D7C55A-BB7C-45F8-A50B-A48CC4DBF71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28960" y="4500720"/>
            <a:ext cx="564372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БДОУ детский сад №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г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Мингалеева Еле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расова Юли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3760" y="549360"/>
            <a:ext cx="829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здник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вященный  Дню защитника Отечест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овместного проведения с детьми и родителями средней групп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папа-самый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213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8760" y="212760"/>
            <a:ext cx="8229600" cy="1431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58040" cy="5240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епление здоровья детей и и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ганда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е любви к физической культуре и спорту, чувства др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йствие укреплению взаимоотношений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звать положительные эмоции от спортивного развлечени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ть чувства дружбы и взаимопомощи между детьми и родителям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e02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Оздоровительны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собствовать укреплению опорно-двигательного аппарата и формированию правильной осанки.</a:t>
            </a:r>
            <a:br>
              <a:rPr sz="1600"/>
            </a:b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ы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двигательные умения и навык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представление детей об оздоровительном воздейств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х упражнений на организм; обучать игре в коман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интересовать родителей  в досуговой деятельности детей </a:t>
            </a:r>
            <a:br>
              <a:rPr sz="1600"/>
            </a:b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Развивающ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быстроту, силу, ловкость, меткость, памя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интерес к спортивным игра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умение накидывать кольца на «слонов» на расстоянии;</a:t>
            </a:r>
            <a:br>
              <a:rPr sz="1600"/>
            </a:b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оспитательны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ывать в детях потребность в ежедневных физических упражнениях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чувство товарищества, взаимопомощь, интерес к физической культуре.</a:t>
            </a:r>
            <a:br>
              <a:rPr sz="1600"/>
            </a:b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ые области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Здоровье», «Познание», «Коммуникация», «Труд».</a:t>
            </a:r>
            <a:br>
              <a:rPr sz="1600"/>
            </a:b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иды детской деятельности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уникативная, игровая, познавательная, двигательная, трудо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42960" y="-230040"/>
            <a:ext cx="785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92360" y="1197000"/>
            <a:ext cx="536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формлени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оздушные шары , плакаты с символикой 23 февраля стенгазета “23 февра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узыкальное сопровожде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ртивный марш под песню «Мы бравые солдаты», песня военных лет “Катюша”, песня военных лет “Синий платочек”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астники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и и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74680"/>
            <a:ext cx="8229600" cy="1569960"/>
          </a:xfrm>
          <a:prstGeom prst="rect">
            <a:avLst/>
          </a:prstGeom>
          <a:solidFill>
            <a:srgbClr val="08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формле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оздушные шары , плакаты с символикой 23 февраля стенгаз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 февра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узыкальное сопровожд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ртивный марш под песню «Мы бравые солдаты», песня военных лет “Катюша”, песня военных лет “Синий платочек”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и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060640"/>
            <a:ext cx="4039920" cy="863640"/>
          </a:xfrm>
          <a:prstGeom prst="rect">
            <a:avLst/>
          </a:prstGeom>
          <a:solidFill>
            <a:srgbClr val="f8f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песню «Мы бравые солдаты» дети входят в з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2280" y="1989000"/>
            <a:ext cx="4041720" cy="648000"/>
          </a:xfrm>
          <a:prstGeom prst="rect">
            <a:avLst/>
          </a:prstGeom>
          <a:solidFill>
            <a:srgbClr val="fc6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ти рассказывают ст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4105080" cy="273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405936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9440" y="620640"/>
            <a:ext cx="23119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анец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юша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19640" y="476280"/>
            <a:ext cx="4419360" cy="294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627360" cy="2419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280400" y="4221000"/>
            <a:ext cx="48578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вочки поздравляют маль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620640"/>
            <a:ext cx="4249800" cy="647640"/>
          </a:xfrm>
          <a:prstGeom prst="rect">
            <a:avLst/>
          </a:prstGeom>
          <a:solidFill>
            <a:srgbClr val="28f841"/>
          </a:solidFill>
          <a:ln w="9360">
            <a:solidFill>
              <a:srgbClr val="28f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с для дет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айп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3280" y="523800"/>
            <a:ext cx="4132440" cy="275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22640" cy="208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7440" y="3502080"/>
            <a:ext cx="5361120" cy="459720"/>
          </a:xfrm>
          <a:prstGeom prst="rect">
            <a:avLst/>
          </a:prstGeom>
          <a:solidFill>
            <a:srgbClr val="f8f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с для па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мины помощни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3915000" cy="260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932360" y="4005360"/>
            <a:ext cx="384336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99240" y="260280"/>
            <a:ext cx="4164480" cy="459720"/>
          </a:xfrm>
          <a:prstGeom prst="rect">
            <a:avLst/>
          </a:prstGeom>
          <a:solidFill>
            <a:srgbClr val="fc6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с для па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3845160" cy="2562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45800" y="3573360"/>
            <a:ext cx="28872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подар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1993680" cy="299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492360" y="4219560"/>
            <a:ext cx="395928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10800000">
            <a:off x="-714240" y="-64152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200" y="357120"/>
            <a:ext cx="5469120" cy="520560"/>
          </a:xfrm>
          <a:prstGeom prst="rect">
            <a:avLst/>
          </a:prstGeom>
          <a:solidFill>
            <a:srgbClr val="fd2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ая часть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Р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311640" cy="2482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64000" y="1052640"/>
            <a:ext cx="2158920" cy="2881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40360" y="1052640"/>
            <a:ext cx="3203640" cy="2401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35240" y="4076640"/>
            <a:ext cx="2626920" cy="520560"/>
          </a:xfrm>
          <a:prstGeom prst="rect">
            <a:avLst/>
          </a:prstGeom>
          <a:solidFill>
            <a:srgbClr val="250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крашение з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059280" y="475128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0" y="4780080"/>
            <a:ext cx="2771640" cy="207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084720" y="4780080"/>
            <a:ext cx="27720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аключительная часть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1628640"/>
            <a:ext cx="3929040" cy="457200"/>
          </a:xfrm>
          <a:prstGeom prst="rect">
            <a:avLst/>
          </a:prstGeom>
          <a:solidFill>
            <a:srgbClr val="fd2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2133720"/>
            <a:ext cx="6562800" cy="3951000"/>
          </a:xfrm>
          <a:prstGeom prst="rect">
            <a:avLst/>
          </a:prstGeom>
          <a:solidFill>
            <a:srgbClr val="90fb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ртивный праздник «Мой папа самый,мсамый» повышает взаимопонимание детей и родителей, воспитывает чувство коллективизма и здорового соперничества, прививает навыки здорового образа жизни развивает интерес к занятиям физической культурой и 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Великое чудо – семь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8:47:40Z</dcterms:created>
  <dc:creator>Главный бухгалтер</dc:creator>
  <dc:description/>
  <dc:language>en-US</dc:language>
  <cp:lastModifiedBy>Admin</cp:lastModifiedBy>
  <cp:lastPrinted>2015-02-19T13:28:18Z</cp:lastPrinted>
  <dcterms:modified xsi:type="dcterms:W3CDTF">2015-03-03T14:26:17Z</dcterms:modified>
  <cp:revision>27</cp:revision>
  <dc:subject/>
  <dc:title>Мама, папа, я –  спортивная</dc:title>
</cp:coreProperties>
</file>