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CBD-7622-40B6-9B6E-1C5EDC0E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C65-1BB8-4701-A16E-1D17ED3A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D57-19C8-489E-992F-64DDFCF6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C4D-413D-4011-9226-E7CF9274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0FA7-1239-4EB0-BD63-6254FC15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238-229D-42C5-9262-B2CB4FA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97C2-F20F-4B60-B419-0A4F46B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FB5-835C-443C-8C98-B17A62F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2E51-F6EF-44EA-8082-4E80E07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E321-64B1-4AD8-9972-4BE1B846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EFD-2FC1-48C4-BC4F-BD2FC6D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EC6-46E9-4793-A2D7-F1D5FF60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68B-17D3-43C2-9F99-6889449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7752-6F16-4814-8E55-7B995D6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C911-0FEF-4F93-9543-4B6D71D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9994-CD0C-4123-AFEE-FC06E6C0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A0E4-27AF-481B-A508-3BA78AF9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E86-4073-424A-A785-67418AE9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69F-0E37-492D-9128-BDA3478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8CD-2CF5-476D-8B31-CA17624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BB2-3B20-4136-958D-F84F7AE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F2A-EAD6-4712-B7D9-D018C02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603-567F-418D-9249-98E6D61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2F9-3709-4130-B59E-ADB018D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8C16-2DA4-4ECB-8C78-AE29BC4E22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605-5F4D-4207-AD24-DCBDEBCE226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ahoma"/>
              </a:rPr>
              <a:t>НАША     БЕЗОПАСНОСТЬ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ак   действовать   при аварии   водопровода?</a:t>
            </a: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верни  специальный вентиль,  который перекрывает  воду  в квартире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2. Позвони  родителя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ГАЗ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624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2741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чувствовав запах газа, соблюдай следующие правила: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авило 1.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рочно скажи об этом  взрос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авило 2.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Надо сразу же открыть окна и проветрить кварти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авило 3.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Проверь, закрыты ли краны на пл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авило 4.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медленно позвони по телефону 04 от сосе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авило 5.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Ни в коем случае не включай свет и не зажигай спи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2268360" cy="331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295308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ahoma"/>
              </a:rPr>
              <a:t>«Огонь,  вода 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Tahoma"/>
              </a:rPr>
              <a:t>и  газ»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11280" y="549360"/>
          <a:ext cx="547344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54734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43280" y="1916280"/>
          <a:ext cx="5616360" cy="43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916280"/>
                    <a:ext cx="561636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«Запомнить твердо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                   нужно нам —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ожар не возникает сам!»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95280" y="4797000"/>
            <a:ext cx="6702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В. В. Маяковск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ИЧИНЫ ПОЖАР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  печного  отоплен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осторожное  обращение с огнем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рушение  правил  пользования электрическими  приборами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исправность  электропроводки или  неправильная  эксплуатация электросети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жары  от  бытовых  газовых приборов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шалость  детей  с  огн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ообщи быстро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без запинок диспетчеру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91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омашний адрес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есто, где го­рит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й номер телефона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ю фамилию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каком этаже горит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лучше подъехать к дому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колько подъездов в дом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2349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мни каждый гражданин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жарный номер  - 01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ОДА В ДОМ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1773360"/>
          <a:ext cx="61927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61927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terplay</cp:lastModifiedBy>
  <dcterms:modified xsi:type="dcterms:W3CDTF">2010-01-28T04:24:13Z</dcterms:modified>
  <cp:revision>2</cp:revision>
  <dc:subject/>
  <dc:title>PowerPoint Presentation</dc:title>
</cp:coreProperties>
</file>