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ECE-6F3B-4176-BD37-B41AAC6A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CEE-5070-4E2C-AF96-B327F57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7AE-64E7-4E04-B8C8-4ED257A5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529-CF1B-4C13-AE44-BBB9D1D4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111-F43D-40E4-96A7-1B90A17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795-56CC-4306-894B-68DD7411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1B2-A83C-4645-8171-D6D0516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4C6-4F46-4F29-A462-BDB8EED2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18C-8898-4975-84F5-149034D8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61B-CCED-4E5B-9941-F6FE523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A99-DBC0-42B2-B599-3C6C3C6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6F0-2059-4457-A526-6226875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1A3F-2947-46C2-B623-EACE12E41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088;&#1080;&#1076;&#1074;&#1086;&#1088;&#1085;&#1099;&#1081;_&#1089;&#1086;&#1073;&#1086;&#1088;_&#1057;&#1087;&#1072;&#1089;&#1072;_&#1053;&#1077;&#1088;&#1091;&#1082;&#1086;&#1090;&#1074;&#1086;&#1088;&#1085;&#1086;&#1075;&#1086;_(&#1057;&#1072;&#1085;&#1082;&#1090;-&#1055;&#1077;&#1090;&#1077;&#1088;&#1073;&#1091;&#1088;&#1075;)" TargetMode="External"/><Relationship Id="rId3" Type="http://schemas.openxmlformats.org/officeDocument/2006/relationships/hyperlink" Target="https://ru.wikipedia.org/wiki/&#1062;&#1077;&#1088;&#1082;&#1086;&#1074;&#1085;&#1099;&#1081;_&#1073;&#1088;&#1072;&#1082;" TargetMode="External"/><Relationship Id="rId4" Type="http://schemas.openxmlformats.org/officeDocument/2006/relationships/hyperlink" Target="https://ru.wikipedia.org/wiki/&#1040;&#1083;&#1077;&#1082;&#1089;&#1072;&#1085;&#1076;&#1088;&#1072;_&#1060;&#1105;&#1076;&#1086;&#1088;&#1086;&#1074;&#1085;&#1072;_(&#1078;&#1077;&#1085;&#1072;_&#1053;&#1080;&#1082;&#1086;&#1083;&#1072;&#1103;_II)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8;&#1084;&#1087;&#1077;&#1088;&#1072;&#1090;&#1086;&#1088;_&#1074;&#1089;&#1077;&#1088;&#1086;&#1089;&#1089;&#1080;&#1081;&#1089;&#1082;&#1080;&#1081;" TargetMode="External"/><Relationship Id="rId3" Type="http://schemas.openxmlformats.org/officeDocument/2006/relationships/hyperlink" Target="https://ru.wikipedia.org/wiki/&#1053;&#1080;&#1082;&#1086;&#1083;&#1072;&#1081;_II" TargetMode="External"/><Relationship Id="rId4" Type="http://schemas.openxmlformats.org/officeDocument/2006/relationships/hyperlink" Target="https://ru.wikipedia.org/wiki/&#1040;&#1083;&#1077;&#1082;&#1089;&#1072;&#1085;&#1076;&#1088;&#1072;_&#1060;&#1105;&#1076;&#1086;&#1088;&#1086;&#1074;&#1085;&#1072;_(&#1080;&#1084;&#1087;&#1077;&#1088;&#1072;&#1090;&#1088;&#1080;&#1094;&#1072;,_&#1078;&#1077;&#1085;&#1072;_&#1053;&#1080;&#1082;&#1086;&#1083;&#1072;&#1103;_II)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3;&#1080;&#1082;&#1086;&#1083;&#1072;&#1081;_II" TargetMode="External"/><Relationship Id="rId3" Type="http://schemas.openxmlformats.org/officeDocument/2006/relationships/hyperlink" Target="https://ru.wikipedia.org/wiki/&#1040;&#1083;&#1077;&#1082;&#1089;&#1072;&#1085;&#1076;&#1088;&#1072;_&#1060;&#1105;&#1076;&#1086;&#1088;&#1086;&#1074;&#1085;&#1072;_(&#1080;&#1084;&#1087;&#1077;&#1088;&#1072;&#1090;&#1088;&#1080;&#1094;&#1072;,_&#1078;&#1077;&#1085;&#1072;_&#1053;&#1080;&#1082;&#1086;&#1083;&#1072;&#1103;_II)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2;&#1077;&#1083;&#1080;&#1082;&#1072;&#1103;_&#1082;&#1085;&#1103;&#1078;&#1085;&#1072;" TargetMode="External"/><Relationship Id="rId3" Type="http://schemas.openxmlformats.org/officeDocument/2006/relationships/hyperlink" Target="https://ru.wikipedia.org/wiki/&#1053;&#1080;&#1082;&#1086;&#1083;&#1072;&#1081;_II" TargetMode="External"/><Relationship Id="rId4" Type="http://schemas.openxmlformats.org/officeDocument/2006/relationships/hyperlink" Target="https://ru.wikipedia.org/wiki/&#1040;&#1083;&#1077;&#1082;&#1089;&#1072;&#1085;&#1076;&#1088;&#1072;_&#1060;&#1105;&#1076;&#1086;&#1088;&#1086;&#1074;&#1085;&#1072;_(&#1078;&#1077;&#1085;&#1072;_&#1053;&#1080;&#1082;&#1086;&#1083;&#1072;&#1103;_II)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ний российский император – Никола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600" y="5257800"/>
            <a:ext cx="320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машо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БОУ СОШ №5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стасия Никола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ая княжна, четвёртая дочь императора  Николая II и                 Александры Фёдоров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Grand Duchess Anastasia Nikolaevna.jpg"/>
          <p:cNvPicPr/>
          <p:nvPr/>
        </p:nvPicPr>
        <p:blipFill>
          <a:blip r:embed="rId2"/>
          <a:stretch/>
        </p:blipFill>
        <p:spPr>
          <a:xfrm>
            <a:off x="990720" y="2438280"/>
            <a:ext cx="26668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ждение наследника Алекс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июля 1904 года у царицы родился сын Алексей. Вскоре, однако выяснилось, что он смертельно болен. Через прабабушку, английскую королеву Викторию, передалась наследственная болезнь гемофилия – не свертывание крови. Даже при незначительных ушибах у мальчика начиналось внутреннее кровотечение, угрожавшее жизни. Поэтому Алексею не разрешалось бегать, играть в подвижные игры, как другим детям, - для него это было слишком опасно. К тому же он оказался последним ребенком в семье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36109905_428"/>
          <p:cNvPicPr/>
          <p:nvPr/>
        </p:nvPicPr>
        <p:blipFill>
          <a:blip r:embed="rId2"/>
          <a:stretch/>
        </p:blipFill>
        <p:spPr>
          <a:xfrm>
            <a:off x="5025960" y="1600200"/>
            <a:ext cx="3440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вая миров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 1914 года в Европе чувствовалось приближение большой войны. Русский император не хотел войны. После горького урока русско-японской компании он прекрасно осознавал, что любой вооруженный конфликт непременно принесет страдания, лишения,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5d856e284b5"/>
          <p:cNvPicPr/>
          <p:nvPr/>
        </p:nvPicPr>
        <p:blipFill>
          <a:blip r:embed="rId2"/>
          <a:stretch/>
        </p:blipFill>
        <p:spPr>
          <a:xfrm>
            <a:off x="4648320" y="2479680"/>
            <a:ext cx="4194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бастовки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рганизованное прекращение работы в целях достижения каких-либо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29000" y="4210200"/>
            <a:ext cx="542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волюция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ворот во всей жизни народа, начало новой исторической эпо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5105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речение от прест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 марта 1917 года царь Никола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кся от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024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сле отр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 отречение от престола и направился в Могилев, в Ставку. 8 марта он отдал прощальный приказ по арм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тъезде из Могилева бывшему государю открылась поразительное зрелище. На всем протяжении его пути до вокзала молчаливые толпы народа стояли на коленях перед своим бывшем императором. Его глубоко взволновала и растрогала эта сцена. Он по-прежнему не сомневался, что основная масса русского народа – за госуд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нулся в Царское село уже под охраной, где и оказался под домашним арестом. Прибыв туда, он впервые после всех бурных событий встретился с супругой и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ший государь оставался вежливым и даже доброжелательным по отношению ко всем, в том числе и к своим тюремщ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081125_1"/>
          <p:cNvPicPr/>
          <p:nvPr/>
        </p:nvPicPr>
        <p:blipFill>
          <a:blip r:embed="rId2"/>
          <a:stretch/>
        </p:blipFill>
        <p:spPr>
          <a:xfrm>
            <a:off x="5105520" y="2590920"/>
            <a:ext cx="3097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981080"/>
            <a:ext cx="26668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Вы можете использовать данное оформление для создания своих презентаций, но в своей презентации вы должны источник шаблона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1828800"/>
            <a:ext cx="3048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Автор данного шаблон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И.О.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лазунова Галина Борисо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У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Муниципальное образовательное учреждение средняя общеобразовательная школа №110 Кировского района г. Волгогра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 учитель истории и обществозн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 высш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ие сайта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http://pedsovet.su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следник прест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274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Александрович Романов, сын императора Александр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родился 6 мая 1868г. в Санкт - Петербурге. Рос он довольно подвижным мальчиком, даже озор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наследник получил домашнее: ему прочли лекции по курсу гимназии, а затем юридического факультета и Академии Решет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828800"/>
            <a:ext cx="2743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1236109579_738"/>
          <p:cNvPicPr/>
          <p:nvPr/>
        </p:nvPicPr>
        <p:blipFill>
          <a:blip r:embed="rId2"/>
          <a:stretch/>
        </p:blipFill>
        <p:spPr>
          <a:xfrm>
            <a:off x="5176800" y="1600200"/>
            <a:ext cx="3141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чало правления Никола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октября 1894 г. скончался от тяжелой болезни император Александ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престол вступил 26 – летний Николай. Наследник, однако не стремился занять престол, скорее не хотел эт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18288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аяние Никол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 многом заключалось в том, что к каждому собеседнику он старался найти особый подход, учитывая его сословие, профессию, личные качества и т.п. В противоположность своему отцу он почти ни к кому, кроме своих близких не обращался на "ты". При любых обстоятельствах, даже самых грозных он как правило сохранял жизненную выдержку и внешнее спокой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629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ая 1896 г. в Москве в Успенском соборе состоялась торжественная коронация Никол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16002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ноября 1894 года в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ольшой церкв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Зимнего дворца сочетался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рако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с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ександрой Фёдоровно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ile:Николай II и императрица Александра Федоровна. 1896 г.jpg"/>
          <p:cNvPicPr/>
          <p:nvPr/>
        </p:nvPicPr>
        <p:blipFill>
          <a:blip r:embed="rId5"/>
          <a:stretch/>
        </p:blipFill>
        <p:spPr>
          <a:xfrm>
            <a:off x="762120" y="1905120"/>
            <a:ext cx="301932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льга Николаевна (великая княжн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енец 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мператор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иколая 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и императрицы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ександры Фёдоровн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Olgachair.jpg"/>
          <p:cNvPicPr/>
          <p:nvPr/>
        </p:nvPicPr>
        <p:blipFill>
          <a:blip r:embed="rId5"/>
          <a:stretch/>
        </p:blipFill>
        <p:spPr>
          <a:xfrm>
            <a:off x="1219320" y="2133720"/>
            <a:ext cx="2381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тьяна Николаевна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ая княжна, вторая дочь императора   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иколая 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и императрицы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ександры Фёдоровн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Tatiana Nikolaevna.jpg"/>
          <p:cNvPicPr/>
          <p:nvPr/>
        </p:nvPicPr>
        <p:blipFill>
          <a:blip r:embed="rId4"/>
          <a:stretch/>
        </p:blipFill>
        <p:spPr>
          <a:xfrm>
            <a:off x="5432400" y="1828800"/>
            <a:ext cx="278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ия Николаев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ликая княжн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третья дочь императора 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иколая 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и императрицы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ександры Фёдоров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Maria Nikolaevna of Russia 1914.jpg"/>
          <p:cNvPicPr/>
          <p:nvPr/>
        </p:nvPicPr>
        <p:blipFill>
          <a:blip r:embed="rId5"/>
          <a:stretch/>
        </p:blipFill>
        <p:spPr>
          <a:xfrm>
            <a:off x="5400720" y="1752480"/>
            <a:ext cx="29192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16</cp:lastModifiedBy>
  <dcterms:modified xsi:type="dcterms:W3CDTF">2015-03-03T08:41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