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1AB-B23B-407A-AE04-79F4B667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A79-DA81-4A50-90A1-24B5D18D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016-B4C9-448D-992E-C43261C6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A29-7561-4FD1-B819-B5A082FA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C1C-40E6-4D14-BB90-65869AA5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131-34C3-497F-8574-7670148F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E83-1CD1-4B94-88EC-021D0ACB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D61-FB52-4D3D-B372-5EC981CA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2E2-B8C2-4200-B029-534E3F2A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F82-4A83-4ABF-AF3F-89CB196B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25F-2DCF-452F-BD87-C9AE31FA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576-D6E0-4CBD-ACA7-53F632EE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B842-740D-4AD7-8740-2CD3383A3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461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Урок – закрепление по теме «Глагол».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43" name="Picture 7" descr="j0301252"/>
          <p:cNvPicPr/>
          <p:nvPr/>
        </p:nvPicPr>
        <p:blipFill>
          <a:blip r:embed="rId1"/>
          <a:stretch/>
        </p:blipFill>
        <p:spPr>
          <a:xfrm>
            <a:off x="6089760" y="3716280"/>
            <a:ext cx="3054240" cy="2613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Tahoma"/>
              </a:rPr>
              <a:t>Время глагол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900000" y="1413000"/>
            <a:ext cx="7056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пределить, в форме какого времени употреблены глаголы. Распределить глаголы по колонк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тел, стоит, побегу, пришёл, приходил, забудем, помнят, прогулялся, увядает, исчез, выберет, проснулись, надеются, подпрыгивал, рассказывают, видят, удержали, откинули, борются, размечтаемся, езжу, веселишься, запрягали, распелись, радую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4" descr="вот так"/>
          <p:cNvPicPr/>
          <p:nvPr/>
        </p:nvPicPr>
        <p:blipFill>
          <a:blip r:embed="rId1"/>
          <a:stretch/>
        </p:blipFill>
        <p:spPr>
          <a:xfrm>
            <a:off x="6732720" y="260280"/>
            <a:ext cx="1224000" cy="148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ahoma"/>
              </a:rPr>
              <a:t>Спряжение  глагол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55640" y="1916280"/>
            <a:ext cx="763272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Расскажите, как определяется спряжение глаго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ясните без слов значение данных глаголов, определите их спряж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юхает, радуется, шагает, рвёт, плачет, улыбается, боится, гладит, пишет, вертит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4" descr="вот так"/>
          <p:cNvPicPr/>
          <p:nvPr/>
        </p:nvPicPr>
        <p:blipFill>
          <a:blip r:embed="rId1"/>
          <a:stretch/>
        </p:blipFill>
        <p:spPr>
          <a:xfrm>
            <a:off x="7164360" y="476280"/>
            <a:ext cx="12240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86532"/>
                </a:solidFill>
                <a:latin typeface="Tahoma"/>
              </a:rPr>
              <a:t>Переходные и непереходные</a:t>
            </a:r>
            <a:br>
              <a:rPr sz="4000"/>
            </a:br>
            <a:r>
              <a:rPr b="0" lang="ru-RU" sz="4000" spc="-1" strike="noStrike">
                <a:solidFill>
                  <a:srgbClr val="686532"/>
                </a:solidFill>
                <a:latin typeface="Tahoma"/>
              </a:rPr>
              <a:t> глаголы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11280" y="1844640"/>
            <a:ext cx="8353440" cy="52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00"/>
                </a:solidFill>
                <a:latin typeface="Tahoma"/>
              </a:rPr>
              <a:t>Чем отличаются переходные глаголы от непереходных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яснить значение пословиц. Выписать глаголы в два столби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 кормит и учи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ь вырвется - догонишь, а слова сказанного не воротиш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донной кадки водою не наполниш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вда глаза кол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ой рукой и узла не завяжеш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4" descr="вот так"/>
          <p:cNvPicPr/>
          <p:nvPr/>
        </p:nvPicPr>
        <p:blipFill>
          <a:blip r:embed="rId1"/>
          <a:stretch/>
        </p:blipFill>
        <p:spPr>
          <a:xfrm>
            <a:off x="7451640" y="404640"/>
            <a:ext cx="122400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Tahoma"/>
              </a:rPr>
              <a:t>Безличные  глаголы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71680" y="857160"/>
            <a:ext cx="813744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00"/>
                </a:solidFill>
                <a:latin typeface="Tahoma"/>
              </a:rPr>
              <a:t>Что обозначают безличные глагол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ыписать из предложений безличные глагол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дорово живётся нам на свет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ежное поле вдруг порозовело от солнц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 окном смеркает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лочок неба синеет над голов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емело вдал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лго мне не спало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звонили в двер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тям не сидится дома, им хочется на возду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частье в воздухе не вьётся, а руками достаёт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го зноби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 неожиданно взгрустнуло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вот так"/>
          <p:cNvPicPr/>
          <p:nvPr/>
        </p:nvPicPr>
        <p:blipFill>
          <a:blip r:embed="rId1"/>
          <a:stretch/>
        </p:blipFill>
        <p:spPr>
          <a:xfrm>
            <a:off x="7596360" y="260280"/>
            <a:ext cx="1223640" cy="148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Tahoma"/>
              </a:rPr>
              <a:t>Возвратные и</a:t>
            </a:r>
            <a:br>
              <a:rPr sz="4000"/>
            </a:br>
            <a:r>
              <a:rPr b="0" lang="ru-RU" sz="4000" spc="-1" strike="noStrike">
                <a:solidFill>
                  <a:srgbClr val="808000"/>
                </a:solidFill>
                <a:latin typeface="Tahoma"/>
              </a:rPr>
              <a:t>невозвратные глаголы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68360" y="1463760"/>
            <a:ext cx="820908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Tahoma"/>
              </a:rPr>
              <a:t>Какие глаголы мы называем возвратным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разовать от данных глаголов возвратны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бразец: говорить – разговорить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ич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к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чт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рди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чита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и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еск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" descr="вот так"/>
          <p:cNvPicPr/>
          <p:nvPr/>
        </p:nvPicPr>
        <p:blipFill>
          <a:blip r:embed="rId1"/>
          <a:stretch/>
        </p:blipFill>
        <p:spPr>
          <a:xfrm>
            <a:off x="7451640" y="476280"/>
            <a:ext cx="12240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7120" y="1000080"/>
          <a:ext cx="8329680" cy="5392800"/>
        </p:xfrm>
        <a:graphic>
          <a:graphicData uri="http://schemas.openxmlformats.org/drawingml/2006/table">
            <a:tbl>
              <a:tblPr/>
              <a:tblGrid>
                <a:gridCol w="451080"/>
                <a:gridCol w="495000"/>
                <a:gridCol w="495360"/>
                <a:gridCol w="493920"/>
                <a:gridCol w="495000"/>
                <a:gridCol w="495360"/>
                <a:gridCol w="495360"/>
                <a:gridCol w="493920"/>
                <a:gridCol w="495000"/>
                <a:gridCol w="455760"/>
                <a:gridCol w="503280"/>
                <a:gridCol w="468360"/>
                <a:gridCol w="539640"/>
                <a:gridCol w="468360"/>
                <a:gridCol w="493560"/>
                <a:gridCol w="497160"/>
                <a:gridCol w="49356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Домашнее задание </a:t>
            </a:r>
            <a:br>
              <a:rPr sz="4400"/>
            </a:b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Сделать морфологический разбор глагол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Подготовиться к контрольному диктанту по теме «Глагол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00"/>
                </a:solidFill>
                <a:latin typeface="Tahoma"/>
              </a:rPr>
              <a:t>Повторить изученный материал по теме «Глагол»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8000"/>
                </a:solidFill>
                <a:latin typeface="Tahoma"/>
              </a:rPr>
              <a:t>Что такое глагол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Задание на слух.</a:t>
            </a:r>
            <a:br>
              <a:rPr sz="4400"/>
            </a:b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Выпишите из текста глаголы.</a:t>
            </a: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49" name="Picture 4" descr="вот так"/>
          <p:cNvPicPr/>
          <p:nvPr/>
        </p:nvPicPr>
        <p:blipFill>
          <a:blip r:embed="rId1"/>
          <a:stretch/>
        </p:blipFill>
        <p:spPr>
          <a:xfrm>
            <a:off x="3203640" y="3429000"/>
            <a:ext cx="2693880" cy="3092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971640" y="1341360"/>
            <a:ext cx="2303280" cy="1513080"/>
          </a:xfrm>
          <a:custGeom>
            <a:avLst/>
            <a:gdLst>
              <a:gd name="textAreaLeft" fmla="*/ 97920 w 2303280"/>
              <a:gd name="textAreaRight" fmla="*/ 2205360 w 2303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32878" h="21600">
                <a:moveTo>
                  <a:pt x="0" y="0"/>
                </a:moveTo>
                <a:lnTo>
                  <a:pt x="32878" y="0"/>
                </a:lnTo>
                <a:lnTo>
                  <a:pt x="32878" y="21600"/>
                </a:lnTo>
                <a:lnTo>
                  <a:pt x="0" y="21600"/>
                </a:lnTo>
                <a:close/>
              </a:path>
              <a:path fill="lightenLess" w="32878" h="21600">
                <a:moveTo>
                  <a:pt x="0" y="0"/>
                </a:moveTo>
                <a:lnTo>
                  <a:pt x="32878" y="0"/>
                </a:lnTo>
                <a:lnTo>
                  <a:pt x="31478" y="1400"/>
                </a:lnTo>
                <a:lnTo>
                  <a:pt x="1400" y="1400"/>
                </a:lnTo>
                <a:close/>
              </a:path>
              <a:path fill="darken" w="32878" h="21600">
                <a:moveTo>
                  <a:pt x="32878" y="0"/>
                </a:moveTo>
                <a:lnTo>
                  <a:pt x="32878" y="21600"/>
                </a:lnTo>
                <a:lnTo>
                  <a:pt x="31478" y="20200"/>
                </a:lnTo>
                <a:lnTo>
                  <a:pt x="31478" y="1400"/>
                </a:lnTo>
                <a:close/>
              </a:path>
              <a:path fill="darkenLess" w="32878" h="21600">
                <a:moveTo>
                  <a:pt x="3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78" y="20200"/>
                </a:lnTo>
                <a:close/>
              </a:path>
              <a:path fill="lighten" w="3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 глагол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AutoShape 9">
            <a:hlinkClick r:id="rId2" action="ppaction://hlinksldjump"/>
          </p:cNvPr>
          <p:cNvSpPr/>
          <p:nvPr/>
        </p:nvSpPr>
        <p:spPr>
          <a:xfrm>
            <a:off x="971640" y="2995560"/>
            <a:ext cx="2303280" cy="1513080"/>
          </a:xfrm>
          <a:custGeom>
            <a:avLst/>
            <a:gdLst>
              <a:gd name="textAreaLeft" fmla="*/ 97920 w 2303280"/>
              <a:gd name="textAreaRight" fmla="*/ 2205360 w 2303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32878" h="21600">
                <a:moveTo>
                  <a:pt x="0" y="0"/>
                </a:moveTo>
                <a:lnTo>
                  <a:pt x="32878" y="0"/>
                </a:lnTo>
                <a:lnTo>
                  <a:pt x="32878" y="21600"/>
                </a:lnTo>
                <a:lnTo>
                  <a:pt x="0" y="21600"/>
                </a:lnTo>
                <a:close/>
              </a:path>
              <a:path fill="lightenLess" w="32878" h="21600">
                <a:moveTo>
                  <a:pt x="0" y="0"/>
                </a:moveTo>
                <a:lnTo>
                  <a:pt x="32878" y="0"/>
                </a:lnTo>
                <a:lnTo>
                  <a:pt x="31478" y="1400"/>
                </a:lnTo>
                <a:lnTo>
                  <a:pt x="1400" y="1400"/>
                </a:lnTo>
                <a:close/>
              </a:path>
              <a:path fill="darken" w="32878" h="21600">
                <a:moveTo>
                  <a:pt x="32878" y="0"/>
                </a:moveTo>
                <a:lnTo>
                  <a:pt x="32878" y="21600"/>
                </a:lnTo>
                <a:lnTo>
                  <a:pt x="31478" y="20200"/>
                </a:lnTo>
                <a:lnTo>
                  <a:pt x="31478" y="1400"/>
                </a:lnTo>
                <a:close/>
              </a:path>
              <a:path fill="darkenLess" w="32878" h="21600">
                <a:moveTo>
                  <a:pt x="3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78" y="20200"/>
                </a:lnTo>
                <a:close/>
              </a:path>
              <a:path fill="lighten" w="3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AutoShape 10">
            <a:hlinkClick r:id="rId3" action="ppaction://hlinksldjump"/>
          </p:cNvPr>
          <p:cNvSpPr/>
          <p:nvPr/>
        </p:nvSpPr>
        <p:spPr>
          <a:xfrm>
            <a:off x="971640" y="4653000"/>
            <a:ext cx="2303280" cy="1512720"/>
          </a:xfrm>
          <a:custGeom>
            <a:avLst/>
            <a:gdLst>
              <a:gd name="textAreaLeft" fmla="*/ 97920 w 2303280"/>
              <a:gd name="textAreaRight" fmla="*/ 2205360 w 2303280"/>
              <a:gd name="textAreaTop" fmla="*/ 97920 h 1512720"/>
              <a:gd name="textAreaBottom" fmla="*/ 1414800 h 1512720"/>
            </a:gdLst>
            <a:ahLst/>
            <a:rect l="textAreaLeft" t="textAreaTop" r="textAreaRight" b="textAreaBottom"/>
            <a:pathLst>
              <a:path w="32886" h="21600">
                <a:moveTo>
                  <a:pt x="0" y="0"/>
                </a:moveTo>
                <a:lnTo>
                  <a:pt x="32886" y="0"/>
                </a:lnTo>
                <a:lnTo>
                  <a:pt x="32886" y="21600"/>
                </a:lnTo>
                <a:lnTo>
                  <a:pt x="0" y="21600"/>
                </a:lnTo>
                <a:close/>
              </a:path>
              <a:path fill="lightenLess" w="32886" h="21600">
                <a:moveTo>
                  <a:pt x="0" y="0"/>
                </a:moveTo>
                <a:lnTo>
                  <a:pt x="32886" y="0"/>
                </a:lnTo>
                <a:lnTo>
                  <a:pt x="31486" y="1400"/>
                </a:lnTo>
                <a:lnTo>
                  <a:pt x="1400" y="1400"/>
                </a:lnTo>
                <a:close/>
              </a:path>
              <a:path fill="darken" w="32886" h="21600">
                <a:moveTo>
                  <a:pt x="32886" y="0"/>
                </a:moveTo>
                <a:lnTo>
                  <a:pt x="32886" y="21600"/>
                </a:lnTo>
                <a:lnTo>
                  <a:pt x="31486" y="20200"/>
                </a:lnTo>
                <a:lnTo>
                  <a:pt x="31486" y="1400"/>
                </a:lnTo>
                <a:close/>
              </a:path>
              <a:path fill="darkenLess" w="32886" h="21600">
                <a:moveTo>
                  <a:pt x="32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6" y="20200"/>
                </a:lnTo>
                <a:close/>
              </a:path>
              <a:path fill="lighten" w="32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ные 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ереход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AutoShape 11">
            <a:hlinkClick r:id="rId4" action="ppaction://hlinksldjump"/>
          </p:cNvPr>
          <p:cNvSpPr/>
          <p:nvPr/>
        </p:nvSpPr>
        <p:spPr>
          <a:xfrm>
            <a:off x="3421080" y="1341360"/>
            <a:ext cx="2303280" cy="1513080"/>
          </a:xfrm>
          <a:custGeom>
            <a:avLst/>
            <a:gdLst>
              <a:gd name="textAreaLeft" fmla="*/ 97920 w 2303280"/>
              <a:gd name="textAreaRight" fmla="*/ 2205360 w 2303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32878" h="21600">
                <a:moveTo>
                  <a:pt x="0" y="0"/>
                </a:moveTo>
                <a:lnTo>
                  <a:pt x="32878" y="0"/>
                </a:lnTo>
                <a:lnTo>
                  <a:pt x="32878" y="21600"/>
                </a:lnTo>
                <a:lnTo>
                  <a:pt x="0" y="21600"/>
                </a:lnTo>
                <a:close/>
              </a:path>
              <a:path fill="lightenLess" w="32878" h="21600">
                <a:moveTo>
                  <a:pt x="0" y="0"/>
                </a:moveTo>
                <a:lnTo>
                  <a:pt x="32878" y="0"/>
                </a:lnTo>
                <a:lnTo>
                  <a:pt x="31478" y="1400"/>
                </a:lnTo>
                <a:lnTo>
                  <a:pt x="1400" y="1400"/>
                </a:lnTo>
                <a:close/>
              </a:path>
              <a:path fill="darken" w="32878" h="21600">
                <a:moveTo>
                  <a:pt x="32878" y="0"/>
                </a:moveTo>
                <a:lnTo>
                  <a:pt x="32878" y="21600"/>
                </a:lnTo>
                <a:lnTo>
                  <a:pt x="31478" y="20200"/>
                </a:lnTo>
                <a:lnTo>
                  <a:pt x="31478" y="1400"/>
                </a:lnTo>
                <a:close/>
              </a:path>
              <a:path fill="darkenLess" w="32878" h="21600">
                <a:moveTo>
                  <a:pt x="3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78" y="20200"/>
                </a:lnTo>
                <a:close/>
              </a:path>
              <a:path fill="lighten" w="3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глаго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AutoShape 12">
            <a:hlinkClick r:id="rId5" action="ppaction://hlinksldjump"/>
          </p:cNvPr>
          <p:cNvSpPr/>
          <p:nvPr/>
        </p:nvSpPr>
        <p:spPr>
          <a:xfrm>
            <a:off x="3419640" y="2997360"/>
            <a:ext cx="2303280" cy="1512720"/>
          </a:xfrm>
          <a:custGeom>
            <a:avLst/>
            <a:gdLst>
              <a:gd name="textAreaLeft" fmla="*/ 97920 w 2303280"/>
              <a:gd name="textAreaRight" fmla="*/ 2205360 w 2303280"/>
              <a:gd name="textAreaTop" fmla="*/ 97920 h 1512720"/>
              <a:gd name="textAreaBottom" fmla="*/ 1414800 h 1512720"/>
            </a:gdLst>
            <a:ahLst/>
            <a:rect l="textAreaLeft" t="textAreaTop" r="textAreaRight" b="textAreaBottom"/>
            <a:pathLst>
              <a:path w="32886" h="21600">
                <a:moveTo>
                  <a:pt x="0" y="0"/>
                </a:moveTo>
                <a:lnTo>
                  <a:pt x="32886" y="0"/>
                </a:lnTo>
                <a:lnTo>
                  <a:pt x="32886" y="21600"/>
                </a:lnTo>
                <a:lnTo>
                  <a:pt x="0" y="21600"/>
                </a:lnTo>
                <a:close/>
              </a:path>
              <a:path fill="lightenLess" w="32886" h="21600">
                <a:moveTo>
                  <a:pt x="0" y="0"/>
                </a:moveTo>
                <a:lnTo>
                  <a:pt x="32886" y="0"/>
                </a:lnTo>
                <a:lnTo>
                  <a:pt x="31486" y="1400"/>
                </a:lnTo>
                <a:lnTo>
                  <a:pt x="1400" y="1400"/>
                </a:lnTo>
                <a:close/>
              </a:path>
              <a:path fill="darken" w="32886" h="21600">
                <a:moveTo>
                  <a:pt x="32886" y="0"/>
                </a:moveTo>
                <a:lnTo>
                  <a:pt x="32886" y="21600"/>
                </a:lnTo>
                <a:lnTo>
                  <a:pt x="31486" y="20200"/>
                </a:lnTo>
                <a:lnTo>
                  <a:pt x="31486" y="1400"/>
                </a:lnTo>
                <a:close/>
              </a:path>
              <a:path fill="darkenLess" w="32886" h="21600">
                <a:moveTo>
                  <a:pt x="32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6" y="20200"/>
                </a:lnTo>
                <a:close/>
              </a:path>
              <a:path fill="lighten" w="32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я глаго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AutoShape 13">
            <a:hlinkClick r:id="rId6" action="ppaction://hlinksldjump"/>
          </p:cNvPr>
          <p:cNvSpPr/>
          <p:nvPr/>
        </p:nvSpPr>
        <p:spPr>
          <a:xfrm>
            <a:off x="3421080" y="4653000"/>
            <a:ext cx="2303280" cy="1512720"/>
          </a:xfrm>
          <a:custGeom>
            <a:avLst/>
            <a:gdLst>
              <a:gd name="textAreaLeft" fmla="*/ 97920 w 2303280"/>
              <a:gd name="textAreaRight" fmla="*/ 2205360 w 2303280"/>
              <a:gd name="textAreaTop" fmla="*/ 97920 h 1512720"/>
              <a:gd name="textAreaBottom" fmla="*/ 1414800 h 1512720"/>
            </a:gdLst>
            <a:ahLst/>
            <a:rect l="textAreaLeft" t="textAreaTop" r="textAreaRight" b="textAreaBottom"/>
            <a:pathLst>
              <a:path w="32886" h="21600">
                <a:moveTo>
                  <a:pt x="0" y="0"/>
                </a:moveTo>
                <a:lnTo>
                  <a:pt x="32886" y="0"/>
                </a:lnTo>
                <a:lnTo>
                  <a:pt x="32886" y="21600"/>
                </a:lnTo>
                <a:lnTo>
                  <a:pt x="0" y="21600"/>
                </a:lnTo>
                <a:close/>
              </a:path>
              <a:path fill="lightenLess" w="32886" h="21600">
                <a:moveTo>
                  <a:pt x="0" y="0"/>
                </a:moveTo>
                <a:lnTo>
                  <a:pt x="32886" y="0"/>
                </a:lnTo>
                <a:lnTo>
                  <a:pt x="31486" y="1400"/>
                </a:lnTo>
                <a:lnTo>
                  <a:pt x="1400" y="1400"/>
                </a:lnTo>
                <a:close/>
              </a:path>
              <a:path fill="darken" w="32886" h="21600">
                <a:moveTo>
                  <a:pt x="32886" y="0"/>
                </a:moveTo>
                <a:lnTo>
                  <a:pt x="32886" y="21600"/>
                </a:lnTo>
                <a:lnTo>
                  <a:pt x="31486" y="20200"/>
                </a:lnTo>
                <a:lnTo>
                  <a:pt x="31486" y="1400"/>
                </a:lnTo>
                <a:close/>
              </a:path>
              <a:path fill="darkenLess" w="32886" h="21600">
                <a:moveTo>
                  <a:pt x="32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6" y="20200"/>
                </a:lnTo>
                <a:close/>
              </a:path>
              <a:path fill="lighten" w="32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личны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AutoShape 14">
            <a:hlinkClick r:id="rId7" action="ppaction://hlinksldjump"/>
          </p:cNvPr>
          <p:cNvSpPr/>
          <p:nvPr/>
        </p:nvSpPr>
        <p:spPr>
          <a:xfrm>
            <a:off x="5940360" y="1341360"/>
            <a:ext cx="2303640" cy="1513080"/>
          </a:xfrm>
          <a:custGeom>
            <a:avLst/>
            <a:gdLst>
              <a:gd name="textAreaLeft" fmla="*/ 97920 w 2303640"/>
              <a:gd name="textAreaRight" fmla="*/ 2205720 w 230364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32883" h="21600">
                <a:moveTo>
                  <a:pt x="0" y="0"/>
                </a:moveTo>
                <a:lnTo>
                  <a:pt x="32883" y="0"/>
                </a:lnTo>
                <a:lnTo>
                  <a:pt x="32883" y="21600"/>
                </a:lnTo>
                <a:lnTo>
                  <a:pt x="0" y="21600"/>
                </a:lnTo>
                <a:close/>
              </a:path>
              <a:path fill="lightenLess" w="32883" h="21600">
                <a:moveTo>
                  <a:pt x="0" y="0"/>
                </a:moveTo>
                <a:lnTo>
                  <a:pt x="32883" y="0"/>
                </a:lnTo>
                <a:lnTo>
                  <a:pt x="31483" y="1400"/>
                </a:lnTo>
                <a:lnTo>
                  <a:pt x="1400" y="1400"/>
                </a:lnTo>
                <a:close/>
              </a:path>
              <a:path fill="darken" w="32883" h="21600">
                <a:moveTo>
                  <a:pt x="32883" y="0"/>
                </a:moveTo>
                <a:lnTo>
                  <a:pt x="32883" y="21600"/>
                </a:lnTo>
                <a:lnTo>
                  <a:pt x="31483" y="20200"/>
                </a:lnTo>
                <a:lnTo>
                  <a:pt x="31483" y="1400"/>
                </a:lnTo>
                <a:close/>
              </a:path>
              <a:path fill="darkenLess" w="32883" h="21600">
                <a:moveTo>
                  <a:pt x="32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3" y="20200"/>
                </a:lnTo>
                <a:close/>
              </a:path>
              <a:path fill="lighten" w="32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инити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15">
            <a:hlinkClick r:id="rId8" action="ppaction://hlinksldjump"/>
          </p:cNvPr>
          <p:cNvSpPr/>
          <p:nvPr/>
        </p:nvSpPr>
        <p:spPr>
          <a:xfrm>
            <a:off x="5869080" y="2995560"/>
            <a:ext cx="2303280" cy="1513080"/>
          </a:xfrm>
          <a:custGeom>
            <a:avLst/>
            <a:gdLst>
              <a:gd name="textAreaLeft" fmla="*/ 97920 w 2303280"/>
              <a:gd name="textAreaRight" fmla="*/ 2205360 w 2303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32878" h="21600">
                <a:moveTo>
                  <a:pt x="0" y="0"/>
                </a:moveTo>
                <a:lnTo>
                  <a:pt x="32878" y="0"/>
                </a:lnTo>
                <a:lnTo>
                  <a:pt x="32878" y="21600"/>
                </a:lnTo>
                <a:lnTo>
                  <a:pt x="0" y="21600"/>
                </a:lnTo>
                <a:close/>
              </a:path>
              <a:path fill="lightenLess" w="32878" h="21600">
                <a:moveTo>
                  <a:pt x="0" y="0"/>
                </a:moveTo>
                <a:lnTo>
                  <a:pt x="32878" y="0"/>
                </a:lnTo>
                <a:lnTo>
                  <a:pt x="31478" y="1400"/>
                </a:lnTo>
                <a:lnTo>
                  <a:pt x="1400" y="1400"/>
                </a:lnTo>
                <a:close/>
              </a:path>
              <a:path fill="darken" w="32878" h="21600">
                <a:moveTo>
                  <a:pt x="32878" y="0"/>
                </a:moveTo>
                <a:lnTo>
                  <a:pt x="32878" y="21600"/>
                </a:lnTo>
                <a:lnTo>
                  <a:pt x="31478" y="20200"/>
                </a:lnTo>
                <a:lnTo>
                  <a:pt x="31478" y="1400"/>
                </a:lnTo>
                <a:close/>
              </a:path>
              <a:path fill="darkenLess" w="32878" h="21600">
                <a:moveTo>
                  <a:pt x="3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78" y="20200"/>
                </a:lnTo>
                <a:close/>
              </a:path>
              <a:path fill="lighten" w="3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яж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5869080" y="4653000"/>
            <a:ext cx="2303280" cy="1512720"/>
          </a:xfrm>
          <a:custGeom>
            <a:avLst/>
            <a:gdLst>
              <a:gd name="textAreaLeft" fmla="*/ 97920 w 2303280"/>
              <a:gd name="textAreaRight" fmla="*/ 2205360 w 2303280"/>
              <a:gd name="textAreaTop" fmla="*/ 97920 h 1512720"/>
              <a:gd name="textAreaBottom" fmla="*/ 1414800 h 1512720"/>
            </a:gdLst>
            <a:ahLst/>
            <a:rect l="textAreaLeft" t="textAreaTop" r="textAreaRight" b="textAreaBottom"/>
            <a:pathLst>
              <a:path w="32886" h="21600">
                <a:moveTo>
                  <a:pt x="0" y="0"/>
                </a:moveTo>
                <a:lnTo>
                  <a:pt x="32886" y="0"/>
                </a:lnTo>
                <a:lnTo>
                  <a:pt x="32886" y="21600"/>
                </a:lnTo>
                <a:lnTo>
                  <a:pt x="0" y="21600"/>
                </a:lnTo>
                <a:close/>
              </a:path>
              <a:path fill="lightenLess" w="32886" h="21600">
                <a:moveTo>
                  <a:pt x="0" y="0"/>
                </a:moveTo>
                <a:lnTo>
                  <a:pt x="32886" y="0"/>
                </a:lnTo>
                <a:lnTo>
                  <a:pt x="31486" y="1400"/>
                </a:lnTo>
                <a:lnTo>
                  <a:pt x="1400" y="1400"/>
                </a:lnTo>
                <a:close/>
              </a:path>
              <a:path fill="darken" w="32886" h="21600">
                <a:moveTo>
                  <a:pt x="32886" y="0"/>
                </a:moveTo>
                <a:lnTo>
                  <a:pt x="32886" y="21600"/>
                </a:lnTo>
                <a:lnTo>
                  <a:pt x="31486" y="20200"/>
                </a:lnTo>
                <a:lnTo>
                  <a:pt x="31486" y="1400"/>
                </a:lnTo>
                <a:close/>
              </a:path>
              <a:path fill="darkenLess" w="32886" h="21600">
                <a:moveTo>
                  <a:pt x="32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6" y="20200"/>
                </a:lnTo>
                <a:close/>
              </a:path>
              <a:path fill="lighten" w="32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е 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озвра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Bookman Old Style"/>
              </a:rPr>
              <a:t>Повторение по теме «Глагол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НЕ с глаголам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042920" y="1628640"/>
            <a:ext cx="770580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9900"/>
                </a:solidFill>
                <a:latin typeface="Tahoma"/>
              </a:rPr>
              <a:t>Расскажите о правописании НЕ с глаголам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9900"/>
                </a:solidFill>
                <a:latin typeface="Tahoma"/>
              </a:rPr>
              <a:t>Что вы знаете о приставке НЕДО-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скрыть скоб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Не)было времени,(не)хотел идти,(не)годовать от бессилия, (не)бросит в беде,(не)достаёт до потолка,(не)достаёт смелости,(не)забыть о встрече, (не)досмотреть фильм, (не)жалеть ни о чём,(не)достроить д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4" descr="вот так"/>
          <p:cNvPicPr/>
          <p:nvPr/>
        </p:nvPicPr>
        <p:blipFill>
          <a:blip r:embed="rId1"/>
          <a:stretch/>
        </p:blipFill>
        <p:spPr>
          <a:xfrm>
            <a:off x="6516720" y="0"/>
            <a:ext cx="122400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Вид глагол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84360" y="1197000"/>
            <a:ext cx="78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Tahoma"/>
              </a:rPr>
              <a:t>Как определить вид глагол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ыписать сначала глаголы совершенного вида, затем – несовершенного вида так, чтобы получились видовые па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асть , завершить, расти, строить, положить , соорудить, срезать, завершать, вырасти, срезать, сооружать, построи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4" descr="вот так"/>
          <p:cNvPicPr/>
          <p:nvPr/>
        </p:nvPicPr>
        <p:blipFill>
          <a:blip r:embed="rId1"/>
          <a:stretch/>
        </p:blipFill>
        <p:spPr>
          <a:xfrm>
            <a:off x="6372360" y="0"/>
            <a:ext cx="122400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86532"/>
                </a:solidFill>
                <a:latin typeface="Tahoma"/>
              </a:rPr>
              <a:t>Инфинитив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57160" y="928800"/>
            <a:ext cx="789156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00"/>
                </a:solidFill>
                <a:latin typeface="Tahoma"/>
              </a:rPr>
              <a:t>Что такое инфинитив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00"/>
                </a:solidFill>
                <a:latin typeface="Tahoma"/>
              </a:rPr>
              <a:t>Расскажите о правописании -ТСЯ и -ТЬСЯ  в глагол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ставить пропущенные буквы, объяснить написание глагол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Лиза заботи..ся о животны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Чем кумушек считать труди..ся, не лучше ль на себя, кума, обороти..ся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Ягнёнок в жаркий день зашёл к ручью напи..ся ; и надобно ж беде случи..ся , что около тех мест голодный рыскал Вол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Юла  крути..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Ребятам не хоче..ся собира..ся дом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4" descr="вот так"/>
          <p:cNvPicPr/>
          <p:nvPr/>
        </p:nvPicPr>
        <p:blipFill>
          <a:blip r:embed="rId1"/>
          <a:stretch/>
        </p:blipFill>
        <p:spPr>
          <a:xfrm>
            <a:off x="6516720" y="0"/>
            <a:ext cx="122400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8800"/>
                </a:solidFill>
                <a:latin typeface="Tahoma"/>
              </a:rPr>
              <a:t>Наклонение глагол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7308720" y="6381720"/>
            <a:ext cx="1835280" cy="476280"/>
          </a:xfrm>
          <a:custGeom>
            <a:avLst/>
            <a:gdLst>
              <a:gd name="textAreaLeft" fmla="*/ 30600 w 1835280"/>
              <a:gd name="textAreaRight" fmla="*/ 1804680 w 18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3186" h="21600">
                <a:moveTo>
                  <a:pt x="0" y="0"/>
                </a:moveTo>
                <a:lnTo>
                  <a:pt x="83186" y="0"/>
                </a:lnTo>
                <a:lnTo>
                  <a:pt x="83186" y="21600"/>
                </a:lnTo>
                <a:lnTo>
                  <a:pt x="0" y="21600"/>
                </a:lnTo>
                <a:close/>
              </a:path>
              <a:path fill="lightenLess" w="83186" h="21600">
                <a:moveTo>
                  <a:pt x="0" y="0"/>
                </a:moveTo>
                <a:lnTo>
                  <a:pt x="83186" y="0"/>
                </a:lnTo>
                <a:lnTo>
                  <a:pt x="81786" y="1400"/>
                </a:lnTo>
                <a:lnTo>
                  <a:pt x="1400" y="1400"/>
                </a:lnTo>
                <a:close/>
              </a:path>
              <a:path fill="darken" w="83186" h="21600">
                <a:moveTo>
                  <a:pt x="83186" y="0"/>
                </a:moveTo>
                <a:lnTo>
                  <a:pt x="83186" y="21600"/>
                </a:lnTo>
                <a:lnTo>
                  <a:pt x="81786" y="20200"/>
                </a:lnTo>
                <a:lnTo>
                  <a:pt x="81786" y="1400"/>
                </a:lnTo>
                <a:close/>
              </a:path>
              <a:path fill="darkenLess" w="83186" h="21600">
                <a:moveTo>
                  <a:pt x="8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6" y="20200"/>
                </a:lnTo>
                <a:close/>
              </a:path>
              <a:path fill="lighten" w="8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00040" y="1000080"/>
            <a:ext cx="79596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Tahoma"/>
              </a:rPr>
              <a:t>Что вы знаете о наклонении глагол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пределить, в каком наклонении употреблены глаголы. Раскрыть скоб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бы мне (не)здоровилось, то я в школу бы (не)пошё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ьмите руч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 засмеялись , а он возьми и рассерди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вратись я часом позже, ничего бы (не)удало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ася поел, если бы захоте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йчас вы учитесь выразительно чит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сь читать выразитель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т и пришла весн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Picture 4" descr="вот так"/>
          <p:cNvPicPr/>
          <p:nvPr/>
        </p:nvPicPr>
        <p:blipFill>
          <a:blip r:embed="rId1"/>
          <a:stretch/>
        </p:blipFill>
        <p:spPr>
          <a:xfrm>
            <a:off x="7451640" y="333360"/>
            <a:ext cx="122400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9:51:16Z</dcterms:created>
  <dc:creator>school</dc:creator>
  <dc:description/>
  <dc:language>en-US</dc:language>
  <cp:lastModifiedBy>Море</cp:lastModifiedBy>
  <dcterms:modified xsi:type="dcterms:W3CDTF">2012-04-17T18:46:33Z</dcterms:modified>
  <cp:revision>17</cp:revision>
  <dc:subject/>
  <dc:title>Слайд 1</dc:title>
</cp:coreProperties>
</file>