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6E7A-A2D8-47B3-8957-EEC749072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A1CB-B6D6-4198-87FC-AADABD1FC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E00-EC0C-48BC-BBD3-D0982915D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29C-CD54-46F6-8A11-2765A0F34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752-73C4-4387-AFF4-C32B8A443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2A0-6D22-458B-B162-EC710B428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F8E9-3473-4A45-ADF6-48EBFDF07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5B0-7191-4195-A72C-65FAE4142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A447-C636-43E7-904D-8E27CC9D2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AACA-1D96-4E07-ABC8-0A44936C5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C11-A174-46DE-AC09-21DF547F7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099-9BC1-49F2-BED9-97A9E588E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F26-AA6C-4645-A256-1842C4E4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908-CC3C-4C38-AE49-725A541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4A4-99C1-46A1-ADD7-1821CB97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D90-DB45-47C8-8378-D8EE65C3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FDC-A263-4EDC-82AB-6A7946C3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5C1-1BBA-404E-AA94-C6B81FF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466-6EB9-4486-8F3B-EB12BAC2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CEB-81EA-4AA8-B005-15023D0F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2E8-A828-4C66-8C2B-D373BBEA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6EE-308A-4659-A6EE-8C2C867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A27-6416-4D40-8B17-5B9C4C1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9AF-AE26-40EA-B31D-220E8A9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bff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670-B0A0-4602-A3F0-E1510204A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889280" y="380844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математики в 3 класс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Школа-детский 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Катравож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: Бойко Гал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bartschool.ru/uploads/posts/2010-11-07/igrushka_za_499_tysyach_1.jpg"/>
          <p:cNvPicPr/>
          <p:nvPr/>
        </p:nvPicPr>
        <p:blipFill>
          <a:blip r:embed="rId1"/>
          <a:stretch/>
        </p:blipFill>
        <p:spPr>
          <a:xfrm>
            <a:off x="468360" y="260280"/>
            <a:ext cx="311292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95640" y="907920"/>
            <a:ext cx="468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Домашнее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Стр. 8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№</a:t>
            </a: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2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№</a:t>
            </a: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179280" y="871560"/>
            <a:ext cx="33847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c0ad3a58a7f"/>
          <p:cNvPicPr/>
          <p:nvPr/>
        </p:nvPicPr>
        <p:blipFill>
          <a:blip r:embed="rId1"/>
          <a:stretch/>
        </p:blipFill>
        <p:spPr>
          <a:xfrm>
            <a:off x="5200560" y="2465280"/>
            <a:ext cx="3652920" cy="4392720"/>
          </a:xfrm>
          <a:prstGeom prst="rect">
            <a:avLst/>
          </a:prstGeom>
          <a:ln w="0">
            <a:noFill/>
          </a:ln>
        </p:spPr>
      </p:pic>
      <p:sp>
        <p:nvSpPr>
          <p:cNvPr id="77" name="computr2"/>
          <p:cNvSpPr/>
          <p:nvPr/>
        </p:nvSpPr>
        <p:spPr>
          <a:xfrm>
            <a:off x="2268360" y="3114720"/>
            <a:ext cx="4681800" cy="3743280"/>
          </a:xfrm>
          <a:custGeom>
            <a:avLst/>
            <a:gdLst>
              <a:gd name="textAreaLeft" fmla="*/ 1342440 w 4681800"/>
              <a:gd name="textAreaRight" fmla="*/ 3373920 w 4681800"/>
              <a:gd name="textAreaTop" fmla="*/ 331200 h 3743280"/>
              <a:gd name="textAreaBottom" fmla="*/ 1689120 h 3743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39640" y="1125360"/>
            <a:ext cx="770040" cy="505080"/>
          </a:xfrm>
          <a:prstGeom prst="cloudCallout">
            <a:avLst>
              <a:gd name="adj1" fmla="val -61337"/>
              <a:gd name="adj2" fmla="val 949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43280" y="1557360"/>
            <a:ext cx="720720" cy="792000"/>
          </a:xfrm>
          <a:custGeom>
            <a:avLst/>
            <a:gdLst>
              <a:gd name="textAreaLeft" fmla="*/ 297000 w 720720"/>
              <a:gd name="textAreaRight" fmla="*/ 423720 w 72072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284720" y="18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oll018"/>
          <p:cNvPicPr/>
          <p:nvPr/>
        </p:nvPicPr>
        <p:blipFill>
          <a:blip r:embed="rId2"/>
          <a:srcRect l="0" t="0" r="0" b="34883"/>
          <a:stretch/>
        </p:blipFill>
        <p:spPr>
          <a:xfrm>
            <a:off x="0" y="2394000"/>
            <a:ext cx="4214880" cy="446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947600" y="105264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 уроке было много непонятного, устал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697000" y="0"/>
            <a:ext cx="30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На уроке  узнал нов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всё было поня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672000" y="162864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Хочу ещё узнать чт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01600" y="4594320"/>
            <a:ext cx="359568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ё настро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286160" y="2142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4.07407E-006 L 0.34375 0.35162 E">
                                      <p:cBhvr>
                                        <p:cTn id="4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02639 0.54236 E">
                                      <p:cBhvr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2342 0.34398 E">
                                      <p:cBhvr>
                                        <p:cTn id="4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02639 0.54236 E">
                                      <p:cBhvr>
                                        <p:cTn id="5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м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ножение трехзначного числа на  однозначно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ем схематический чертё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--40шк.------? -----------?------------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ш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Запишите решение и ответ задачи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авая фигурная скобка 3"/>
          <p:cNvSpPr/>
          <p:nvPr/>
        </p:nvSpPr>
        <p:spPr>
          <a:xfrm>
            <a:off x="3929040" y="1785960"/>
            <a:ext cx="285840" cy="2858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285840"/>
              <a:gd name="textAreaBottom" fmla="*/ 27864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авая фигурная скобка 4"/>
          <p:cNvSpPr/>
          <p:nvPr/>
        </p:nvSpPr>
        <p:spPr>
          <a:xfrm>
            <a:off x="3786120" y="1643040"/>
            <a:ext cx="71640" cy="571680"/>
          </a:xfrm>
          <a:custGeom>
            <a:avLst/>
            <a:gdLst>
              <a:gd name="textAreaLeft" fmla="*/ 0 w 71640"/>
              <a:gd name="textAreaRight" fmla="*/ 25920 w 71640"/>
              <a:gd name="textAreaTop" fmla="*/ 1800 h 571680"/>
              <a:gd name="textAreaBottom" fmla="*/ 5698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авая фигурная скобка 5"/>
          <p:cNvSpPr/>
          <p:nvPr/>
        </p:nvSpPr>
        <p:spPr>
          <a:xfrm>
            <a:off x="3857760" y="1643040"/>
            <a:ext cx="71280" cy="571680"/>
          </a:xfrm>
          <a:custGeom>
            <a:avLst/>
            <a:gdLst>
              <a:gd name="textAreaLeft" fmla="*/ 0 w 71280"/>
              <a:gd name="textAreaRight" fmla="*/ 25560 w 71280"/>
              <a:gd name="textAreaTop" fmla="*/ 1800 h 571680"/>
              <a:gd name="textAreaBottom" fmla="*/ 5698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авая фигурная скобка 6"/>
          <p:cNvSpPr/>
          <p:nvPr/>
        </p:nvSpPr>
        <p:spPr>
          <a:xfrm>
            <a:off x="4000680" y="1785960"/>
            <a:ext cx="71280" cy="571320"/>
          </a:xfrm>
          <a:custGeom>
            <a:avLst/>
            <a:gdLst>
              <a:gd name="textAreaLeft" fmla="*/ 0 w 71280"/>
              <a:gd name="textAreaRight" fmla="*/ 25560 w 71280"/>
              <a:gd name="textAreaTop" fmla="*/ 1800 h 571320"/>
              <a:gd name="textAreaBottom" fmla="*/ 56952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авая фигурная скобка 7"/>
          <p:cNvSpPr/>
          <p:nvPr/>
        </p:nvSpPr>
        <p:spPr>
          <a:xfrm>
            <a:off x="3714840" y="1857240"/>
            <a:ext cx="357120" cy="5716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571680"/>
              <a:gd name="textAreaBottom" fmla="*/ 5626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3"/>
                  <a:pt x="10800" y="1125"/>
                </a:cubicBezTo>
                <a:lnTo>
                  <a:pt x="10800" y="9675"/>
                </a:lnTo>
                <a:cubicBezTo>
                  <a:pt x="10800" y="10238"/>
                  <a:pt x="16200" y="10800"/>
                  <a:pt x="21600" y="10800"/>
                </a:cubicBezTo>
                <a:cubicBezTo>
                  <a:pt x="16200" y="10800"/>
                  <a:pt x="10800" y="11363"/>
                  <a:pt x="10800" y="11925"/>
                </a:cubicBezTo>
                <a:lnTo>
                  <a:pt x="10800" y="20475"/>
                </a:lnTo>
                <a:cubicBezTo>
                  <a:pt x="10800" y="2103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авая фигурная скобка 8"/>
          <p:cNvSpPr/>
          <p:nvPr/>
        </p:nvSpPr>
        <p:spPr>
          <a:xfrm>
            <a:off x="3929040" y="1928880"/>
            <a:ext cx="46080" cy="428400"/>
          </a:xfrm>
          <a:custGeom>
            <a:avLst/>
            <a:gdLst>
              <a:gd name="textAreaLeft" fmla="*/ 0 w 46080"/>
              <a:gd name="textAreaRight" fmla="*/ 16560 w 46080"/>
              <a:gd name="textAreaTop" fmla="*/ 1080 h 428400"/>
              <a:gd name="textAreaBottom" fmla="*/ 42732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2"/>
                </a:cubicBezTo>
                <a:lnTo>
                  <a:pt x="10800" y="10608"/>
                </a:lnTo>
                <a:cubicBezTo>
                  <a:pt x="10800" y="10704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2"/>
                </a:cubicBezTo>
                <a:lnTo>
                  <a:pt x="10800" y="21408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ая фигурная скобка 9"/>
          <p:cNvSpPr/>
          <p:nvPr/>
        </p:nvSpPr>
        <p:spPr>
          <a:xfrm>
            <a:off x="4357800" y="235728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авая фигурная скобка 14"/>
          <p:cNvSpPr/>
          <p:nvPr/>
        </p:nvSpPr>
        <p:spPr>
          <a:xfrm>
            <a:off x="3857760" y="1938240"/>
            <a:ext cx="366480" cy="571680"/>
          </a:xfrm>
          <a:custGeom>
            <a:avLst/>
            <a:gdLst>
              <a:gd name="textAreaLeft" fmla="*/ 0 w 366480"/>
              <a:gd name="textAreaRight" fmla="*/ 132120 w 366480"/>
              <a:gd name="textAreaTop" fmla="*/ 9360 h 571680"/>
              <a:gd name="textAreaBottom" fmla="*/ 5623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8"/>
                  <a:pt x="10800" y="1155"/>
                </a:cubicBezTo>
                <a:lnTo>
                  <a:pt x="10800" y="9645"/>
                </a:lnTo>
                <a:cubicBezTo>
                  <a:pt x="10800" y="10223"/>
                  <a:pt x="16200" y="10800"/>
                  <a:pt x="21600" y="10800"/>
                </a:cubicBezTo>
                <a:cubicBezTo>
                  <a:pt x="16200" y="10800"/>
                  <a:pt x="10800" y="11378"/>
                  <a:pt x="10800" y="11955"/>
                </a:cubicBezTo>
                <a:lnTo>
                  <a:pt x="10800" y="20445"/>
                </a:lnTo>
                <a:cubicBezTo>
                  <a:pt x="10800" y="21023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авая фигурная скобка 15"/>
          <p:cNvSpPr/>
          <p:nvPr/>
        </p:nvSpPr>
        <p:spPr>
          <a:xfrm>
            <a:off x="4152960" y="1938240"/>
            <a:ext cx="71280" cy="571680"/>
          </a:xfrm>
          <a:custGeom>
            <a:avLst/>
            <a:gdLst>
              <a:gd name="textAreaLeft" fmla="*/ 0 w 71280"/>
              <a:gd name="textAreaRight" fmla="*/ 25560 w 71280"/>
              <a:gd name="textAreaTop" fmla="*/ 1800 h 571680"/>
              <a:gd name="textAreaBottom" fmla="*/ 5698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116000" y="1773360"/>
            <a:ext cx="7272360" cy="33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 нового  узна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урок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5" descr="3c0ad3a58a7f"/>
          <p:cNvPicPr/>
          <p:nvPr/>
        </p:nvPicPr>
        <p:blipFill>
          <a:blip r:embed="rId1"/>
          <a:stretch/>
        </p:blipFill>
        <p:spPr>
          <a:xfrm>
            <a:off x="6719760" y="4192560"/>
            <a:ext cx="2424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9*3=927                       4*186=7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*418=836                        108*7=7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281028009"/>
          <p:cNvPicPr/>
          <p:nvPr/>
        </p:nvPicPr>
        <p:blipFill>
          <a:blip r:embed="rId1"/>
          <a:stretch/>
        </p:blipFill>
        <p:spPr>
          <a:xfrm>
            <a:off x="0" y="-1035000"/>
            <a:ext cx="9144000" cy="871380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4859280" y="1916280"/>
            <a:ext cx="345600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cap="rnd" w="93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Georgia"/>
              </a:rPr>
              <a:t>Молодцы!</a:t>
            </a:r>
            <a:endParaRPr b="1" i="1" lang="en-US" sz="2000" spc="1" strike="noStrike">
              <a:ln cap="rnd" w="93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0:58:08Z</dcterms:created>
  <dc:creator>Роза</dc:creator>
  <dc:description/>
  <dc:language>en-US</dc:language>
  <cp:lastModifiedBy>aser 1 himiya</cp:lastModifiedBy>
  <dcterms:modified xsi:type="dcterms:W3CDTF">2015-03-03T07:49:45Z</dcterms:modified>
  <cp:revision>76</cp:revision>
  <dc:subject/>
  <dc:title>Слайд 1</dc:title>
</cp:coreProperties>
</file>