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00A-3CB8-413D-AA87-B7E06A73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B55-71A3-4A0F-AF38-DC80337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A9A-5E48-40CB-A25E-99F91B5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12F-43E2-42FE-8606-CB99CCB7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353-3C56-4ABA-BF4E-063D080F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AAC6-808A-4CAD-83DC-BA908F95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357-DBCD-44D4-BF4E-42EB559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931-CDAB-4210-8C57-2FA0860A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254-E9AD-48B6-A14C-07029BF9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EF0-B1D9-4648-BF39-2DF2737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4383-97A0-46D3-8F87-0A9237C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C48-648F-42FD-98BB-A530B622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FDF-A6D4-4C27-9CDC-2CB0B5B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469E-D3A2-41F2-B040-8456F4F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5589-6578-4087-B026-44A75EC9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9238-87AF-4A81-A31C-5DB6495C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671A-2D9D-4701-8A99-B73A8AB4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BF97-8C55-4A3A-9C17-5908DF2A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9AE7-9B11-49D3-890F-AED5E46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13C4-9123-40C8-A910-1E09945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4AA3-864E-462A-B53E-498474F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726B-5584-4523-96B0-E4AFAD9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F77-473F-4EAB-A0A1-3884640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E5A0-5493-4063-A14A-FA991CED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5414-B8A4-403C-B2B1-DD0BB8F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C0BB-C8CF-4633-B1AF-6C7EADF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15AD-FB72-4973-95C2-C71C3D2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6885-8800-44CB-B936-0C12DFFB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C590-6211-4FAB-8B92-4F45F637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04B6-C6AD-4693-BB11-67A06D3D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18BC-0A8D-48BE-B425-B07DF1E1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5A4A-7BA9-440E-A2F0-CE5A1285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9E3A-AF14-464D-96D8-3CE0353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904-B47E-4EB9-8B4B-A669E4A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C891-9646-4A88-A6E2-F1A740B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B90D-E706-4DEA-948D-86F2A272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BDD2-4700-454C-AC94-D7F10F8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4BC88-9047-439A-A07C-2E72446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3676-3B92-47E6-BF7F-5295D2B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4B003-F278-4BAE-9AA7-1556B81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4CCA-221A-4BC4-81CC-EF6920F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8D7D-5837-4923-A6D9-BA06B34C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0BC2-6B34-4696-B112-247A62AC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81BC-B776-4CFA-8178-E825C60C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816-B684-40DB-A469-5CD2C8FD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19BE-92C8-4E22-AD8F-98093C7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631C-94EB-4185-914E-AA0F890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4538-9431-4CCF-AE12-3D7BCCC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7203-D7E2-49C7-AF03-9DADE246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44FDE-4EF6-4711-A938-A7DC390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59E5-C652-43DF-B9F0-0A200A5E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51CDA-6E3D-44B7-BF81-320B5B4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04C6-A2ED-4883-BDD8-BC7B45D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70B1-6B19-446B-9D62-431863C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95AB-FA69-4B04-85B3-410307F8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2A5-6848-4BEF-A86A-C954335F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A7BB5-00D5-48ED-AD66-7895E84F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845D-8E59-4B2E-AEC2-E31C39C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F110-DCF9-4D63-8731-061C9D6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64EA-B6AE-417C-9B68-AFBEA621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0844-D69E-4362-91BD-F384EBD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935F-53A0-47D2-BDEB-51EAA07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58A6-96D1-4AB8-9291-F3664102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8915-2268-4D83-8DBB-CA7D31C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DABB-7810-4AD7-81A0-56BFC9F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EE26-CC39-42ED-8B80-6BE016F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BCB-1CA8-4C6C-9BC8-824DF3C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116D-F3C1-45F1-AACF-636D8DA4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DBD4-D854-4DB5-88FD-1E6DFB95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7138-A617-472A-A461-58B0CA88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8E3-8C56-4246-8E32-21A6DAB2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3DD-77F1-4DF1-B0EA-C5F0AF6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838-59E9-4B17-89D5-ECD36CA3BF5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2B7-7E0D-4F2A-A6BB-9E54A3A2A9A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4E1-4E7F-47A0-A1FE-9912309B58A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8C3-6052-4142-9BBE-485AC9AC5A6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FDD-91B9-4FA1-BD10-FFB070DAB11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5594-BF7C-4D89-8974-92A7A498C29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332000" y="1341360"/>
            <a:ext cx="69102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8c3"/>
                </a:solidFill>
                <a:latin typeface="Candara"/>
              </a:rPr>
              <a:t> </a:t>
            </a:r>
            <a:r>
              <a:rPr b="1" i="1" lang="ru-RU" sz="3200" spc="-1" strike="noStrike">
                <a:solidFill>
                  <a:srgbClr val="00c8c3"/>
                </a:solidFill>
                <a:latin typeface="Candara"/>
              </a:rPr>
              <a:t>Современный учебно-методический комплекс в работе школьного  учителя – логопе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8c3"/>
                </a:solidFill>
                <a:latin typeface="Candara"/>
              </a:rPr>
              <a:t>Лихачева Марина Игор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8c3"/>
                </a:solidFill>
                <a:latin typeface="Candara"/>
              </a:rPr>
              <a:t>Должность: Учитель - логопе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8c3"/>
                </a:solidFill>
                <a:latin typeface="Candara"/>
              </a:rPr>
              <a:t>Место работы: МБОУ " Средняя  общеобразовательная школа  №  15 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c8c3"/>
                </a:solidFill>
                <a:latin typeface="Candara"/>
              </a:rPr>
              <a:t>г.Губк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467920" cy="129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457200" y="1481040"/>
            <a:ext cx="82296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1. Разработка образовательной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2. Определение цели и задач разработки УМ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3. Подбор информационного и методического матери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4. Анализ информационного и методического матери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5. Отбор матери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6. Систематизация материала (в соответствии с учебно-тематическим планом и формами проведения занят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7. Создание тематических пап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8. Разработка недостающих видов тематической проду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9. Систематизация учебно-методического компле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10. Внедрение учебно-методического комплекса в практи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11. Корректировка учебно-методического компле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d2d0"/>
                </a:solidFill>
                <a:latin typeface="Times New Roman"/>
                <a:ea typeface="Times New Roman"/>
              </a:rPr>
              <a:t>12. Обобщение и создание авторских разрабо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ru-RU" sz="4600" spc="-1" strike="noStrike">
                <a:solidFill>
                  <a:srgbClr val="ffc000"/>
                </a:solidFill>
                <a:latin typeface="Franklin Gothic Book"/>
              </a:rPr>
              <a:t>СПАСИБО ЗА ВНИМАНИЕ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95280" y="-458640"/>
            <a:ext cx="8353440" cy="10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8c3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0c8c3"/>
                </a:solidFill>
                <a:latin typeface="Candara"/>
              </a:rPr>
              <a:t>Важным и необходимым помощником в работе учителя – логопеда является</a:t>
            </a:r>
            <a:r>
              <a:rPr b="1" i="1" lang="ru-RU" sz="2400" spc="-1" strike="noStrike" u="sng">
                <a:solidFill>
                  <a:srgbClr val="00c8c3"/>
                </a:solidFill>
                <a:uFillTx/>
                <a:latin typeface="Candara"/>
              </a:rPr>
              <a:t>  Учебно – методический комплекс,</a:t>
            </a:r>
            <a:r>
              <a:rPr b="1" i="1" lang="ru-RU" sz="2400" spc="-1" strike="noStrike">
                <a:solidFill>
                  <a:srgbClr val="00c8c3"/>
                </a:solidFill>
                <a:latin typeface="Candara"/>
              </a:rPr>
              <a:t> используемый на разных этапах логопедической работы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че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плект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вокупнос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ческ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териалов и программно-технических средств, способствующих эффективному освоению учащими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териала</a:t>
            </a:r>
            <a:r>
              <a:rPr b="1" i="1" lang="ru-RU" sz="2400" spc="-1" strike="noStrike">
                <a:solidFill>
                  <a:srgbClr val="00c8c3"/>
                </a:solidFill>
                <a:latin typeface="Candar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c8c3"/>
                </a:solidFill>
                <a:uFillTx/>
                <a:latin typeface="Candara"/>
              </a:rPr>
              <a:t>Представленный УМК я распределила следующим образом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020428b"/>
          <p:cNvPicPr/>
          <p:nvPr/>
        </p:nvPicPr>
        <p:blipFill>
          <a:blip r:embed="rId1"/>
          <a:stretch/>
        </p:blipFill>
        <p:spPr>
          <a:xfrm>
            <a:off x="2627280" y="1557360"/>
            <a:ext cx="1955880" cy="293544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57" name="Picture 7" descr="1523"/>
          <p:cNvPicPr/>
          <p:nvPr/>
        </p:nvPicPr>
        <p:blipFill>
          <a:blip r:embed="rId2"/>
          <a:stretch/>
        </p:blipFill>
        <p:spPr>
          <a:xfrm>
            <a:off x="4788000" y="1557360"/>
            <a:ext cx="1931760" cy="29289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 rot="658200">
            <a:off x="6732720" y="3573000"/>
            <a:ext cx="1968480" cy="290520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59" name="Picture 3" descr="3204"/>
          <p:cNvPicPr/>
          <p:nvPr/>
        </p:nvPicPr>
        <p:blipFill>
          <a:blip r:embed="rId4"/>
          <a:stretch/>
        </p:blipFill>
        <p:spPr>
          <a:xfrm rot="21076800">
            <a:off x="468360" y="3499920"/>
            <a:ext cx="2138400" cy="29289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sp>
        <p:nvSpPr>
          <p:cNvPr id="260" name="Text Box 12"/>
          <p:cNvSpPr/>
          <p:nvPr/>
        </p:nvSpPr>
        <p:spPr>
          <a:xfrm>
            <a:off x="2403000" y="2761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Организация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img008"/>
          <p:cNvPicPr/>
          <p:nvPr/>
        </p:nvPicPr>
        <p:blipFill>
          <a:blip r:embed="rId1"/>
          <a:stretch/>
        </p:blipFill>
        <p:spPr>
          <a:xfrm rot="20599200">
            <a:off x="684360" y="1628640"/>
            <a:ext cx="1925640" cy="2738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62" name="Picture 6" descr="2441"/>
          <p:cNvPicPr/>
          <p:nvPr/>
        </p:nvPicPr>
        <p:blipFill>
          <a:blip r:embed="rId2"/>
          <a:stretch/>
        </p:blipFill>
        <p:spPr>
          <a:xfrm rot="21396000">
            <a:off x="2700360" y="1196640"/>
            <a:ext cx="1994040" cy="292572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63" name="Picture 7" descr="796741"/>
          <p:cNvPicPr/>
          <p:nvPr/>
        </p:nvPicPr>
        <p:blipFill>
          <a:blip r:embed="rId3"/>
          <a:stretch/>
        </p:blipFill>
        <p:spPr>
          <a:xfrm rot="445200">
            <a:off x="4859280" y="1196640"/>
            <a:ext cx="1978200" cy="3021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64" name="Picture 9" descr="img197"/>
          <p:cNvPicPr/>
          <p:nvPr/>
        </p:nvPicPr>
        <p:blipFill>
          <a:blip r:embed="rId4"/>
          <a:stretch/>
        </p:blipFill>
        <p:spPr>
          <a:xfrm rot="757800">
            <a:off x="6876720" y="1628280"/>
            <a:ext cx="1827360" cy="28083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65" name="Picture 8" descr="img021"/>
          <p:cNvPicPr/>
          <p:nvPr/>
        </p:nvPicPr>
        <p:blipFill>
          <a:blip r:embed="rId5"/>
          <a:stretch/>
        </p:blipFill>
        <p:spPr>
          <a:xfrm>
            <a:off x="4356000" y="3860640"/>
            <a:ext cx="3600720" cy="2811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66" name="Picture 10" descr="img322"/>
          <p:cNvPicPr/>
          <p:nvPr/>
        </p:nvPicPr>
        <p:blipFill>
          <a:blip r:embed="rId6"/>
          <a:stretch/>
        </p:blipFill>
        <p:spPr>
          <a:xfrm>
            <a:off x="2046240" y="3429000"/>
            <a:ext cx="2157480" cy="32655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sp>
        <p:nvSpPr>
          <p:cNvPr id="267" name="Text Box 11"/>
          <p:cNvSpPr/>
          <p:nvPr/>
        </p:nvSpPr>
        <p:spPr>
          <a:xfrm>
            <a:off x="3310200" y="20484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7" descr="img005"/>
          <p:cNvPicPr/>
          <p:nvPr/>
        </p:nvPicPr>
        <p:blipFill>
          <a:blip r:embed="rId1"/>
          <a:stretch/>
        </p:blipFill>
        <p:spPr>
          <a:xfrm>
            <a:off x="395280" y="1916280"/>
            <a:ext cx="2075040" cy="2877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69" name="Picture 8" descr="1062002"/>
          <p:cNvPicPr/>
          <p:nvPr/>
        </p:nvPicPr>
        <p:blipFill>
          <a:blip r:embed="rId2"/>
          <a:stretch/>
        </p:blipFill>
        <p:spPr>
          <a:xfrm>
            <a:off x="2700360" y="1916280"/>
            <a:ext cx="1779480" cy="283680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70" name="Picture 10" descr="605923"/>
          <p:cNvPicPr/>
          <p:nvPr/>
        </p:nvPicPr>
        <p:blipFill>
          <a:blip r:embed="rId3"/>
          <a:stretch/>
        </p:blipFill>
        <p:spPr>
          <a:xfrm>
            <a:off x="4788000" y="1916280"/>
            <a:ext cx="1758960" cy="280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71" name="Picture 11" descr="img006"/>
          <p:cNvPicPr/>
          <p:nvPr/>
        </p:nvPicPr>
        <p:blipFill>
          <a:blip r:embed="rId4"/>
          <a:stretch/>
        </p:blipFill>
        <p:spPr>
          <a:xfrm>
            <a:off x="6804000" y="1916280"/>
            <a:ext cx="1920960" cy="28065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sp>
        <p:nvSpPr>
          <p:cNvPr id="272" name="Text Box 12"/>
          <p:cNvSpPr/>
          <p:nvPr/>
        </p:nvSpPr>
        <p:spPr>
          <a:xfrm>
            <a:off x="3421080" y="2667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Метод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5280" y="907920"/>
            <a:ext cx="808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Представлены ведущим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Candara"/>
              </a:rPr>
              <a:t>специалистами – логопедами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  Н.В. Ястребовой,  И.Н. Садовниковой, В.И, Л.Н. Ефименковой, Р.И. Лалаевой.</a:t>
            </a: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19120" y="684360"/>
            <a:ext cx="830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19120" y="611280"/>
            <a:ext cx="8013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1525680" cy="2374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1581120" cy="2374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5364000" y="1052640"/>
            <a:ext cx="1582920" cy="2374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79" name="Picture 7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1877760" cy="244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0" name="Picture 9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2081160" cy="244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1" name="Picture 10" descr="img138"/>
          <p:cNvPicPr/>
          <p:nvPr/>
        </p:nvPicPr>
        <p:blipFill>
          <a:blip r:embed="rId6"/>
          <a:stretch/>
        </p:blipFill>
        <p:spPr>
          <a:xfrm>
            <a:off x="179280" y="1052640"/>
            <a:ext cx="1654200" cy="2374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2" name="Picture 12" descr="376638"/>
          <p:cNvPicPr/>
          <p:nvPr/>
        </p:nvPicPr>
        <p:blipFill>
          <a:blip r:embed="rId7"/>
          <a:stretch/>
        </p:blipFill>
        <p:spPr>
          <a:xfrm>
            <a:off x="7093080" y="1052640"/>
            <a:ext cx="1857240" cy="2376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3" name="Picture 13" descr="376639"/>
          <p:cNvPicPr/>
          <p:nvPr/>
        </p:nvPicPr>
        <p:blipFill>
          <a:blip r:embed="rId8"/>
          <a:stretch/>
        </p:blipFill>
        <p:spPr>
          <a:xfrm>
            <a:off x="7093080" y="3716280"/>
            <a:ext cx="1935000" cy="2476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84" name="Text Box 14"/>
          <p:cNvSpPr/>
          <p:nvPr/>
        </p:nvSpPr>
        <p:spPr>
          <a:xfrm>
            <a:off x="3354480" y="13176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Прак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9"/>
          <a:stretch/>
        </p:blipFill>
        <p:spPr>
          <a:xfrm>
            <a:off x="179280" y="3645000"/>
            <a:ext cx="2019240" cy="2446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6" name="Picture 8" descr=""/>
          <p:cNvPicPr/>
          <p:nvPr/>
        </p:nvPicPr>
        <p:blipFill>
          <a:blip r:embed="rId10"/>
          <a:stretch/>
        </p:blipFill>
        <p:spPr>
          <a:xfrm>
            <a:off x="5292720" y="4292640"/>
            <a:ext cx="1992240" cy="244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img012"/>
          <p:cNvPicPr/>
          <p:nvPr/>
        </p:nvPicPr>
        <p:blipFill>
          <a:blip r:embed="rId1"/>
          <a:stretch/>
        </p:blipFill>
        <p:spPr>
          <a:xfrm>
            <a:off x="3276720" y="1989000"/>
            <a:ext cx="1455480" cy="2157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8" name="Picture 4" descr="img013"/>
          <p:cNvPicPr/>
          <p:nvPr/>
        </p:nvPicPr>
        <p:blipFill>
          <a:blip r:embed="rId2"/>
          <a:stretch/>
        </p:blipFill>
        <p:spPr>
          <a:xfrm>
            <a:off x="1692360" y="1197000"/>
            <a:ext cx="1439640" cy="22287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89" name="Picture 5" descr="img011"/>
          <p:cNvPicPr/>
          <p:nvPr/>
        </p:nvPicPr>
        <p:blipFill>
          <a:blip r:embed="rId3"/>
          <a:stretch/>
        </p:blipFill>
        <p:spPr>
          <a:xfrm>
            <a:off x="108000" y="333360"/>
            <a:ext cx="1458720" cy="2157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90" name="Picture 7" descr="1883"/>
          <p:cNvPicPr/>
          <p:nvPr/>
        </p:nvPicPr>
        <p:blipFill>
          <a:blip r:embed="rId4"/>
          <a:stretch/>
        </p:blipFill>
        <p:spPr>
          <a:xfrm>
            <a:off x="5796000" y="4365720"/>
            <a:ext cx="1479600" cy="2206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91" name="Picture 8" descr="3349"/>
          <p:cNvPicPr/>
          <p:nvPr/>
        </p:nvPicPr>
        <p:blipFill>
          <a:blip r:embed="rId5"/>
          <a:stretch/>
        </p:blipFill>
        <p:spPr>
          <a:xfrm>
            <a:off x="4067280" y="4365720"/>
            <a:ext cx="1535040" cy="2205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92" name="Text Box 10"/>
          <p:cNvSpPr/>
          <p:nvPr/>
        </p:nvSpPr>
        <p:spPr>
          <a:xfrm>
            <a:off x="3497400" y="26028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Прак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11" descr="img333"/>
          <p:cNvPicPr/>
          <p:nvPr/>
        </p:nvPicPr>
        <p:blipFill>
          <a:blip r:embed="rId6"/>
          <a:stretch/>
        </p:blipFill>
        <p:spPr>
          <a:xfrm>
            <a:off x="7451640" y="4365720"/>
            <a:ext cx="1517760" cy="223344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94" name="Picture 12" descr="img335"/>
          <p:cNvPicPr/>
          <p:nvPr/>
        </p:nvPicPr>
        <p:blipFill>
          <a:blip r:embed="rId7"/>
          <a:stretch/>
        </p:blipFill>
        <p:spPr>
          <a:xfrm>
            <a:off x="179280" y="4365720"/>
            <a:ext cx="1563840" cy="223344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95" name="Picture 13" descr="img336"/>
          <p:cNvPicPr/>
          <p:nvPr/>
        </p:nvPicPr>
        <p:blipFill>
          <a:blip r:embed="rId8"/>
          <a:stretch/>
        </p:blipFill>
        <p:spPr>
          <a:xfrm>
            <a:off x="1979640" y="4365720"/>
            <a:ext cx="1859040" cy="222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96" name="Picture 17" descr="http://logoped18.ru/logopedist/images/albom-narusheniye-pisma-1.jpg"/>
          <p:cNvPicPr/>
          <p:nvPr/>
        </p:nvPicPr>
        <p:blipFill>
          <a:blip r:embed="rId9"/>
          <a:stretch/>
        </p:blipFill>
        <p:spPr>
          <a:xfrm>
            <a:off x="4762440" y="1125360"/>
            <a:ext cx="4273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Disk_0"/>
          <p:cNvPicPr/>
          <p:nvPr/>
        </p:nvPicPr>
        <p:blipFill>
          <a:blip r:embed="rId1"/>
          <a:stretch/>
        </p:blipFill>
        <p:spPr>
          <a:xfrm>
            <a:off x="1042920" y="1125360"/>
            <a:ext cx="1871640" cy="187200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98" name="Picture 3" descr="cover"/>
          <p:cNvPicPr/>
          <p:nvPr/>
        </p:nvPicPr>
        <p:blipFill>
          <a:blip r:embed="rId2"/>
          <a:stretch/>
        </p:blipFill>
        <p:spPr>
          <a:xfrm>
            <a:off x="3780000" y="836640"/>
            <a:ext cx="1508040" cy="213192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299" name="Picture 4" descr="img140"/>
          <p:cNvPicPr/>
          <p:nvPr/>
        </p:nvPicPr>
        <p:blipFill>
          <a:blip r:embed="rId3"/>
          <a:stretch/>
        </p:blipFill>
        <p:spPr>
          <a:xfrm>
            <a:off x="6372360" y="1125360"/>
            <a:ext cx="1871640" cy="183708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0" name="Picture 5" descr="img107"/>
          <p:cNvPicPr/>
          <p:nvPr/>
        </p:nvPicPr>
        <p:blipFill>
          <a:blip r:embed="rId4"/>
          <a:stretch/>
        </p:blipFill>
        <p:spPr>
          <a:xfrm>
            <a:off x="5364000" y="5013360"/>
            <a:ext cx="1740240" cy="175104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1" name="Picture 6" descr="domashnijj_logoped_prakticheskijj_kurs"/>
          <p:cNvPicPr/>
          <p:nvPr/>
        </p:nvPicPr>
        <p:blipFill>
          <a:blip r:embed="rId5"/>
          <a:stretch/>
        </p:blipFill>
        <p:spPr>
          <a:xfrm>
            <a:off x="3492360" y="5013360"/>
            <a:ext cx="1729080" cy="172872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2" name="Picture 7" descr="1235067476_trzvuc"/>
          <p:cNvPicPr/>
          <p:nvPr/>
        </p:nvPicPr>
        <p:blipFill>
          <a:blip r:embed="rId6"/>
          <a:stretch/>
        </p:blipFill>
        <p:spPr>
          <a:xfrm>
            <a:off x="7308720" y="5013360"/>
            <a:ext cx="1692360" cy="171144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3" name="Picture 9" descr="img198"/>
          <p:cNvPicPr/>
          <p:nvPr/>
        </p:nvPicPr>
        <p:blipFill>
          <a:blip r:embed="rId7"/>
          <a:stretch/>
        </p:blipFill>
        <p:spPr>
          <a:xfrm>
            <a:off x="2195640" y="3141720"/>
            <a:ext cx="1725480" cy="171756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4" name="Picture 10" descr="02003"/>
          <p:cNvPicPr/>
          <p:nvPr/>
        </p:nvPicPr>
        <p:blipFill>
          <a:blip r:embed="rId8"/>
          <a:stretch/>
        </p:blipFill>
        <p:spPr>
          <a:xfrm>
            <a:off x="1619280" y="5013360"/>
            <a:ext cx="1733400" cy="173340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5" name="Picture 11" descr="img295"/>
          <p:cNvPicPr/>
          <p:nvPr/>
        </p:nvPicPr>
        <p:blipFill>
          <a:blip r:embed="rId9"/>
          <a:stretch/>
        </p:blipFill>
        <p:spPr>
          <a:xfrm>
            <a:off x="4140360" y="3141720"/>
            <a:ext cx="1677960" cy="172728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6" name="Picture 12" descr="img296"/>
          <p:cNvPicPr/>
          <p:nvPr/>
        </p:nvPicPr>
        <p:blipFill>
          <a:blip r:embed="rId10"/>
          <a:stretch/>
        </p:blipFill>
        <p:spPr>
          <a:xfrm>
            <a:off x="6012000" y="3141720"/>
            <a:ext cx="1722240" cy="172872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pic>
        <p:nvPicPr>
          <p:cNvPr id="307" name="Picture 13" descr="thumb_080199b0math"/>
          <p:cNvPicPr/>
          <p:nvPr/>
        </p:nvPicPr>
        <p:blipFill>
          <a:blip r:embed="rId11"/>
          <a:stretch/>
        </p:blipFill>
        <p:spPr>
          <a:xfrm>
            <a:off x="179280" y="3141720"/>
            <a:ext cx="1728720" cy="1728720"/>
          </a:xfrm>
          <a:prstGeom prst="rect">
            <a:avLst/>
          </a:prstGeom>
          <a:ln w="38160">
            <a:solidFill>
              <a:srgbClr val="00c8c3"/>
            </a:solidFill>
            <a:miter/>
          </a:ln>
        </p:spPr>
      </p:pic>
      <p:sp>
        <p:nvSpPr>
          <p:cNvPr id="308" name="Text Box 14"/>
          <p:cNvSpPr/>
          <p:nvPr/>
        </p:nvSpPr>
        <p:spPr>
          <a:xfrm>
            <a:off x="2502360" y="13176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af0a"/>
                </a:solidFill>
                <a:latin typeface="Candara"/>
              </a:rPr>
              <a:t>Цифровой ресу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376200" y="671400"/>
            <a:ext cx="844380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Candara"/>
              </a:rPr>
              <a:t>В последние годы в коррекционной педагогике появились инновационные компьютерные технологии, которые активизируют учебную деятельность учеников, их эмоциональное состояние и в целом, способствуют развитию психических процессов (вниманию,  памяти, мышлению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Candara"/>
              </a:rPr>
              <a:t>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Candara"/>
              </a:rPr>
              <a:t>Это компьютерные логопедические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-« </a:t>
            </a:r>
            <a:r>
              <a:rPr b="1" i="1" lang="ru-RU" sz="1600" spc="-1" strike="noStrike">
                <a:solidFill>
                  <a:srgbClr val="ccaf0a"/>
                </a:solidFill>
                <a:latin typeface="Candara"/>
              </a:rPr>
              <a:t>Логопедическое обследование детей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 » ооо студия «ВиЭл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- « </a:t>
            </a:r>
            <a:r>
              <a:rPr b="1" i="1" lang="ru-RU" sz="1600" spc="-1" strike="noStrike">
                <a:solidFill>
                  <a:srgbClr val="ccaf0a"/>
                </a:solidFill>
                <a:latin typeface="Candara"/>
              </a:rPr>
              <a:t>Компьютерный практикум для проведения логопедических  занятий в начальной школе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» Варченко В.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-Программно – методический комплекс « </a:t>
            </a:r>
            <a:r>
              <a:rPr b="1" i="1" lang="ru-RU" sz="1600" spc="-1" strike="noStrike">
                <a:solidFill>
                  <a:srgbClr val="ccaf0a"/>
                </a:solidFill>
                <a:latin typeface="Candara"/>
              </a:rPr>
              <a:t>Комфорт Лого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- Компьютерная логопедическая программа «</a:t>
            </a:r>
            <a:r>
              <a:rPr b="1" i="1" lang="ru-RU" sz="1600" spc="-1" strike="noStrike">
                <a:solidFill>
                  <a:srgbClr val="ccaf0a"/>
                </a:solidFill>
                <a:latin typeface="Candara"/>
              </a:rPr>
              <a:t>Игры для Тигры</a:t>
            </a:r>
            <a:r>
              <a:rPr b="1" i="1" lang="ru-RU" sz="1600" spc="-1" strike="noStrike">
                <a:solidFill>
                  <a:srgbClr val="ffffff"/>
                </a:solidFill>
                <a:latin typeface="Candara"/>
              </a:rPr>
              <a:t>»  и друг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3:58:02Z</dcterms:created>
  <dc:creator>Пользователь</dc:creator>
  <dc:description/>
  <dc:language>en-US</dc:language>
  <cp:lastModifiedBy>key</cp:lastModifiedBy>
  <dcterms:modified xsi:type="dcterms:W3CDTF">2015-01-28T08:24:20Z</dcterms:modified>
  <cp:revision>227</cp:revision>
  <dc:subject/>
  <dc:title>Слайд 3</dc:title>
</cp:coreProperties>
</file>